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1162-CC2E-463A-852B-1469AD589557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DCBE-A8CF-4A92-89E0-AF3039FC338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E745-3D36-4EF1-B1C5-F65249192137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434C-E1C7-4248-BCEB-BC9444D7278F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5C3-E2F8-41B1-9D5D-0B871556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86F-8706-4F28-B6C7-0F7FE390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592-D828-457B-BB02-0B4E1E90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54E-2E19-46C3-91FD-BE2A1EDC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7AD-D9AC-42AF-B7F8-FC14363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29E-9FD0-48CE-9EDA-FDF7DF04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389-F5AE-410B-8A17-708E49A2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DA5-822D-42D1-ABA1-3E14072A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905-0C55-41A3-ABDF-FE846317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F69-FEC0-4C8C-80A9-9E2013F3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D34-EBD4-49C8-A8C7-863100A8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7EC-6A36-4CC3-A8BB-799DF6D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1A75-0917-4B28-AA98-1AAF299E65F3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ROGRAMUL SP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5052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55640" y="290880"/>
            <a:ext cx="7883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Programul SPSS este unul dintre cele mai utilizate în analiza statistică a date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ogramul perm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laborarea bazelor de date din diferite domenii ce studiază populaţi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Introducerea, verificarea şi corectarea datelor (de regulă – codificate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lucrarea datelor prin metode statistice descriptive (frecvenţe, dependenţe, indicatori statistici, corelaţii, regresii etc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Reprezentarea rezultatelor în formă de tabele şi diagr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38:56Z</dcterms:created>
  <dc:creator>cdi</dc:creator>
  <dc:description/>
  <dc:language>en-US</dc:language>
  <cp:lastModifiedBy>cdi</cp:lastModifiedBy>
  <dcterms:modified xsi:type="dcterms:W3CDTF">2013-11-06T12:53:35Z</dcterms:modified>
  <cp:revision>2</cp:revision>
  <dc:subject/>
  <dc:title>PROGRAMUL SPSS</dc:title>
</cp:coreProperties>
</file>