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67CA-8462-4013-A87F-547B7F692735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C88B-FB62-4C43-B1E1-DCBB38435AE5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30CB-DBF6-4E65-B2AF-15B4FB6B5229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A311-C972-4876-AA7E-69A723CA7BA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2D3-AD65-4D46-976D-D56B2DA6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A34-8F90-45EF-A1DE-46D0930C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128-E643-45BE-8639-30D230F4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9DA-3399-484A-B31B-93E71172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6FE-F56B-43CF-9034-FDC56F7B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CFB-9E38-480B-A35D-FC01B564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3DA-F20E-4925-BEE6-D119F653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9F0-429A-4DBE-BDFC-99CE2AEA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2AA-05C7-4213-B323-18AAF1B8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2CA-16A3-4942-9571-470AEA7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756-4C1A-421B-ACD8-5F1BE2D5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1A7-0F5D-421E-85FF-8C30D2EA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371-0152-46B1-ACD8-B5C9A8C5944F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PROGRAMUL SP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5052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55640" y="290880"/>
            <a:ext cx="7883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Programul SPSS este unul dintre cele mai utilizate în analiza statistică a date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ogramul perm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laborarea bazelor de date din diferite domenii ce studiază populaţi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Introducerea, verificarea şi corectarea datelor (de regulă – codificate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lucrarea datelor prin metode statistice descriptive (frecvenţe, dependenţe, indicatori statistici, corelaţii, regresii etc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Reprezentarea rezultatelor în formă de tabele şi diagr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38:56Z</dcterms:created>
  <dc:creator>cdi</dc:creator>
  <dc:description/>
  <dc:language>en-US</dc:language>
  <cp:lastModifiedBy>cdi</cp:lastModifiedBy>
  <dcterms:modified xsi:type="dcterms:W3CDTF">2013-11-06T12:53:35Z</dcterms:modified>
  <cp:revision>2</cp:revision>
  <dc:subject/>
  <dc:title>PROGRAMUL SPSS</dc:title>
</cp:coreProperties>
</file>