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D0D2-E8F8-438B-9F7E-46EFD8B0CA0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EDB-8A04-4DB9-97F8-997FC1E88A0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38D3-8921-4494-A657-699EB468187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0D2A-AE00-4400-B7EC-2F82F34B201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666-A803-43C9-88C1-CB5C9B7C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E85-0D15-4C7C-B43D-D8EDE520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F05-F4B5-408C-966C-1C40B9C6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014-9176-4D96-8552-28CF669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184-CB66-4A81-BED0-961B1D1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F83-7825-462B-9B3E-26B1FC31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5B3-770B-47BB-8853-A4D9EA39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B90-BF3A-41BB-AE78-19A9C066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67C-C486-46B6-B7F2-F2E02E43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813-9D15-4CB6-9CD7-1FDC7F6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333-41C0-496A-9499-DFBECB4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182-E7EC-4C77-BF0F-85A9393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E99-E457-41A6-8BF8-848464D71E5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Module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enseignement interdisciplinaire.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2014-2015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PROGRAMUL SP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5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55640" y="290880"/>
            <a:ext cx="788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amul SPSS este unul dintre cele mai utilizate în analiza statistică a datel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rogramul perm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Elaborarea bazelor de date din diferite domenii ce studiază populaţi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Introducerea, verificarea şi corectarea datelor (de regulă – codificate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Prelucrarea datelor prin metode statistice descriptive (frecvenţe, dependenţe, indicatori statistici, corelaţii, regresii etc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Reprezentarea rezultatelor în formă de tabele şi diagr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2:38:56Z</dcterms:created>
  <dc:creator>cdi</dc:creator>
  <dc:description/>
  <dc:language>en-US</dc:language>
  <cp:lastModifiedBy>Home</cp:lastModifiedBy>
  <dcterms:modified xsi:type="dcterms:W3CDTF">2014-10-14T07:51:34Z</dcterms:modified>
  <cp:revision>3</cp:revision>
  <dc:subject/>
  <dc:title>PROGRAMUL SPSS</dc:title>
</cp:coreProperties>
</file>