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3AF5-A863-45A6-9421-FBEE0A9C9C3F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9792-0DE9-45DB-8774-FD634DA854EA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E0A1-A55C-40BD-9306-B19BDAA0851A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F23E-DF69-40AB-BD13-CB57204FA00C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78B-F6D5-4679-B438-565F7739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F29-AF38-4BB2-97A0-2BE7240D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55D-4D19-404B-AE79-5E95C645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FB7-2182-44CB-B822-EB4EBA4B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54E-42B3-4F73-BDD8-FB53D240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7D0-90DC-4825-8761-417833DD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0BF-0659-482A-BFF6-2732F282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7BA-E55C-4CF0-AA45-6823588D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AE1-E837-430C-9F38-E7811E35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25E-DBA6-4D51-84A5-D1C18F35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D3D-D73E-42CD-BD5E-13167978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208-584D-442F-BC09-CD3DBD84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F246-B446-44E3-A7FF-9703197604F1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Module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enseignement interdisciplinaire.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2014-2015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PROGRAMUL SP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5052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755640" y="290880"/>
            <a:ext cx="7883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Programul SPSS este unul dintre cele mai utilizate în analiza statistică a date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Programul perm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Elaborarea bazelor de date din diferite domenii ce studiază populaţi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Introducerea, verificarea şi corectarea datelor (de regulă – codificate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lucrarea datelor prin metode statistice descriptive (frecvenţe, dependenţe, indicatori statistici, corelaţii, regresii etc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Reprezentarea rezultatelor în formă de tabele şi diagra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38:56Z</dcterms:created>
  <dc:creator>cdi</dc:creator>
  <dc:description/>
  <dc:language>en-US</dc:language>
  <cp:lastModifiedBy>Home</cp:lastModifiedBy>
  <dcterms:modified xsi:type="dcterms:W3CDTF">2014-10-14T07:51:34Z</dcterms:modified>
  <cp:revision>3</cp:revision>
  <dc:subject/>
  <dc:title>PROGRAMUL SPSS</dc:title>
</cp:coreProperties>
</file>