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AE4-A258-46CC-8117-097F2E38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777-387A-4407-8D4A-E1EE62F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00-4D45-4A6D-8556-457EFC99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759-069F-41EC-9C63-E0B66FBE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18E2-DFA8-4605-A6CD-344EFB34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768-B50E-4198-B960-F630121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7BEA-D73E-4783-B633-064D82AE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D2D0-A562-40E9-BC53-AA62FC9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CE26-B049-4CA0-8B93-E228AB9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8E22-BCEC-4A5D-A7E9-1BEEB93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287-DE69-45D1-A450-AC8878C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566-BF77-43B3-9B7A-B16F30A4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FE06-451E-432A-963C-75931A9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7230-009F-4E27-A0ED-32B80B8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1225-195E-4B94-A6EB-6A47686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0C9D-EF7C-460A-B5BB-67F25F6F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73A-AA17-4F5E-924C-CB2AC986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A33-6C96-4669-A722-21FCF45C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434-38C3-4483-B35B-D441C77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396-AAC3-4BBB-8693-5978E448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3C9-46C2-4656-9B4C-1806268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70A-4DFD-4472-B78D-976A204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E8A-C511-42F3-AABE-C63DB517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BDE-CE5C-4CEE-BA10-F372689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CEE9-B6DC-4568-8779-79205F96AA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33C-F13E-4319-80A2-5D710F4E31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Dos and don’ts at Chatham hal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Put on a swim cap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Image hébergée par servimg.com"/>
          <p:cNvPicPr/>
          <p:nvPr/>
        </p:nvPicPr>
        <p:blipFill>
          <a:blip r:embed="rId1"/>
          <a:stretch/>
        </p:blipFill>
        <p:spPr>
          <a:xfrm>
            <a:off x="3132000" y="2924280"/>
            <a:ext cx="20988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picking up flowers 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3429000"/>
            <a:ext cx="22003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cycling 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3213000"/>
            <a:ext cx="2017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eating or drinking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Image hébergée par servimg.com"/>
          <p:cNvPicPr/>
          <p:nvPr/>
        </p:nvPicPr>
        <p:blipFill>
          <a:blip r:embed="rId1"/>
          <a:stretch/>
        </p:blipFill>
        <p:spPr>
          <a:xfrm>
            <a:off x="3492360" y="3068640"/>
            <a:ext cx="1944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cell’ phon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Image hébergée par servimg.com"/>
          <p:cNvPicPr/>
          <p:nvPr/>
        </p:nvPicPr>
        <p:blipFill>
          <a:blip r:embed="rId1"/>
          <a:stretch/>
        </p:blipFill>
        <p:spPr>
          <a:xfrm>
            <a:off x="2987640" y="2627280"/>
            <a:ext cx="2448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 running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Image hébergée par servimg.com"/>
          <p:cNvPicPr/>
          <p:nvPr/>
        </p:nvPicPr>
        <p:blipFill>
          <a:blip r:embed="rId1"/>
          <a:stretch/>
        </p:blipFill>
        <p:spPr>
          <a:xfrm>
            <a:off x="3203640" y="2924280"/>
            <a:ext cx="2055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ash your hands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2852640"/>
            <a:ext cx="21002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Use the bin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64000" y="2997360"/>
            <a:ext cx="2133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Be quiet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Image hébergée par servimg.com"/>
          <p:cNvPicPr/>
          <p:nvPr/>
        </p:nvPicPr>
        <p:blipFill>
          <a:blip r:embed="rId1"/>
          <a:stretch/>
        </p:blipFill>
        <p:spPr>
          <a:xfrm>
            <a:off x="3203640" y="3068640"/>
            <a:ext cx="2089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0:16:07Z</dcterms:created>
  <dc:creator>HP</dc:creator>
  <dc:description/>
  <dc:language>en-US</dc:language>
  <cp:lastModifiedBy>HP</cp:lastModifiedBy>
  <dcterms:modified xsi:type="dcterms:W3CDTF">2014-10-17T10:38:37Z</dcterms:modified>
  <cp:revision>2</cp:revision>
  <dc:subject/>
  <dc:title>Dos and don’ts at Chatham hall</dc:title>
</cp:coreProperties>
</file>