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3F5-D9E8-4F01-9D22-258266D1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5FC-C10D-48DA-B982-4583BB5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3CA-59A2-40D4-A831-7DFA7ED5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4F5-515F-48E0-AB87-F4CE65C3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445-C447-4AF0-B64D-D7D9ADE3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E28-9103-4406-91A3-E6AA7071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56B-712D-4406-8987-9C059FC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45FB-313B-4EAA-A789-52A09492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9364-88F5-4B72-9E11-52DC0A0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CAE-2253-4F19-A902-14660A8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DB9A-E0CA-42E5-ABEF-C61CFF6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E0B-7EFA-42F1-80FE-F0344DDE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FE0-C90A-409C-BBD0-97AA677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CF5-9912-4456-9904-D6A4008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B87-3E1C-49D0-9088-5C64FA9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3774-1CA2-46FE-8EA3-4CCD160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86A3-0CE4-449C-96B1-EC638C64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34E-8095-4FC8-8461-605E12A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032-DFAB-43A3-90C2-AF29928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977-1422-471F-B9B2-70E0555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4CC-AC1F-4676-8F8B-C4DE76D2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866-E61C-45DF-A014-9DFC95B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5CF-8D87-440A-A649-3628257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4BD-40C2-4EE0-938D-A88E4E13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F4B1-31B3-44B2-8DA8-3AC45B6844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99D-0B40-4ECB-86BF-85860E1BCB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Dos and don’ts at Chatham hal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Put on a swim cap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Image hébergée par servimg.com"/>
          <p:cNvPicPr/>
          <p:nvPr/>
        </p:nvPicPr>
        <p:blipFill>
          <a:blip r:embed="rId1"/>
          <a:stretch/>
        </p:blipFill>
        <p:spPr>
          <a:xfrm>
            <a:off x="3132000" y="2924280"/>
            <a:ext cx="20988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picking up flowers 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3429000"/>
            <a:ext cx="22003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cycling 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3213000"/>
            <a:ext cx="2017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eating or drinking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Image hébergée par servimg.com"/>
          <p:cNvPicPr/>
          <p:nvPr/>
        </p:nvPicPr>
        <p:blipFill>
          <a:blip r:embed="rId1"/>
          <a:stretch/>
        </p:blipFill>
        <p:spPr>
          <a:xfrm>
            <a:off x="3492360" y="3068640"/>
            <a:ext cx="1944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 cell’ phon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Image hébergée par servimg.com"/>
          <p:cNvPicPr/>
          <p:nvPr/>
        </p:nvPicPr>
        <p:blipFill>
          <a:blip r:embed="rId1"/>
          <a:stretch/>
        </p:blipFill>
        <p:spPr>
          <a:xfrm>
            <a:off x="2987640" y="2627280"/>
            <a:ext cx="2448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 running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Image hébergée par servimg.com"/>
          <p:cNvPicPr/>
          <p:nvPr/>
        </p:nvPicPr>
        <p:blipFill>
          <a:blip r:embed="rId1"/>
          <a:stretch/>
        </p:blipFill>
        <p:spPr>
          <a:xfrm>
            <a:off x="3203640" y="2924280"/>
            <a:ext cx="2055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ash your hands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Image hébergée par servimg.com"/>
          <p:cNvPicPr/>
          <p:nvPr/>
        </p:nvPicPr>
        <p:blipFill>
          <a:blip r:embed="rId1"/>
          <a:stretch/>
        </p:blipFill>
        <p:spPr>
          <a:xfrm>
            <a:off x="3564000" y="2852640"/>
            <a:ext cx="21002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Use the bin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64000" y="2997360"/>
            <a:ext cx="2133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Be quiet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Image hébergée par servimg.com"/>
          <p:cNvPicPr/>
          <p:nvPr/>
        </p:nvPicPr>
        <p:blipFill>
          <a:blip r:embed="rId1"/>
          <a:stretch/>
        </p:blipFill>
        <p:spPr>
          <a:xfrm>
            <a:off x="3203640" y="3068640"/>
            <a:ext cx="2089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0:16:07Z</dcterms:created>
  <dc:creator>HP</dc:creator>
  <dc:description/>
  <dc:language>en-US</dc:language>
  <cp:lastModifiedBy>HP</cp:lastModifiedBy>
  <dcterms:modified xsi:type="dcterms:W3CDTF">2014-10-17T10:38:37Z</dcterms:modified>
  <cp:revision>2</cp:revision>
  <dc:subject/>
  <dc:title>Dos and don’ts at Chatham hall</dc:title>
</cp:coreProperties>
</file>