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C23-06CB-4AC1-AAA9-2E5D8CEC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A84-58FC-4CF9-8D9D-013D1388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26C-E68F-464D-BA31-56D1F920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37B-DE84-429D-A2B9-9AF19F60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07EB-BE46-43CD-83BC-54385FE0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1D35-3CFE-4818-91D6-A3B77F47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EFF2-7550-4805-ABBB-6C54F61C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7019-326C-40E3-97CA-7A84A471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C56-2C16-4C1C-AB8E-CC2B36EB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C44E-CC43-4685-9EE5-889273D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ED5C-41E1-4398-8B88-0097A5E5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043-7AD8-4309-9108-1DA0CCB0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F8B7-DCB1-4DFB-8902-3F1F00F3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95C1-2448-4307-B9C9-CC0D0BDA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A34-355B-41E1-9C2E-C1E584FA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22BF-59C3-4978-944C-C6319662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F3E8-14F4-4E97-87E7-5D50FDB5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199-B4F1-45EC-9B30-823579E5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9A7-00C5-472B-9A54-7E17F1DE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2E5-8E9D-4B0A-BA1A-16203E57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775-0FE9-4B1E-819D-41E7ABD2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FE8-4566-4B0D-98D2-5122B5B6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A45-BA7B-46A4-90C2-E31578CC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4DC-A21F-444E-BEDF-17875008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BAE-C381-48CB-B33A-A074C8E8F3EB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DFC-25F7-4C1C-BFDA-050B84CDDBBA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MY SCHOOL TH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textbook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132000" y="2827440"/>
            <a:ext cx="324036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Notebook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3419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creen-ruler"/>
          <p:cNvPicPr/>
          <p:nvPr/>
        </p:nvPicPr>
        <p:blipFill>
          <a:blip r:embed="rId1"/>
          <a:stretch/>
        </p:blipFill>
        <p:spPr>
          <a:xfrm>
            <a:off x="3203640" y="2855880"/>
            <a:ext cx="30240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school ba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600360" cy="37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pencil case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33130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53290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en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399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glue stick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3240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 pencil sharpen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203640" y="3516480"/>
            <a:ext cx="32400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n eras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132000" y="3595680"/>
            <a:ext cx="3168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857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08:20:43Z</dcterms:created>
  <dc:creator>HP</dc:creator>
  <dc:description/>
  <dc:language>en-US</dc:language>
  <cp:lastModifiedBy>HP</cp:lastModifiedBy>
  <dcterms:modified xsi:type="dcterms:W3CDTF">2014-10-01T09:16:35Z</dcterms:modified>
  <cp:revision>4</cp:revision>
  <dc:subject/>
  <dc:title>MY SCHOOL THINGS</dc:title>
</cp:coreProperties>
</file>