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9285-40D2-46BB-A92B-8D28B28AC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1025-650C-4F9F-BEEB-29FF7E98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4EB8-B8FB-482D-9128-3063A49D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97F2-DED5-4FC1-999C-ED2DF7569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0199-F47D-4236-AAC2-DE759C921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4491-85A8-4E60-B7D7-4142C7EE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5BA8-6004-4414-8F26-F309FA01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FEA5-EF14-4640-816F-F49B592E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5959-09E1-4BA5-AEE6-DB13FD44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02F7-14CA-4DC0-BA78-3C93C72A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1924-2D72-452D-A57E-EB88D7DF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1873-987B-4E76-83D0-9D137297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DB15-3935-45F3-8B8A-B948D080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4727-9B28-4B2D-8D3B-3E67097C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AEC5-BC24-4554-898C-42375F70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7954-3D33-4441-908F-CF47F752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CD3F-65DA-40CF-A129-9EF4DF363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8FB7-EDC4-4C2D-AFCD-D7DFB9EF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5841-FFA9-4AAB-8D5E-5177F6B8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269E-F625-41AE-8EE7-FEF67193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4699-A2D3-426B-81C1-B273C98F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8A27-C26A-4DE4-8400-7EC246A8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2C47-FB99-4EFB-90A9-B3299F2E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7364-14E1-4BBD-A484-B4ABD3F3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660E-15D2-4157-B930-01B301E17AB3}" type="slidenum"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3385-94C7-4A89-9BFF-EA273D0A0976}" type="slidenum"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MY SCHOOL THING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A textbook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3132000" y="2827440"/>
            <a:ext cx="324036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Notebooks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3276720" y="3573360"/>
            <a:ext cx="34192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ruler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screen-ruler"/>
          <p:cNvPicPr/>
          <p:nvPr/>
        </p:nvPicPr>
        <p:blipFill>
          <a:blip r:embed="rId1"/>
          <a:stretch/>
        </p:blipFill>
        <p:spPr>
          <a:xfrm>
            <a:off x="3203640" y="2855880"/>
            <a:ext cx="302400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A school bag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3059280" y="2421000"/>
            <a:ext cx="3600360" cy="379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A pencil case 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76720" y="3357720"/>
            <a:ext cx="331308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Pencils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2340000" y="3141720"/>
            <a:ext cx="532908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Pens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2627280" y="2997360"/>
            <a:ext cx="39909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A glue stick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3276720" y="3068640"/>
            <a:ext cx="324000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A pencil sharpener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3203640" y="3516480"/>
            <a:ext cx="324000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An eraser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3132000" y="3595680"/>
            <a:ext cx="316872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Scissors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484360" y="3357720"/>
            <a:ext cx="38577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1T08:20:43Z</dcterms:created>
  <dc:creator>HP</dc:creator>
  <dc:description/>
  <dc:language>en-US</dc:language>
  <cp:lastModifiedBy>HP</cp:lastModifiedBy>
  <dcterms:modified xsi:type="dcterms:W3CDTF">2014-10-01T09:16:35Z</dcterms:modified>
  <cp:revision>4</cp:revision>
  <dc:subject/>
  <dc:title>MY SCHOOL THINGS</dc:title>
</cp:coreProperties>
</file>