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45C-93BF-4348-95E8-04FE90D8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5FE-D7F3-4C56-B8C8-977D700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D75-BCA5-4C1C-94ED-98B35664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447-7362-40C7-AF4E-00D26075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D996-5A1A-49D0-848B-F103CFC2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02F1-E80D-43D7-8132-EA17477A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A2DB-8978-4082-81A9-708931F7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C083-FFFE-47CC-80FB-019A0752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648E-5D6D-493F-9EA9-35D5D5AF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EFAE-14BF-4AB2-BCCD-FB42B613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F541-E416-4EC4-A1DC-A383EC9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D5A-5C90-462E-9A60-3FB1DB3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1AB5-D530-460E-A504-F63A9F7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68A5-4F6E-4939-9FC1-9F30732E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6B07-B3FD-4445-9DBB-E64581B7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B33-9C43-4C6D-9D87-18B0DE30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6672-19F6-4CF1-B6CC-4511D06B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DF556-E00B-4667-B4B4-549F7D60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735FD-DDCA-4A02-9F16-2320DF16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3722B-9BA1-477D-A6AD-611E03B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4BE55-6F53-44FE-8E3D-E8A9AF93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63A58-F48E-4EB2-85EE-8060F557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FDC-7ECB-41D7-93EF-E6D32E9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F53C4-5E41-4F91-8D31-D68DF0E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75691-3853-45EE-999B-789B0D72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B434A-1126-455E-A407-943B6B4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DC36D-3E3A-4DD3-93B2-47B713E8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8D4F0-552C-47A9-BB6F-09DE6CC2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AC382-B5A7-486B-BF78-875AD0D9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36BB9-1839-4298-8DBE-127C9B1D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3C27-15BA-4FC8-8798-F11E0D4F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AB48-6DDE-4F43-9173-E46921C7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694BD-C04D-40A2-B64C-41E8CD51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651-7308-4E87-BD52-85C5896A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C940A-FE01-4B30-A007-D59C7E4A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50EC-D96B-457F-8354-0D05FFA3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D1065-5ED0-4778-A265-5D13931E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E597-E908-4493-8323-321E0C7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6941-5F9A-4B40-B4A1-3D7310D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8A18-8506-4A94-9FA1-81A10E7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6707-0C03-433A-A959-ECA0627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B84D-96B2-4BC3-ACC1-C40A9D84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4503-9078-4399-B8B9-6298FF29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D91CD-1C78-456D-851E-601D37DB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EB2-03FD-43CD-B200-BD72FF87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246EC-A93A-4789-8C4A-14F1E565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1D7DD-92AA-4BD6-BF13-43F71C94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1AC01-B0F3-40F7-9D48-2A75C372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2C9BE-A820-4451-A45B-E5C4A695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2AA91-B613-4811-AD75-57510BC8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E7D8B-E80A-4BDA-98A3-25E8E3E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D8567-2774-460B-8137-4DA9A248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E7E01-CC6E-4581-AB3B-9740DE3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8D689-00DC-4145-9F17-FCD98E39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186AD-5D07-43C8-93F1-137640DE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E61-5DFC-4B96-863F-A72773A2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B5627-0600-4C17-B2E5-A558419C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F8365-B398-445B-BED2-D9407D41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D3EAE-8D50-4FFD-8F33-094C3889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4A31D-E51F-40B1-8E68-E8DBEF9E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E58E3-507B-429E-AD2D-BE39527E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3D8D8-365D-4642-9D63-6795EF50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6BD39-F7A6-445F-8CFF-ED76BF9E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AC874-79F9-414D-944E-FD87EDF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FC9D5-5B8C-4A45-B8CC-65C7AC9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A7949-DCDF-48D3-AAA8-4AE6049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7B8-23F4-4D95-848A-E1A09AC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BE755-0C39-49D5-9431-F485E22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EACD3-9BF0-48A2-9536-9E040856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CECC1-93DD-49A4-B51B-AEE84546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F3002-C05E-474C-9A3B-622B3CA9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2CC1D-6A7A-4587-8671-66924DA2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2520C-474A-4029-81EF-0E021C8B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D98FE-957F-40FB-8F7C-C704FEAE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A26CB-F0D4-41E2-9AF7-6D48CAC5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CBEE4-2E7C-4341-82B0-C61F6413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79788-56A3-4B18-9427-96844C53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61B-FC3F-43B3-935A-40257B5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86D67-2B16-455B-8E9A-D16CAD57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E5A66-1414-4B2B-AFB1-CF36C7D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779B5-023B-4193-AB50-3F3C14FB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00CC0-9386-47DF-8760-A42842ED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F00CE-116C-4510-B184-4E760D11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027-E3E7-4045-9DF3-CF3225C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2F33-C47C-446A-A6AA-3CA55B5BD3E1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cteur droi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cteur droi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cteur droi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cteur droi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cteur droi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cteur droit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82ED-6060-45C7-87A9-E086F2DB3098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D28D-3E60-47FB-AA74-DC228612EB22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cteur droi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cteur droi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cteur droi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cteur droi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cteur droi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cteur droit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86A-104D-487E-BF3B-98A66EBB9D4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2247-34DA-42E1-862C-E5203356ED2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cteur droit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cteur droit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cteur droit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cteur droit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C9EB-C7CE-47FC-BEC8-2E7EA0DF91D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cteur droit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cteur droit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9C2-1D60-4EC9-9338-42492777EB9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A TYPICAL CAMP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HOCKEY FIEL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https://encrypted-tbn1.gstatic.com/images?q=tbn:ANd9GcSVzJIGEdT38vIANLTZIB4ATDQ8ApB6UTrv2PIHpfEyOP7SPzm4"/>
          <p:cNvPicPr/>
          <p:nvPr/>
        </p:nvPicPr>
        <p:blipFill>
          <a:blip r:embed="rId1"/>
          <a:stretch/>
        </p:blipFill>
        <p:spPr>
          <a:xfrm>
            <a:off x="1908000" y="2349360"/>
            <a:ext cx="5253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AQUATIC CEN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217520" y="1990800"/>
            <a:ext cx="5515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TENNIS COUR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61945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DANCE / DRAMA / ART BUIL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https://encrypted-tbn3.gstatic.com/images?q=tbn:ANd9GcTZx2OMPNjziEzGT7Lpif7pLSeQ3AujEviai9j3mJ6rKlXrQnCv"/>
          <p:cNvPicPr/>
          <p:nvPr/>
        </p:nvPicPr>
        <p:blipFill>
          <a:blip r:embed="rId1"/>
          <a:stretch/>
        </p:blipFill>
        <p:spPr>
          <a:xfrm>
            <a:off x="1789200" y="2276640"/>
            <a:ext cx="5114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GY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4762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DINING HAL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https://www.clinton.edu/VirtualTour/Images/DiningHall.jpg"/>
          <p:cNvPicPr/>
          <p:nvPr/>
        </p:nvPicPr>
        <p:blipFill>
          <a:blip r:embed="rId1"/>
          <a:stretch/>
        </p:blipFill>
        <p:spPr>
          <a:xfrm>
            <a:off x="1555920" y="1989000"/>
            <a:ext cx="5605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DOR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8" descr=""/>
          <p:cNvPicPr/>
          <p:nvPr/>
        </p:nvPicPr>
        <p:blipFill>
          <a:blip r:embed="rId1"/>
          <a:stretch/>
        </p:blipFill>
        <p:spPr>
          <a:xfrm>
            <a:off x="1208160" y="1649520"/>
            <a:ext cx="57402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FACULTY HO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885960" y="1986120"/>
            <a:ext cx="64227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CLASSROO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762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SCIENCE BUIL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71720" y="1984320"/>
            <a:ext cx="6308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LANGUAGES BUIL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https://encrypted-tbn2.gstatic.com/images?q=tbn:ANd9GcQJCbFixJhSKVL5L8mnpUH4vJyQfERFkmB39LlqmV6TAieSmFQA"/>
          <p:cNvPicPr/>
          <p:nvPr/>
        </p:nvPicPr>
        <p:blipFill>
          <a:blip r:embed="rId1"/>
          <a:stretch/>
        </p:blipFill>
        <p:spPr>
          <a:xfrm>
            <a:off x="1332000" y="1700280"/>
            <a:ext cx="6151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LIBR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262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OFF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969840" y="1770120"/>
            <a:ext cx="6194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RIDING R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466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SOCCER FIEL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191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4T14:09:34Z</dcterms:created>
  <dc:creator>home</dc:creator>
  <dc:description/>
  <dc:language>en-US</dc:language>
  <cp:lastModifiedBy>home</cp:lastModifiedBy>
  <dcterms:modified xsi:type="dcterms:W3CDTF">2014-10-04T15:07:04Z</dcterms:modified>
  <cp:revision>7</cp:revision>
  <dc:subject/>
  <dc:title>Diapositive 1</dc:title>
</cp:coreProperties>
</file>