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27F-73E4-4A97-B659-ECE92FA0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3F8-74BF-4AFE-85DD-058B2FD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CC9-FD4A-4DA7-82B5-02D4E9B8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0BC-ECCC-4C5E-8402-A6602322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EBE-9DAF-479A-9911-046982F0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925A-E92A-47D4-8612-D7E64246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5F0-CF5B-4BD4-BF8A-E64A2DA4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49E-EAB6-451B-A537-3025D80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FAB8-0F09-41BD-8D16-46F9C09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DFD2-07BA-4816-8968-35B6E34D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FE14-ED09-4FCC-AB24-F4E257AF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057-C7C0-4F4E-A4DB-5E2A53B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092A-1A4B-45C4-A2ED-5BCD5CC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495-D349-46FB-B36B-E200ACE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896-092B-4C57-973B-E30A838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E985-94BC-48DD-8D4B-F8A2DECA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382C-03EA-4470-880C-F95EEC88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10950-6DD5-44F0-9167-8DFD4369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8968-ACCE-4029-A3D5-5FBC8F64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D353B-88F1-4344-87B6-59E4A73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4AF2D-F86E-49FC-B0E0-BE2EA23C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398F1-2510-42C2-B746-06219006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147-1B0F-4275-B667-420E1B28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6604D-1E52-4BDC-A842-5C35B47A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BBA2D-5321-4B15-B87D-28FB84E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D2A36-3C71-4CC2-A51D-B9D3EEF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0ADE5-3737-4669-AC18-B558504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D69B-DBFC-43A1-B459-61489E3A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4B5CF-8C50-47C3-A534-CD936250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8DE82-283F-45C1-BC08-915223C9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954F-A728-4EC5-85BF-E4067F93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BB41-9FE3-4D0D-A0F9-0E8D7E24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E66D-6170-4548-8FF8-72310320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164-15D7-4956-8C5B-18690CC1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7DBF-F252-40A0-9514-D5CFD3E4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AC93-7DAE-470A-9CAF-BC63031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C4FF-96EB-488B-B05A-689A9F9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EC9D-1D6B-445B-9257-0928101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426E-F7BD-411C-9BD9-CE4EC71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4CAF-6C70-4888-8292-C5A1633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91E2-2D5B-4156-BA12-B5C0DC20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89B4-DC92-43B6-81F2-20896613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EEE8-3C54-4336-9B56-49AF6C7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661EF-53FC-429E-8A20-CF8E1B20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E1F-0636-47DC-B850-A8EFB2F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56F84-4905-4A89-9633-585EB1D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A6BB4-49E0-4964-8332-99AD8F9C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E3493-B15E-416D-9A17-AC43F7FA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2E75D-5D24-40E8-8825-EAC8A9B5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49BB0-A4C5-4E40-B85F-CDD90D2F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7F93F-752D-42F3-A28E-CC9B827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32045-1F5D-4F7C-95FE-3981BF2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8199A-BFF1-4C99-9948-AEBDEEA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FADEC-2603-4450-8D02-F5C075F6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8D633-F2BF-461C-B72A-3E83D7AB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304-587D-4B32-8BC6-AADA5C6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802C8-0290-40CD-8CEA-920F95E7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46464-4E37-4466-83C7-90ABB235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C9026-4BBC-4F0E-BF98-7C6A94A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96AD1-5808-40B7-86D2-409661FF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8D185-40EC-468E-A5A2-5BCBDC7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2DE7C-E613-4945-B0A3-AFF659E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2744D-C7B1-4514-9C7E-8234AECF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12BD9-A1FE-4172-BE3B-FF84B22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C7032-1F8A-415A-9785-614443F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2655D-2EA7-4CAC-B7ED-F3EA0CD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17D-EB04-4B52-9FD5-FFC7B58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C1EBB-6753-4875-9C61-A0CFAEF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DC172-F42D-485C-AFE7-5E8286B3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380C0-0951-4FFB-BBCD-8C980ED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780D7-C51F-412C-8871-16AC5525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9A889-C9A1-457A-9744-8D00448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53D82-3D00-42A6-8A24-05A4F17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B5268-A892-47C5-8C96-E910358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728A5-CD46-4D6A-8AB3-2DD2663F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2D9AF-4797-4F3A-9A72-F8D86B2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E364-E125-44CC-95F2-B4C69D8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CF5-F174-4200-9570-AF9639F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4DA77-B92F-4442-AF7F-71F34CA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0BCD1-D515-45EF-95B3-813BB31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74229-9FCB-4ABA-AAD4-EA30FF2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BE805-52A4-4261-B2A3-3A2D48FB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348A4-F8D9-4F30-9108-54A88455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FA5-DE8A-4DE0-B8D3-8DBB0A3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95CC-65B7-419F-8AFE-B0EB725AF43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cteur droi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cteur droi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cteur droi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cteur droi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cteur droi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cteur droi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FE5-3203-4FB2-9623-894622E288A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711-1499-42B4-8745-DBEF58D63F6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cteur droi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cteur droi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cteur droi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cteur droi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cteur droi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cteur droi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D84-9213-40D1-BD65-97468CF89EC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461-FF61-486F-BC6C-97E8D3D5674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cteur droi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cteur droi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cteur droi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cteur droi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C05F-666B-49B9-839E-1223EF67597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cteur droi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cteur droi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A775-BEB6-4209-B0A8-D8BFFFA03EF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A TYPICAL CAMP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HOCKEY FIE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https://encrypted-tbn1.gstatic.com/images?q=tbn:ANd9GcSVzJIGEdT38vIANLTZIB4ATDQ8ApB6UTrv2PIHpfEyOP7SPzm4"/>
          <p:cNvPicPr/>
          <p:nvPr/>
        </p:nvPicPr>
        <p:blipFill>
          <a:blip r:embed="rId1"/>
          <a:stretch/>
        </p:blipFill>
        <p:spPr>
          <a:xfrm>
            <a:off x="1908000" y="2349360"/>
            <a:ext cx="5253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AQUATIC CEN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217520" y="1990800"/>
            <a:ext cx="5515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TENNIS COUR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1945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DANCE / DRAMA / ART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https://encrypted-tbn3.gstatic.com/images?q=tbn:ANd9GcTZx2OMPNjziEzGT7Lpif7pLSeQ3AujEviai9j3mJ6rKlXrQnCv"/>
          <p:cNvPicPr/>
          <p:nvPr/>
        </p:nvPicPr>
        <p:blipFill>
          <a:blip r:embed="rId1"/>
          <a:stretch/>
        </p:blipFill>
        <p:spPr>
          <a:xfrm>
            <a:off x="1789200" y="2276640"/>
            <a:ext cx="5114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GY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DINING HA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https://www.clinton.edu/VirtualTour/Images/DiningHall.jpg"/>
          <p:cNvPicPr/>
          <p:nvPr/>
        </p:nvPicPr>
        <p:blipFill>
          <a:blip r:embed="rId1"/>
          <a:stretch/>
        </p:blipFill>
        <p:spPr>
          <a:xfrm>
            <a:off x="1555920" y="1989000"/>
            <a:ext cx="560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DO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8" descr=""/>
          <p:cNvPicPr/>
          <p:nvPr/>
        </p:nvPicPr>
        <p:blipFill>
          <a:blip r:embed="rId1"/>
          <a:stretch/>
        </p:blipFill>
        <p:spPr>
          <a:xfrm>
            <a:off x="1208160" y="1649520"/>
            <a:ext cx="57402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FACULTY HO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885960" y="1986120"/>
            <a:ext cx="64227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CLASS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762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SCIENCE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071720" y="1984320"/>
            <a:ext cx="6308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LANGUAGES BUIL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https://encrypted-tbn2.gstatic.com/images?q=tbn:ANd9GcQJCbFixJhSKVL5L8mnpUH4vJyQfERFkmB39LlqmV6TAieSmFQA"/>
          <p:cNvPicPr/>
          <p:nvPr/>
        </p:nvPicPr>
        <p:blipFill>
          <a:blip r:embed="rId1"/>
          <a:stretch/>
        </p:blipFill>
        <p:spPr>
          <a:xfrm>
            <a:off x="1332000" y="1700280"/>
            <a:ext cx="6151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LIBR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262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OFF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969840" y="1770120"/>
            <a:ext cx="6194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RIDING R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466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THE SOCCER FIE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19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4T14:09:34Z</dcterms:created>
  <dc:creator>home</dc:creator>
  <dc:description/>
  <dc:language>en-US</dc:language>
  <cp:lastModifiedBy>home</cp:lastModifiedBy>
  <dcterms:modified xsi:type="dcterms:W3CDTF">2014-10-04T15:07:04Z</dcterms:modified>
  <cp:revision>7</cp:revision>
  <dc:subject/>
  <dc:title>Diapositive 1</dc:title>
</cp:coreProperties>
</file>