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8EB-104F-4B05-83D2-A31E0858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2A5C-5E94-4709-AFC6-CD5481AA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E2E-E6BF-444A-B5EA-2704FCF8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D57-E642-4D45-85C6-289A7BEA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369-C3E1-4BC0-B6AF-BB0C0620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FBF-FAC5-4C67-9D94-25721F2F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6AEB-A200-424D-9E2C-A587C7E1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290-C9F4-4481-B60B-A909B686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E203-EAC8-48C4-BEF5-6D1225D6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A2B-AA2C-45D9-A0FB-5403B620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C8F-361A-4400-A8DC-A6C12264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501-0CF5-4C59-9A5C-AC6D52CB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D45A-0601-4C8F-BBEF-908EA3739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t’s describe pictures 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First, identify the type of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340000" y="2205000"/>
            <a:ext cx="4246560" cy="255744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4" descr=""/>
          <p:cNvPicPr/>
          <p:nvPr/>
        </p:nvPicPr>
        <p:blipFill>
          <a:blip r:embed="rId2"/>
          <a:stretch/>
        </p:blipFill>
        <p:spPr>
          <a:xfrm>
            <a:off x="2792520" y="5200560"/>
            <a:ext cx="34002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484360" y="1989000"/>
            <a:ext cx="4935600" cy="328464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4" descr=""/>
          <p:cNvPicPr/>
          <p:nvPr/>
        </p:nvPicPr>
        <p:blipFill>
          <a:blip r:embed="rId2"/>
          <a:stretch/>
        </p:blipFill>
        <p:spPr>
          <a:xfrm>
            <a:off x="3249720" y="5346720"/>
            <a:ext cx="3187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419640" y="1447920"/>
            <a:ext cx="2665080" cy="349092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4" descr=""/>
          <p:cNvPicPr/>
          <p:nvPr/>
        </p:nvPicPr>
        <p:blipFill>
          <a:blip r:embed="rId2"/>
          <a:stretch/>
        </p:blipFill>
        <p:spPr>
          <a:xfrm>
            <a:off x="1176480" y="5200560"/>
            <a:ext cx="68450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4" descr=""/>
          <p:cNvPicPr/>
          <p:nvPr/>
        </p:nvPicPr>
        <p:blipFill>
          <a:blip r:embed="rId2"/>
          <a:stretch/>
        </p:blipFill>
        <p:spPr>
          <a:xfrm>
            <a:off x="1603440" y="4334040"/>
            <a:ext cx="55958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780000" y="1916280"/>
            <a:ext cx="1752480" cy="260964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4" descr=""/>
          <p:cNvPicPr/>
          <p:nvPr/>
        </p:nvPicPr>
        <p:blipFill>
          <a:blip r:embed="rId2"/>
          <a:stretch/>
        </p:blipFill>
        <p:spPr>
          <a:xfrm>
            <a:off x="2316240" y="4913280"/>
            <a:ext cx="49687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3862440" cy="256068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4" descr=""/>
          <p:cNvPicPr/>
          <p:nvPr/>
        </p:nvPicPr>
        <p:blipFill>
          <a:blip r:embed="rId2"/>
          <a:stretch/>
        </p:blipFill>
        <p:spPr>
          <a:xfrm>
            <a:off x="1036800" y="4979880"/>
            <a:ext cx="71323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0" y="907920"/>
            <a:ext cx="89726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e documen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556000" y="2276640"/>
            <a:ext cx="4260600" cy="23857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4" descr=""/>
          <p:cNvPicPr/>
          <p:nvPr/>
        </p:nvPicPr>
        <p:blipFill>
          <a:blip r:embed="rId2"/>
          <a:stretch/>
        </p:blipFill>
        <p:spPr>
          <a:xfrm>
            <a:off x="1755720" y="4979880"/>
            <a:ext cx="55468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2" descr="C:\Users\home\Desktop\Classe Opéra 2011_2012\2013\im0.jpg"/>
          <p:cNvPicPr/>
          <p:nvPr/>
        </p:nvPicPr>
        <p:blipFill>
          <a:blip r:embed="rId1"/>
          <a:stretch/>
        </p:blipFill>
        <p:spPr>
          <a:xfrm>
            <a:off x="2771640" y="2421000"/>
            <a:ext cx="3210120" cy="24606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2"/>
          <a:stretch/>
        </p:blipFill>
        <p:spPr>
          <a:xfrm>
            <a:off x="554040" y="5052960"/>
            <a:ext cx="80042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592360" cy="372924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4" descr=""/>
          <p:cNvPicPr/>
          <p:nvPr/>
        </p:nvPicPr>
        <p:blipFill>
          <a:blip r:embed="rId2"/>
          <a:stretch/>
        </p:blipFill>
        <p:spPr>
          <a:xfrm>
            <a:off x="676440" y="5346720"/>
            <a:ext cx="78343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721040" cy="324144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4" descr=""/>
          <p:cNvPicPr/>
          <p:nvPr/>
        </p:nvPicPr>
        <p:blipFill>
          <a:blip r:embed="rId2"/>
          <a:stretch/>
        </p:blipFill>
        <p:spPr>
          <a:xfrm>
            <a:off x="2498760" y="5273640"/>
            <a:ext cx="42260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457440" cy="369396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4" descr=""/>
          <p:cNvPicPr/>
          <p:nvPr/>
        </p:nvPicPr>
        <p:blipFill>
          <a:blip r:embed="rId2"/>
          <a:stretch/>
        </p:blipFill>
        <p:spPr>
          <a:xfrm>
            <a:off x="2577960" y="5273640"/>
            <a:ext cx="41943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666880" y="2205000"/>
            <a:ext cx="3448080" cy="273672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4" descr=""/>
          <p:cNvPicPr/>
          <p:nvPr/>
        </p:nvPicPr>
        <p:blipFill>
          <a:blip r:embed="rId2"/>
          <a:stretch/>
        </p:blipFill>
        <p:spPr>
          <a:xfrm>
            <a:off x="30240" y="5052960"/>
            <a:ext cx="92232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8" name="Titre 1"/>
          <p:cNvSpPr/>
          <p:nvPr/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Rectangle 5" descr=""/>
          <p:cNvPicPr/>
          <p:nvPr/>
        </p:nvPicPr>
        <p:blipFill>
          <a:blip r:embed="rId1"/>
          <a:stretch/>
        </p:blipFill>
        <p:spPr>
          <a:xfrm>
            <a:off x="542880" y="5052960"/>
            <a:ext cx="8236080" cy="1938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700360" y="1989000"/>
            <a:ext cx="38163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t can b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124000" y="2384280"/>
            <a:ext cx="5112000" cy="2853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4" descr=""/>
          <p:cNvPicPr/>
          <p:nvPr/>
        </p:nvPicPr>
        <p:blipFill>
          <a:blip r:embed="rId2"/>
          <a:stretch/>
        </p:blipFill>
        <p:spPr>
          <a:xfrm>
            <a:off x="1530360" y="5200560"/>
            <a:ext cx="68644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20:15:30Z</dcterms:created>
  <dc:creator>home</dc:creator>
  <dc:description/>
  <dc:language>en-US</dc:language>
  <cp:lastModifiedBy>home</cp:lastModifiedBy>
  <dcterms:modified xsi:type="dcterms:W3CDTF">2013-09-18T21:27:23Z</dcterms:modified>
  <cp:revision>8</cp:revision>
  <dc:subject/>
  <dc:title>Let’s describe pictures !</dc:title>
</cp:coreProperties>
</file>