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0BC-071A-4BC5-8C2B-5E00D4F5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83F-FA79-489D-A766-F5C3FA15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A821D-6127-45B5-BD7A-5D26F854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D7FEC-7D6F-499A-A024-31F0F7A5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B959C-8C8E-454B-865E-77EBB7A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D997D-D0F6-48A5-9A07-E39176C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CFB25-C449-4990-9DF6-05CE4997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9817D-BA1E-478C-90FC-11F7A08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8CF0B-8AB5-4C59-A4CF-AA7BEDF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47A5E-F65E-4017-AF0E-4F60A0F0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1B7B5-D67E-4D7F-A6BC-B377E8C4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D3F1E-B6C5-4137-8B6C-31A9D0DA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9AB-B9B6-48D5-89A6-922DC7E7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CE400-B8B1-40AC-A504-24FDE7B1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7D7FA-B75E-43C5-83D6-20CCDE97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B9408-C14C-41F1-A624-B867C23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C54D1-4554-47B7-9BB9-02140A6D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CA5F6-E78E-4ADB-8FDF-551480AD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E5E49-9A77-4060-9D66-D52B1A6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3905E-077D-4313-BEDB-311E83D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D7521-7318-4F5A-881A-AC2B697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F5A31-2881-47E6-B0AA-FB8126FE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506E3-82F0-42D2-A77A-BF3971D1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9AF-66E3-4BEC-AD85-169C0134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F8FEB-6C97-4B42-AA54-A6753DDF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BA33D-8CD9-4032-A69D-6B3C0B4A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793F8-36E5-46F4-B148-5B478EF7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A6661-6ED5-4DDA-8DCD-2C82E78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09555-3ADE-4D61-BBD5-DAD0D75A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E7EA9-AADD-4EC8-8A83-6EE8ECD1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B0631-D71F-4FF8-A9A7-754993D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D6DE4-197C-4108-92E9-584D335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27EE4-0637-47D4-8958-ABA8BC6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A05F0-1644-4573-ACA9-A73DC996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6F1-BCF8-4A8F-8811-06EBD4E0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5C84D-9787-4E31-ACFE-949A6C51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DFD38-067B-4220-8D18-00282122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08F08-85D9-4455-8944-A32EA987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34724-5933-4EAD-B10E-ECE194E4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AD8CD-E2A0-4169-9F10-8C488D67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DB7F5-74BE-4246-BF95-43A24B82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93FC2-3D55-41E4-992B-F3CC36E6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88E3B-5F9E-4730-B68E-40F8A351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A2192-82BA-476B-952E-5AAD311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0C62C-A7E2-4729-A3B1-C978057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D5F-FDFD-4CDB-A17D-6E81B578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BB2A2-C7D1-46F0-9CFE-CA1279E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FE6F4-8314-4D85-BB2F-101FDE0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6B949-8EE5-4A2C-97A8-F8B4363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1AC92-A2A4-458F-A099-CD61E6DF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56B78-05AA-4B45-B05B-13A5E06D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681-759F-4DD7-84FD-62652AE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5161-2751-4A23-BBC7-41B7A639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1A24-A046-4382-8252-F6B865DC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9C84-6061-4EF8-852B-A585D498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BF1E-E27C-4BD8-B2B3-58E37F9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7E9-A4D7-4D01-8F19-11BF8C06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CB37-08E9-45D0-BDB5-9046925F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05B5-0A4B-46EC-89F3-8F720EC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9012-0966-46AF-8FF9-735496A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747C-17FE-4470-8FEE-EBFDC2F9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6B94-216E-433D-93A1-ADC749F4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CCD5-0B83-44F1-BCA7-58F4222A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B643-03AA-4E23-B62A-8221511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ED4C-70C2-4244-A98A-EB19DDE5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497E-86B8-45A8-AAD0-4AD2A5AC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6317C-35AC-4329-9490-8E606A95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D83-0ED7-4158-838E-0264F06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1021-776D-4FAC-A259-C257AC8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0A8A-3024-4D4E-B23A-6881958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623E-CF2A-46DC-A782-C9E0F7B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5527-C6B2-4279-9028-FFA3FB64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4EE8-F19C-4BEA-8836-79652DC3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C4A8-8E1E-4D91-BFBD-296F0A72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9E3F-E455-44C3-9A2A-43F3CBB8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0EB0-6079-4494-88C8-01FA0AFB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C1893-6BAA-4722-ACFB-CBC299E8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6E31B-8175-4597-B2F8-026AC57E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115-F49E-476C-A1D1-EF925F1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3734-EFDE-4DF5-8D57-473DF144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D3E5-85C8-46BE-830D-73240EEC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78F5-7671-41A4-BA62-6729C9D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A13E-6285-43D8-A2F4-B8080DE7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2602-E8C9-4FDE-B46D-8DBDB97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C76E-5411-42E7-98CB-8D681E7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26F7-DF5B-4E10-B622-A584CC2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5ECC-DA4A-4860-B7FE-EB69B737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4910-FAF6-4CB4-9CFE-5C8BD019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3950-836B-4CA0-BE8F-A4E54A3F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5B4-3521-42FE-886C-5DEE780B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9D3BF-C221-4ADD-80E5-7CE17552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A71DD-61C4-4E51-8E2F-70F42842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B692-94DE-4814-8EF4-C26920C2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D008-C0BE-4614-8B94-EA5213F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8367-AAB6-458F-80B4-7D2D251B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4217-FC33-4048-9A82-68D6513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2E26-6A68-420B-A93F-D0DED43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E950-6ABE-4195-B802-BB50A6AB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82743-316A-4150-8AD2-E577164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78C6D-B945-422A-8411-79F53F8F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CF6-6530-44A3-B36E-E155D658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226A-97E1-4D42-BCAC-0DA40B4B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6A275-0D10-4E62-9785-20353B64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B850-4207-44D8-BAC1-73B4DDE5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02F82-3B9F-43BE-8D3E-A27BF0C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45E04-0A44-4A8C-9BE3-61187E01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6D2D-7EF1-42C7-854A-3CC50722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72495-AB06-4FC0-8CEC-E759B258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BF75-E272-4775-BA77-A1DB403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F681-514C-4F81-9C4B-7D0D143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33B8-FFC7-4E5E-8915-30C4601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4CD-26DF-43BE-A818-0A4EAAD6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B9CDE-CF79-464E-A99E-A525F87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95E2-8E3B-4D37-BF19-5BC73932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C943-DB84-4C89-8247-C1E14A31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D9FA-A9E0-41BC-9CF9-A687C220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A363-D450-49F8-B888-BC09244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482CF-A40B-4124-8F7D-89267B3C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E3EF-127A-439B-9E95-8244B222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EF6E9-F03B-47CB-B643-C10AA177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442A-B774-4B78-AF03-75D7BEE2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6DCB-C17B-45B7-9A54-7DA90AD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D54-08A6-45EE-A607-F0865BA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D447-88EF-4184-8D7C-09C48D4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EEF76-A317-45F5-8952-66936F2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38D9-AB89-49FF-89B4-CA0D1B1A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984C-EB27-4199-BAC3-EBED8E4E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1E3E4-33E1-4D23-AD10-5108B427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3891-0CAB-4524-BDA1-94026636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E031A-55B4-467F-AAE2-65342B5D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51EC0-9B67-4606-9704-3677FFFD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A4BD9-0056-4963-BF2B-5B96A73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1BC83-6D47-4E11-ACAD-C602516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80C-6E85-4900-B71B-DFF8381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08DB7-FEAB-4BED-A441-B808BAA5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7502-F11E-4065-812E-C1B807B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26D1-FEF5-4C7A-A697-92CE8D22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9221-CDE3-4483-B2C1-DCDC7CC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26DFD-954B-426D-B3BE-6374D327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250B2-5D44-4F7B-83EF-B6EF8BD8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1E6AA-FA8A-490C-ADE2-CC26F324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89773-0A2A-4CFE-95F9-6F388600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6EE62-C8E8-4451-BE08-E892565C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848E4-E962-48C5-9D10-7F4F22D6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E36-CFD4-4593-B7A2-632F5A42107F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cteur droit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147C-07A1-43C0-B21D-5AF3714C3933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E229-55D7-4A63-A6F8-39BFE1C7AC91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Connecteur droit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lipse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lipse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2555-6F5C-44BD-8081-D0A4665EB6E9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Connecteur droit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lipse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lipse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92A6-FDF6-4F21-B3DF-B4998BAC6495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81FB-CDEB-4135-8B7F-113BBC4AF14C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Connecteur droit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lipse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lipse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254-55E0-459D-A664-7045508EFB1B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Connecteur droit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9ECE-9DCB-4F22-8985-D5DEAF2C0481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cteur droit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Connecteur droit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lipse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lipse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AAC5-0F8E-48D5-8A0A-E4A93E46B193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79E-06B6-4906-B0C4-650C993103F0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438C-2DC3-49E8-8F89-CD9A788E57AF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Connecteur droit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65C5-A18B-4A1A-9150-E277D171F8E0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d16349"/>
                </a:solidFill>
                <a:latin typeface="Georgia"/>
              </a:rPr>
              <a:t>A walk in tow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swimming-po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Espace réservé du contenu 3" descr="swimming-pool.png"/>
          <p:cNvPicPr/>
          <p:nvPr/>
        </p:nvPicPr>
        <p:blipFill>
          <a:blip r:embed="rId1"/>
          <a:stretch/>
        </p:blipFill>
        <p:spPr>
          <a:xfrm>
            <a:off x="1486080" y="2517840"/>
            <a:ext cx="6135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supermarke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Espace réservé du contenu 3" descr="supermarket.jpg"/>
          <p:cNvPicPr/>
          <p:nvPr/>
        </p:nvPicPr>
        <p:blipFill>
          <a:blip r:embed="rId1"/>
          <a:stretch/>
        </p:blipFill>
        <p:spPr>
          <a:xfrm>
            <a:off x="2050920" y="1916280"/>
            <a:ext cx="5113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Now, identify those pla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Espace réservé du contenu 4" descr="baker.jpg"/>
          <p:cNvPicPr/>
          <p:nvPr/>
        </p:nvPicPr>
        <p:blipFill>
          <a:blip r:embed="rId1"/>
          <a:stretch/>
        </p:blipFill>
        <p:spPr>
          <a:xfrm>
            <a:off x="1484280" y="2135160"/>
            <a:ext cx="6138720" cy="3355920"/>
          </a:xfrm>
          <a:prstGeom prst="rect">
            <a:avLst/>
          </a:prstGeom>
          <a:ln w="0">
            <a:noFill/>
          </a:ln>
        </p:spPr>
      </p:pic>
      <p:sp>
        <p:nvSpPr>
          <p:cNvPr id="630" name="ZoneTexte 5"/>
          <p:cNvSpPr/>
          <p:nvPr/>
        </p:nvSpPr>
        <p:spPr>
          <a:xfrm>
            <a:off x="2050920" y="54450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HE BAKER’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Espace réservé du contenu 3" descr="butcher.jpg"/>
          <p:cNvPicPr/>
          <p:nvPr/>
        </p:nvPicPr>
        <p:blipFill>
          <a:blip r:embed="rId1"/>
          <a:stretch/>
        </p:blipFill>
        <p:spPr>
          <a:xfrm>
            <a:off x="1258920" y="1989000"/>
            <a:ext cx="2432160" cy="1565280"/>
          </a:xfrm>
          <a:prstGeom prst="rect">
            <a:avLst/>
          </a:prstGeom>
          <a:ln w="0">
            <a:noFill/>
          </a:ln>
        </p:spPr>
      </p:pic>
      <p:sp>
        <p:nvSpPr>
          <p:cNvPr id="633" name="ZoneTexte 4"/>
          <p:cNvSpPr/>
          <p:nvPr/>
        </p:nvSpPr>
        <p:spPr>
          <a:xfrm>
            <a:off x="2050920" y="4508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THE BUTCHER’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Espace réservé du contenu 3" descr="chemist.jpg"/>
          <p:cNvPicPr/>
          <p:nvPr/>
        </p:nvPicPr>
        <p:blipFill>
          <a:blip r:embed="rId1"/>
          <a:stretch/>
        </p:blipFill>
        <p:spPr>
          <a:xfrm>
            <a:off x="3824280" y="3083040"/>
            <a:ext cx="1459080" cy="1460520"/>
          </a:xfrm>
          <a:prstGeom prst="rect">
            <a:avLst/>
          </a:prstGeom>
          <a:ln w="0">
            <a:noFill/>
          </a:ln>
        </p:spPr>
      </p:pic>
      <p:sp>
        <p:nvSpPr>
          <p:cNvPr id="636" name="ZoneTexte 4"/>
          <p:cNvSpPr/>
          <p:nvPr/>
        </p:nvSpPr>
        <p:spPr>
          <a:xfrm>
            <a:off x="1258920" y="4941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THE CHEMIST’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Espace réservé du contenu 3" descr="supermarket.jpg"/>
          <p:cNvPicPr/>
          <p:nvPr/>
        </p:nvPicPr>
        <p:blipFill>
          <a:blip r:embed="rId1"/>
          <a:stretch/>
        </p:blipFill>
        <p:spPr>
          <a:xfrm>
            <a:off x="3581280" y="2908440"/>
            <a:ext cx="1944720" cy="1809720"/>
          </a:xfrm>
          <a:prstGeom prst="rect">
            <a:avLst/>
          </a:prstGeom>
          <a:ln w="0">
            <a:noFill/>
          </a:ln>
        </p:spPr>
      </p:pic>
      <p:sp>
        <p:nvSpPr>
          <p:cNvPr id="639" name="ZoneTexte 4"/>
          <p:cNvSpPr/>
          <p:nvPr/>
        </p:nvSpPr>
        <p:spPr>
          <a:xfrm>
            <a:off x="154764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THE SUPERMARKE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Find the odd-man-ou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grocer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baker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fish sh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 gar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Find the odd-man-ou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train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town  h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baker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post offic 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information cent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Find the shop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Bre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ak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roissa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Swe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ZoneTexte 3"/>
          <p:cNvSpPr/>
          <p:nvPr/>
        </p:nvSpPr>
        <p:spPr>
          <a:xfrm>
            <a:off x="2556000" y="3789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eorgia"/>
              </a:rPr>
              <a:t>The baker’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hic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ork cho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Mutt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Beef ste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ZoneTexte 3"/>
          <p:cNvSpPr/>
          <p:nvPr/>
        </p:nvSpPr>
        <p:spPr>
          <a:xfrm>
            <a:off x="2195640" y="41497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Georgia"/>
              </a:rPr>
              <a:t>The butcher’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baker’s sho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Espace réservé du contenu 3" descr="baker.jpg"/>
          <p:cNvPicPr/>
          <p:nvPr/>
        </p:nvPicPr>
        <p:blipFill>
          <a:blip r:embed="rId1"/>
          <a:stretch/>
        </p:blipFill>
        <p:spPr>
          <a:xfrm>
            <a:off x="1484280" y="2135160"/>
            <a:ext cx="61387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spiri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ain kill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Med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ill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ZoneTexte 4"/>
          <p:cNvSpPr/>
          <p:nvPr/>
        </p:nvSpPr>
        <p:spPr>
          <a:xfrm>
            <a:off x="2050920" y="4292640"/>
            <a:ext cx="59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Georgia"/>
              </a:rPr>
              <a:t>The chemist’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butcher’s (shop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Espace réservé du contenu 3" descr="butcher.jpg"/>
          <p:cNvPicPr/>
          <p:nvPr/>
        </p:nvPicPr>
        <p:blipFill>
          <a:blip r:embed="rId1"/>
          <a:stretch/>
        </p:blipFill>
        <p:spPr>
          <a:xfrm>
            <a:off x="2556000" y="2565360"/>
            <a:ext cx="41972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grocer’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Espace réservé du contenu 3" descr="groocer.jpg"/>
          <p:cNvPicPr/>
          <p:nvPr/>
        </p:nvPicPr>
        <p:blipFill>
          <a:blip r:embed="rId1"/>
          <a:stretch/>
        </p:blipFill>
        <p:spPr>
          <a:xfrm>
            <a:off x="2195640" y="1916280"/>
            <a:ext cx="44830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restaura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Espace réservé du contenu 3" descr="restaurant.jpg"/>
          <p:cNvPicPr/>
          <p:nvPr/>
        </p:nvPicPr>
        <p:blipFill>
          <a:blip r:embed="rId1"/>
          <a:stretch/>
        </p:blipFill>
        <p:spPr>
          <a:xfrm>
            <a:off x="2340000" y="2133720"/>
            <a:ext cx="46674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chemist’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Espace réservé du contenu 3" descr="chemist.jpg"/>
          <p:cNvPicPr/>
          <p:nvPr/>
        </p:nvPicPr>
        <p:blipFill>
          <a:blip r:embed="rId1"/>
          <a:stretch/>
        </p:blipFill>
        <p:spPr>
          <a:xfrm>
            <a:off x="3276720" y="2421000"/>
            <a:ext cx="27637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pa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Espace réservé du contenu 3" descr="park.jpg"/>
          <p:cNvPicPr/>
          <p:nvPr/>
        </p:nvPicPr>
        <p:blipFill>
          <a:blip r:embed="rId1"/>
          <a:stretch/>
        </p:blipFill>
        <p:spPr>
          <a:xfrm>
            <a:off x="1403280" y="1916280"/>
            <a:ext cx="63514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shoe sho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Espace réservé du contenu 3" descr="shoeshop.jpg"/>
          <p:cNvPicPr/>
          <p:nvPr/>
        </p:nvPicPr>
        <p:blipFill>
          <a:blip r:embed="rId1"/>
          <a:stretch/>
        </p:blipFill>
        <p:spPr>
          <a:xfrm>
            <a:off x="1908000" y="1916280"/>
            <a:ext cx="51260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booksho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Espace réservé du contenu 3" descr="bookshop.jpg"/>
          <p:cNvPicPr/>
          <p:nvPr/>
        </p:nvPicPr>
        <p:blipFill>
          <a:blip r:embed="rId1"/>
          <a:stretch/>
        </p:blipFill>
        <p:spPr>
          <a:xfrm>
            <a:off x="1403280" y="2205000"/>
            <a:ext cx="59752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35:12Z</dcterms:created>
  <dc:creator>home</dc:creator>
  <dc:description/>
  <dc:language>en-US</dc:language>
  <cp:lastModifiedBy>home</cp:lastModifiedBy>
  <dcterms:modified xsi:type="dcterms:W3CDTF">2011-02-17T23:01:24Z</dcterms:modified>
  <cp:revision>3</cp:revision>
  <dc:subject/>
  <dc:title>A walk in town</dc:title>
</cp:coreProperties>
</file>