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D5F-E936-4628-8029-1A888D46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A71-238C-4154-A248-9CD16574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1FC56-E77B-41CB-8DAF-4BFED2E5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4FAB4-5198-4990-BB74-7AC4A075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DC555-41E7-4099-A2C6-6F679856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1FF56-3AA5-484F-A6E9-6407634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068FD-D90A-41A8-834E-724FF8D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14C8A-035B-4681-B1F5-52F11E8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08D55-0A3E-41CB-9071-AD47FF21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91549-E752-4600-BF6B-A8766D7D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3A1EF-57B2-423F-8806-86435696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DB3F4-2DCD-4B30-938B-4BB65CC8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DFA-840F-42AE-A019-B626B746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76357-3A33-4F72-8FAE-79744A3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86685-D0FA-481F-AD03-DBB31EF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E2FB1-7E10-4A0B-81E7-59A5C8C7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5AFC6-B241-4755-A8AA-5D8D22DE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A7A61-4EC9-4ED9-914C-5E67DA9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507BD-F371-402E-B1B3-A6848448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845D0-C5D6-46C3-99B2-9BC615A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31998-ACB8-428A-82C3-D1FD96B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76F13-D08B-4859-83B7-CC7565E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9CC37-9B09-4EBC-8288-CE56CD8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657-5B2A-4D67-93FF-6E6C503F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FC133-DD05-4E42-8918-321FCDE6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A2997-5716-4C7D-BAAB-0638A7DD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75BC-265E-4378-8852-1871A4B6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6ABC6-A0FC-49B0-A752-F589AFF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3B58-2DFC-449D-90F1-0E08F443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4818E-7924-4F3D-B23D-A5E85636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D989C-C19D-46D7-877B-2474597D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24F53-AD03-4DC2-B1E7-6204851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8D0A6-1C87-4EB1-8130-DD89811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63BB4-2CC7-4992-A358-A8A44E3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7A87-905D-4487-9694-18B54C93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4B1AA-EB6F-4E5B-B7CE-246A18A5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F14AB-4FD1-4256-A039-596C5258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D7D72-921C-4A13-A6F7-D517052C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449FC-AFF8-480D-8E68-ABB0F82F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36DC7-DC7F-4524-B563-DB4A5F6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DE9F8-28AE-4CA1-9AC8-88D278A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D4243-D2A7-45BD-AD66-8148F90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A763A-45FE-4D65-A821-782DCF22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C04E9-EB24-444D-B19D-97BBF5F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AD637-3EFF-4E67-ABDC-3A27A45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5E3-A206-4CD9-A56D-05CFAC9B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D4DCA-D203-4D9B-87F4-9FF620E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F2574-4674-4436-A7C6-CB75451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AF7DE-1638-4B4C-979A-5E9192B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A7186-F0D9-42FC-B7A4-A61CC6CC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858C8-7F1B-4455-BB37-DD13B3F0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7D2-CABA-4F72-8B59-19FE0F9C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2BF4-1275-4E76-B2F9-2425CBBF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A851-AFC0-4185-8E7A-CA611C51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6DBD-57DE-4B67-938F-38C30631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8480-A714-4395-ADCB-8353FFD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C2E-D56F-4FAA-AFEA-7A91FD8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8988-6C54-459B-8DAB-BBEAB02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3530-D4CD-476E-86C5-5273E88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EBFC-D0B7-42E5-8416-6CD3AD1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823-A854-425E-8A99-3323A229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965-B09F-4D70-8BDB-80091BF7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BACE-FFA6-4129-B5D1-36B5BC7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6D76-A412-46B4-B268-6A0067A3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978A-3C74-4F19-AFF5-A30D46E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386A-2217-462D-AD84-6961B94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2898-CC61-4A29-A515-40F8480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633-54D0-4152-AD68-11CFC0DA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533F-B37B-4CE1-85F6-08193A2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4C06-EDD5-4C09-A097-AC620D9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90F7-E508-409E-A750-B966776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C7FF-5C7B-4FD0-AE45-28CD1D1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61AD-60D5-47CD-AA14-CCD6C637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28B4-DA26-49CB-93EE-2C2FBBBF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A03B-2EE8-4915-BD81-B85B995E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F027-4547-4BA7-A3B6-41698A25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28AE-CE90-46EB-BC55-862F260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92C4-41A2-471D-94F4-E2532382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7AB-A9B0-4918-B436-7A7AAFBD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312C-ED7B-411E-99E5-D8D3B1E4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4ECA-AAD2-4612-AC0F-7EC65163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190E-3F15-40FB-8E27-B519CC16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538F-0A5B-48E6-8C10-C3E8AD1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A840-72CD-4034-BF86-6CD9F7C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175D-5A43-4764-B247-6F31149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550E-B3A9-47A8-952F-26A7473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10B2-0AB0-4192-83D3-75320244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6C80-FC8C-4A3B-BDFB-81D126AE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87AC-BF4A-460C-B0E1-603BA444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415-1CC6-4AA2-9BC0-76302DC0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EBE29-8D30-4C4F-936B-B064775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D01C-A2F8-4D9E-A889-94F10A8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468D8-2234-420F-B58C-760FFC6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645C-D8C4-41DF-A20F-8F671AD8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EDE19-917A-4C24-9180-A5E86EC6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1BB6-48CE-43E7-B17B-3E1EE0A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19B9-6EFA-4679-9399-2951489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3448-4C41-4D30-A5F4-DD762FD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67E1-5ABD-4104-8266-436919CF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2AC94-66E2-4EFA-A310-BCA0F2B7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C7C-9252-45A5-9860-81C4FED9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9566-EB49-4EFF-A4DA-1A7BFFC0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23FB8-441F-4CAC-8B13-02B49307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78BA-3A81-4642-96FA-D343B311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2B27-4F05-43C4-A6FD-BB089EFD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ED0F-6B71-4FB2-BD0A-0A028D2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864F9-5FD0-4F03-914B-51BD197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32B5-9414-41AF-A12D-10DDCEB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0918-B97B-4DB4-9685-89B7D1A6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93266-8F5F-4916-84E9-725E677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A2A5-D2B1-4369-80A6-F431D12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D97-DE4C-4DF6-B3CA-4E9E624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D12E-4830-462A-A7F8-530BE0DC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B6402-0CE9-483C-BC59-2F7A84E9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FEE00-0D2D-4600-BEBC-CF06D085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F7B39-9A6A-4510-B001-7377CADF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339C-4C0D-489A-9ECC-4E9EDE98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E61E-03F0-49E6-8476-337BFE3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8C3F-AE4C-4DF8-BDBE-5522AE4F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ADC7-2726-4307-B358-1783B87A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9AF4-5792-45C6-87B2-DBBEBBE2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AFF83-2AA3-4796-9B05-A9AC384F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476-5CED-475B-9283-7F1A8C2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A6CC-A542-412D-89CA-D52D55D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47AE-84C2-4BC3-A3A5-9992F600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4DBE-1224-4E25-9301-804DCC2A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D1126-3AE0-4269-B9AB-3B3514A3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BBB8-D6B2-4DB8-A207-A4AF044C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0675E-AB36-4FE8-9C28-9F0A6094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C8745-0BD2-4579-A2D6-390E9EF7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19597-4F7F-4A9F-A0F4-870B03D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E1B3-E10F-42BB-938A-8FC010E6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EC16-3E7A-4D61-84A2-19FD0C44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9A1-6A28-4DF0-A299-CD1199E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57A61-451E-4968-AB05-3555DB10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8D09-5130-4F20-A8DB-E9B0E44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1D19-B50A-481F-91FF-6A2E6A2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8A742-AA0E-428A-BF64-A25AB84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956BB-7B52-4222-8DA9-CE0353F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DD5E1-9C06-4435-AC7C-6C2A8A0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BFBE-B0E0-40C2-94AB-C097E33F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04A0C-1963-4296-9328-9C224014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D18D8-3C70-48ED-B603-E2D471E0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69DFC-E775-4651-8EEA-893C6A9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6EFD-D176-426B-A128-C0D8B537C458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cteur droit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722-6243-4457-B2DF-58860D3A6195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B7C-F6CE-40FC-B20D-19B9BDE150D6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Connecteur droit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0270-8BEC-49EC-B3CC-D4B3868D31BC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Connecteur droit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63CA-C235-48D1-8F00-4135DE80BB60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0189-8E4C-41E3-B188-3BAAF5961C9E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Connecteur droit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B6CC-9DEC-46E1-B9AD-8ACEE65501FF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Connecteur droit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D09-05F8-45CA-9064-1A6ADB682313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cteur droit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Connecteur droit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FB52-1E01-4A48-AA52-2FFF3F7D73DD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CBC0-0D17-4167-AB3A-1F61B96B6D00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3CA0-5B99-429B-9E09-4BC2F7A6579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Connecteur droit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DCB-0659-46F0-810F-C7A2F1072C08}" type="slidenum">
              <a:rPr b="0" lang="fr-F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d16349"/>
                </a:solidFill>
                <a:latin typeface="Georgia"/>
              </a:rPr>
              <a:t>A walk in tow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swimming-po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Espace réservé du contenu 3" descr="swimming-pool.png"/>
          <p:cNvPicPr/>
          <p:nvPr/>
        </p:nvPicPr>
        <p:blipFill>
          <a:blip r:embed="rId1"/>
          <a:stretch/>
        </p:blipFill>
        <p:spPr>
          <a:xfrm>
            <a:off x="1486080" y="2517840"/>
            <a:ext cx="6135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supermark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Espace réservé du contenu 3" descr="supermarket.jpg"/>
          <p:cNvPicPr/>
          <p:nvPr/>
        </p:nvPicPr>
        <p:blipFill>
          <a:blip r:embed="rId1"/>
          <a:stretch/>
        </p:blipFill>
        <p:spPr>
          <a:xfrm>
            <a:off x="2050920" y="1916280"/>
            <a:ext cx="5113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Now, identify those pla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Espace réservé du contenu 4" descr="baker.jpg"/>
          <p:cNvPicPr/>
          <p:nvPr/>
        </p:nvPicPr>
        <p:blipFill>
          <a:blip r:embed="rId1"/>
          <a:stretch/>
        </p:blipFill>
        <p:spPr>
          <a:xfrm>
            <a:off x="1484280" y="2135160"/>
            <a:ext cx="6138720" cy="3355920"/>
          </a:xfrm>
          <a:prstGeom prst="rect">
            <a:avLst/>
          </a:prstGeom>
          <a:ln w="0">
            <a:noFill/>
          </a:ln>
        </p:spPr>
      </p:pic>
      <p:sp>
        <p:nvSpPr>
          <p:cNvPr id="630" name="ZoneTexte 5"/>
          <p:cNvSpPr/>
          <p:nvPr/>
        </p:nvSpPr>
        <p:spPr>
          <a:xfrm>
            <a:off x="2050920" y="54450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HE BAKER’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Espace réservé du contenu 3" descr="butcher.jpg"/>
          <p:cNvPicPr/>
          <p:nvPr/>
        </p:nvPicPr>
        <p:blipFill>
          <a:blip r:embed="rId1"/>
          <a:stretch/>
        </p:blipFill>
        <p:spPr>
          <a:xfrm>
            <a:off x="1258920" y="1989000"/>
            <a:ext cx="2432160" cy="1565280"/>
          </a:xfrm>
          <a:prstGeom prst="rect">
            <a:avLst/>
          </a:prstGeom>
          <a:ln w="0">
            <a:noFill/>
          </a:ln>
        </p:spPr>
      </p:pic>
      <p:sp>
        <p:nvSpPr>
          <p:cNvPr id="633" name="ZoneTexte 4"/>
          <p:cNvSpPr/>
          <p:nvPr/>
        </p:nvSpPr>
        <p:spPr>
          <a:xfrm>
            <a:off x="2050920" y="4508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THE BUTCHER’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Espace réservé du contenu 3" descr="chemist.jpg"/>
          <p:cNvPicPr/>
          <p:nvPr/>
        </p:nvPicPr>
        <p:blipFill>
          <a:blip r:embed="rId1"/>
          <a:stretch/>
        </p:blipFill>
        <p:spPr>
          <a:xfrm>
            <a:off x="3824280" y="3083040"/>
            <a:ext cx="1459080" cy="1460520"/>
          </a:xfrm>
          <a:prstGeom prst="rect">
            <a:avLst/>
          </a:prstGeom>
          <a:ln w="0">
            <a:noFill/>
          </a:ln>
        </p:spPr>
      </p:pic>
      <p:sp>
        <p:nvSpPr>
          <p:cNvPr id="636" name="ZoneTexte 4"/>
          <p:cNvSpPr/>
          <p:nvPr/>
        </p:nvSpPr>
        <p:spPr>
          <a:xfrm>
            <a:off x="1258920" y="4941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THE CHEMIST’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Espace réservé du contenu 3" descr="supermarket.jpg"/>
          <p:cNvPicPr/>
          <p:nvPr/>
        </p:nvPicPr>
        <p:blipFill>
          <a:blip r:embed="rId1"/>
          <a:stretch/>
        </p:blipFill>
        <p:spPr>
          <a:xfrm>
            <a:off x="3581280" y="2908440"/>
            <a:ext cx="1944720" cy="1809720"/>
          </a:xfrm>
          <a:prstGeom prst="rect">
            <a:avLst/>
          </a:prstGeom>
          <a:ln w="0">
            <a:noFill/>
          </a:ln>
        </p:spPr>
      </p:pic>
      <p:sp>
        <p:nvSpPr>
          <p:cNvPr id="639" name="ZoneTexte 4"/>
          <p:cNvSpPr/>
          <p:nvPr/>
        </p:nvSpPr>
        <p:spPr>
          <a:xfrm>
            <a:off x="154764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THE SUPERMARKE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Find the odd-man-ou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grocer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baker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fish sh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 gar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Find the odd-man-ou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train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town  h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baker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post offic 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The information cent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Find the shop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Bre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ak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roissa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Swe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ZoneTexte 3"/>
          <p:cNvSpPr/>
          <p:nvPr/>
        </p:nvSpPr>
        <p:spPr>
          <a:xfrm>
            <a:off x="2556000" y="3789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eorgia"/>
              </a:rPr>
              <a:t>The baker’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hic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ork cho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Mutt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Beef ste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ZoneTexte 3"/>
          <p:cNvSpPr/>
          <p:nvPr/>
        </p:nvSpPr>
        <p:spPr>
          <a:xfrm>
            <a:off x="2195640" y="41497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Georgia"/>
              </a:rPr>
              <a:t>The butcher’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baker’s sho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Espace réservé du contenu 3" descr="baker.jpg"/>
          <p:cNvPicPr/>
          <p:nvPr/>
        </p:nvPicPr>
        <p:blipFill>
          <a:blip r:embed="rId1"/>
          <a:stretch/>
        </p:blipFill>
        <p:spPr>
          <a:xfrm>
            <a:off x="1484280" y="2135160"/>
            <a:ext cx="6138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spiri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ain kill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Med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ill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ZoneTexte 4"/>
          <p:cNvSpPr/>
          <p:nvPr/>
        </p:nvSpPr>
        <p:spPr>
          <a:xfrm>
            <a:off x="2050920" y="4292640"/>
            <a:ext cx="59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Georgia"/>
              </a:rPr>
              <a:t>The chemist’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butcher’s (shop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Espace réservé du contenu 3" descr="butcher.jpg"/>
          <p:cNvPicPr/>
          <p:nvPr/>
        </p:nvPicPr>
        <p:blipFill>
          <a:blip r:embed="rId1"/>
          <a:stretch/>
        </p:blipFill>
        <p:spPr>
          <a:xfrm>
            <a:off x="2556000" y="2565360"/>
            <a:ext cx="41972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grocer’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Espace réservé du contenu 3" descr="groocer.jpg"/>
          <p:cNvPicPr/>
          <p:nvPr/>
        </p:nvPicPr>
        <p:blipFill>
          <a:blip r:embed="rId1"/>
          <a:stretch/>
        </p:blipFill>
        <p:spPr>
          <a:xfrm>
            <a:off x="2195640" y="1916280"/>
            <a:ext cx="4483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restaura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Espace réservé du contenu 3" descr="restaurant.jpg"/>
          <p:cNvPicPr/>
          <p:nvPr/>
        </p:nvPicPr>
        <p:blipFill>
          <a:blip r:embed="rId1"/>
          <a:stretch/>
        </p:blipFill>
        <p:spPr>
          <a:xfrm>
            <a:off x="2340000" y="2133720"/>
            <a:ext cx="46674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chemist’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Espace réservé du contenu 3" descr="chemist.jpg"/>
          <p:cNvPicPr/>
          <p:nvPr/>
        </p:nvPicPr>
        <p:blipFill>
          <a:blip r:embed="rId1"/>
          <a:stretch/>
        </p:blipFill>
        <p:spPr>
          <a:xfrm>
            <a:off x="3276720" y="2421000"/>
            <a:ext cx="276372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pa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Espace réservé du contenu 3" descr="park.jpg"/>
          <p:cNvPicPr/>
          <p:nvPr/>
        </p:nvPicPr>
        <p:blipFill>
          <a:blip r:embed="rId1"/>
          <a:stretch/>
        </p:blipFill>
        <p:spPr>
          <a:xfrm>
            <a:off x="1403280" y="1916280"/>
            <a:ext cx="63514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shoe sho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Espace réservé du contenu 3" descr="shoeshop.jpg"/>
          <p:cNvPicPr/>
          <p:nvPr/>
        </p:nvPicPr>
        <p:blipFill>
          <a:blip r:embed="rId1"/>
          <a:stretch/>
        </p:blipFill>
        <p:spPr>
          <a:xfrm>
            <a:off x="1908000" y="1916280"/>
            <a:ext cx="51260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The booksho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Espace réservé du contenu 3" descr="bookshop.jpg"/>
          <p:cNvPicPr/>
          <p:nvPr/>
        </p:nvPicPr>
        <p:blipFill>
          <a:blip r:embed="rId1"/>
          <a:stretch/>
        </p:blipFill>
        <p:spPr>
          <a:xfrm>
            <a:off x="1403280" y="2205000"/>
            <a:ext cx="59752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35:12Z</dcterms:created>
  <dc:creator>home</dc:creator>
  <dc:description/>
  <dc:language>en-US</dc:language>
  <cp:lastModifiedBy>home</cp:lastModifiedBy>
  <dcterms:modified xsi:type="dcterms:W3CDTF">2011-02-17T23:01:24Z</dcterms:modified>
  <cp:revision>3</cp:revision>
  <dc:subject/>
  <dc:title>A walk in town</dc:title>
</cp:coreProperties>
</file>