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BDE-0A44-4412-AFD4-F7C5D2B0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BF3-89B4-430E-83AB-D85F1689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1B1-D54F-40FD-A1DB-3B241A59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B0E-7C08-459F-9797-103E360D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7AF-81D0-4F0F-BF36-D55A0CAA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9BC-C5E2-40E3-9904-6A3F3B5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269-7403-4E8C-8609-E60BB082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8B0-3F51-496B-B833-DC1B2902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A0A-8747-4B62-BB57-C75071C7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03E-7D5A-4099-BF9C-CFC3E91A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D31-1D35-45A8-B0D1-737B692B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E08-36B0-4DC5-A855-2E6A1BFD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0FB0E-D0BB-471A-899E-A43DA2DE55C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08000" y="1768320"/>
            <a:ext cx="8163000" cy="52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14480" y="1363680"/>
            <a:ext cx="8200800" cy="54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2160" y="1379520"/>
            <a:ext cx="81439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32000" y="2087640"/>
            <a:ext cx="58323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52360" y="1368360"/>
            <a:ext cx="8106120" cy="56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21:06:02Z</dcterms:created>
  <dc:creator>demmer anne</dc:creator>
  <dc:description/>
  <dc:language>en-US</dc:language>
  <cp:lastModifiedBy/>
  <cp:revision>1</cp:revision>
  <dc:subject/>
  <dc:title/>
</cp:coreProperties>
</file>