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1556D-E1BE-44D6-AD88-8ADB9AB08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E6E42-673B-403F-8EF8-F35AC9800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E9336-E926-4DE2-A982-A6565BEF9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E1393-953C-427E-A767-AF8A162C3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DBE9E-51B3-4DF3-BE2A-77A06FF6A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D8F5D-F8C0-4B50-9CA7-F13D5645E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82261-26A3-49B1-83EE-28CDA52C7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EA178-D1CE-46C3-B846-48F4607F9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4E6B8-4F84-45EB-A974-A774DE0C5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40214-FF8D-49FE-AC87-7BCF23CAC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58E21-2F0D-43B6-97E3-93EC50F10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F75C9-A2F6-4953-92E7-C29A7AE68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219A7F-E930-4165-9F63-698A69A9CEA7}" type="slidenum">
              <a:rPr b="0" lang="fr-FR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Immigrants and ghetto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008000" y="1768320"/>
            <a:ext cx="8163000" cy="5210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Immigrants and ghetto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014480" y="1363680"/>
            <a:ext cx="8200800" cy="5476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Immigrants and ghetto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992160" y="1379520"/>
            <a:ext cx="8143920" cy="480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Immigrants and ghetto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232000" y="2087640"/>
            <a:ext cx="5832360" cy="410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Immigrants and ghetto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152360" y="1368360"/>
            <a:ext cx="8106120" cy="56102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24T21:06:02Z</dcterms:created>
  <dc:creator>demmer anne</dc:creator>
  <dc:description/>
  <dc:language>en-US</dc:language>
  <cp:lastModifiedBy/>
  <cp:revision>1</cp:revision>
  <dc:subject/>
  <dc:title/>
</cp:coreProperties>
</file>