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D7D-A4D3-4A7A-82EB-116A9B99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C18-4091-40BF-99AB-473474D4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A51-0B3D-45AD-B759-2D9D6051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B4D-1441-453F-9788-9CE713FF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357-4767-4DA6-AABF-A577FDC3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202-5465-4DEE-8767-E35F1CCF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C85-7E98-4B7B-8293-B6525F4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684-0046-42CA-A8B0-F5D196A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0B5-FABA-425C-96EB-CCE5D3AC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057-EFA3-4AFD-9DF9-CBA1128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224-0463-438C-A05A-37F0BC0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E85-C09A-4369-B55F-DE3D037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BF85B-C640-4400-8BA8-BEF9F0341709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o are they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you know their countries of origin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y did they immigrat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1714680"/>
            <a:ext cx="59148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84480" y="1563840"/>
            <a:ext cx="397188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57480" y="2625840"/>
            <a:ext cx="58672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95640" y="1944720"/>
            <a:ext cx="3743280" cy="41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19360" y="1655640"/>
            <a:ext cx="31435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55840" y="1800360"/>
            <a:ext cx="3440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9:45:45Z</dcterms:created>
  <dc:creator>demmer anne</dc:creator>
  <dc:description/>
  <dc:language>en-US</dc:language>
  <cp:lastModifiedBy/>
  <cp:revision>1</cp:revision>
  <dc:subject/>
  <dc:title/>
</cp:coreProperties>
</file>