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472-D63B-4C20-921E-5C80B411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DE3-7EE2-4824-9493-F49667A9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BD3-1B69-4558-8D62-DC4DFE9A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CB5-74A4-4466-8ADB-3A475DC0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EDD-55CD-4884-BF14-52C391D0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377-8263-4271-AC99-4CF73752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73E-13E8-4F47-AC0D-7EEF37DE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221-C9F5-4A02-9251-851563A4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6C5-8BB2-450B-BC42-18785A63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4FA-D3D2-4CF2-AEFB-6C80A17C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4FF-40B1-47FD-BB9C-BDD246E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960-590F-4299-A444-BA672AF0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FE8E8-09CF-4C28-9205-7E9187AB6EE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o are they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 you know their countries of origin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hy did they immigrate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1714680"/>
            <a:ext cx="591480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84480" y="1563840"/>
            <a:ext cx="3971880" cy="50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57480" y="2625840"/>
            <a:ext cx="5867280" cy="34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95640" y="1944720"/>
            <a:ext cx="3743280" cy="41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19360" y="1655640"/>
            <a:ext cx="31435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mous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55840" y="1800360"/>
            <a:ext cx="34401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7T09:45:45Z</dcterms:created>
  <dc:creator>demmer anne</dc:creator>
  <dc:description/>
  <dc:language>en-US</dc:language>
  <cp:lastModifiedBy/>
  <cp:revision>1</cp:revision>
  <dc:subject/>
  <dc:title/>
</cp:coreProperties>
</file>