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84320" y="2265480"/>
            <a:ext cx="436248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89160" y="1614600"/>
            <a:ext cx="5753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28720" y="1789200"/>
            <a:ext cx="665640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84440" y="1557360"/>
            <a:ext cx="47512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6360" y="1928880"/>
            <a:ext cx="496728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omen in adverts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51200" y="1728720"/>
            <a:ext cx="4429080" cy="49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8:56:23Z</dcterms:created>
  <dc:creator>demmer anne</dc:creator>
  <dc:description>Modèle de présentation d'un nouveau produit et des besoins auxquels il répond</dc:description>
  <dc:language>en-US</dc:language>
  <cp:lastModifiedBy/>
  <cp:revision>1</cp:revision>
  <dc:subject/>
  <dc:title>Présentation d'un nouveau produit</dc:title>
</cp:coreProperties>
</file>