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B18-95DF-4024-8755-491E13C5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252-4C1F-45BD-83AB-544A2905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AF1-42AA-4A39-A5C4-12CC47C6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19E-D6E3-4589-9559-DA150135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E47-60B8-4730-B16C-E99E12B4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8DA-8898-4BD4-9D7A-B69D16A9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279-BC1F-4500-8304-FC8FB3D4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E81-4C18-4FFA-BBE8-9C298355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3B0-5B97-4E45-A4B2-C0D86FD6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59D-C610-497D-839B-7B2D7F4F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9B7-0578-4721-93C4-15DD71C8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DFD-3937-4437-AEA4-447B8779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E342F-54F0-476C-997D-F497D2B1BF47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atch and express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black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32000" y="1871640"/>
            <a:ext cx="5599080" cy="48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black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00360" y="1655640"/>
            <a:ext cx="633564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black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68360" y="1655640"/>
            <a:ext cx="7423200" cy="51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black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63640" y="1871640"/>
            <a:ext cx="8423280" cy="49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black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0000" y="1768320"/>
            <a:ext cx="7199280" cy="43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black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38320" y="1809720"/>
            <a:ext cx="7861320" cy="474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20:36:17Z</dcterms:created>
  <dc:creator>demmer anne</dc:creator>
  <dc:description/>
  <dc:language>en-US</dc:language>
  <cp:lastModifiedBy/>
  <cp:revision>1</cp:revision>
  <dc:subject/>
  <dc:title/>
</cp:coreProperties>
</file>