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ED3-4B7D-46B7-A398-30DB6F0B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AFF-65AA-4E7A-A56D-318971D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39A-8879-49B8-A5E0-65376458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E4A-3BA2-47AE-B64D-5F7F3E59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FED-B705-4020-A6E2-BD4DE3C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23D-45C3-4697-ADA5-44157450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3BA-8051-4A8E-9AA8-83EF5E52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0D6-17EE-47E3-8E7C-567294B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21C-B1B3-407D-9E10-A4DC4DF5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357-D63B-4F94-8BCB-D19747C0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C98-F214-4923-9310-9EB3125E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589-6A8D-456C-8997-AC49DD77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E69B1-FAE0-43C8-9414-2B7CC6748DE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atch and express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32000" y="1871640"/>
            <a:ext cx="5599080" cy="48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00360" y="1655640"/>
            <a:ext cx="633564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68360" y="1655640"/>
            <a:ext cx="7423200" cy="51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3640" y="1871640"/>
            <a:ext cx="842328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0000" y="1768320"/>
            <a:ext cx="719928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black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38320" y="1809720"/>
            <a:ext cx="7861320" cy="474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20:36:17Z</dcterms:created>
  <dc:creator>demmer anne</dc:creator>
  <dc:description/>
  <dc:language>en-US</dc:language>
  <cp:lastModifiedBy/>
  <cp:revision>1</cp:revision>
  <dc:subject/>
  <dc:title/>
</cp:coreProperties>
</file>