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D2D-9191-4A2C-95D4-90193F6B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BDC-7C27-4590-87F0-C0EE5900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F13-5DA0-4704-9CC6-750F8B1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7B3-7315-4B62-AAA4-E4B9C0CE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0D1-4E67-4BA1-9920-6251EB5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1AD-399E-41CE-BA8B-40ABDF2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03B-F54D-4E2E-BE5E-EA42F21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659-CCC3-4797-AD12-AE5E88B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CDC-0C05-47E3-9FA7-E63A078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E08-3137-4A24-BB87-0B23DED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4DB-F55A-472F-95AF-AA14169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FAE-3B84-47BE-B6A6-0FB682F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F23E2-5F46-48B7-8939-0BCBE3DD767F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n you identify the following people ?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did they invent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40120" y="2146320"/>
            <a:ext cx="2448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7360" y="2289240"/>
            <a:ext cx="233352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7640" y="2260440"/>
            <a:ext cx="2352960" cy="30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78280" y="2217600"/>
            <a:ext cx="23716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73600" y="2265480"/>
            <a:ext cx="23810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82960" y="210348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 you need any help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28880" y="1898280"/>
            <a:ext cx="437040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light bul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printing pr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chewing g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typewrit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televi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1640" y="260280"/>
            <a:ext cx="1656000" cy="2187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440" y="2879640"/>
            <a:ext cx="1574640" cy="2030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1640" y="5141880"/>
            <a:ext cx="158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064360" y="260280"/>
            <a:ext cx="1800360" cy="2260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8064360" y="2730600"/>
            <a:ext cx="1805040" cy="2236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8352000" y="5359320"/>
            <a:ext cx="1498320" cy="191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2:56Z</dcterms:created>
  <dc:creator>demmer anne</dc:creator>
  <dc:description/>
  <dc:language>en-US</dc:language>
  <cp:lastModifiedBy/>
  <cp:revision>1</cp:revision>
  <dc:subject/>
  <dc:title/>
</cp:coreProperties>
</file>