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B1D-F39B-4E1E-BBEA-B4EE2F2B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D25-F0AB-4996-A7F5-780F389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BFA-2C4F-47FA-8BAF-9655EFB8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52C-AF2B-44D8-86E4-1CE9793E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84C-1B76-4D19-A230-4D8A4E88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61C-28E6-4B74-BA70-BE9CBA74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063-32A5-41CB-92AE-7F2DC634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2F4-A1B1-49C4-91D1-EBDD5DE6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F38-8A4E-42BA-A29B-6DFD9D56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A83-A9A4-4D27-94F7-45949542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CAA-3B5B-4C88-A8F6-10140E3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AEE-85D4-4D1B-AFAB-67DC671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24627-621C-4752-AB2E-44BC5D17EC7B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n you identify the following people ?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at did they invent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40120" y="2146320"/>
            <a:ext cx="24480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7360" y="2289240"/>
            <a:ext cx="233352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7640" y="2260440"/>
            <a:ext cx="2352960" cy="30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78280" y="2217600"/>
            <a:ext cx="23716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73600" y="2265480"/>
            <a:ext cx="238104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82960" y="2103480"/>
            <a:ext cx="23623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 you need any help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</a:rPr>
              <a:t>FAMOUS INVENTER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828880" y="1898280"/>
            <a:ext cx="4370400" cy="57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light bul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printing pr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chewing gu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typewrit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televi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 micro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1640" y="260280"/>
            <a:ext cx="1656000" cy="2187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440" y="2879640"/>
            <a:ext cx="1574640" cy="2030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1640" y="5141880"/>
            <a:ext cx="1582920" cy="1987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064360" y="260280"/>
            <a:ext cx="1800360" cy="2260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8064360" y="2730600"/>
            <a:ext cx="1805040" cy="2236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8352000" y="5359320"/>
            <a:ext cx="1498320" cy="191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2:56Z</dcterms:created>
  <dc:creator>demmer anne</dc:creator>
  <dc:description/>
  <dc:language>en-US</dc:language>
  <cp:lastModifiedBy/>
  <cp:revision>1</cp:revision>
  <dc:subject/>
  <dc:title/>
</cp:coreProperties>
</file>