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DE9-7B84-4885-8ED4-65A5A7C8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825-2608-4180-9190-BA0FE23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CA9-63B3-4D87-AD30-01E8D9A0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6D3-8E3C-4D18-913A-315685BB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E72-8806-4687-A170-F11618CD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C70-8DD1-46DF-BFAD-736BB949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313-2D64-43C4-95E6-2278AB78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ED7-F4D6-4759-9FE2-A393FD2B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938-5E74-4BDE-8CA5-7673D6DA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683-07AC-4E26-AF3E-2249378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7AB-7812-44DD-8809-0C1BEEC7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9EE-C5E5-49EF-AE69-538AB8E1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6C338-A4F8-4549-BB6D-08ECBE5499A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ertainment is a form of activity that holds the attention and interest of an audience, or gives pleasure and de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44720" y="1768320"/>
            <a:ext cx="611964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71640" y="1871640"/>
            <a:ext cx="6551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16000" y="2016000"/>
            <a:ext cx="6120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640" y="2548080"/>
            <a:ext cx="85676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095560"/>
            <a:ext cx="770436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tertainment through th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0000" y="2232000"/>
            <a:ext cx="712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9T20:35:07Z</dcterms:created>
  <dc:creator>demmer anne</dc:creator>
  <dc:description/>
  <dc:language>en-US</dc:language>
  <cp:lastModifiedBy/>
  <cp:revision>1</cp:revision>
  <dc:subject/>
  <dc:title/>
</cp:coreProperties>
</file>