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347-B396-4228-8DA3-A0C09D46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281-4F8E-49CD-B35F-8FB65ED6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1C8-936C-43F2-8E5E-7160DEF5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84A-9484-4D48-A3BB-10E5F6AA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DAD-C9ED-42B0-8805-9A3521F1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DFE-9F51-4899-8666-030E8470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971-63D2-43DA-A847-4946A42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29A-CC61-434B-9958-EDB17C3B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3BE-859E-41DD-A0F9-196D9C45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4E9-AF0D-48AD-99FF-72267728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420-740A-4F68-AE14-83720AD6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5B8-0FC9-4F4F-B123-0C29C20A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3BA69-352E-40AF-815A-55330BAD6E2D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tertainment is a form of activity that holds the attention and interest of an audience, or gives pleasure and de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44720" y="1768320"/>
            <a:ext cx="611964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71640" y="1871640"/>
            <a:ext cx="6551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16000" y="2016000"/>
            <a:ext cx="61200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3640" y="2548080"/>
            <a:ext cx="85676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2095560"/>
            <a:ext cx="770436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0000" y="2232000"/>
            <a:ext cx="7127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9T20:35:07Z</dcterms:created>
  <dc:creator>demmer anne</dc:creator>
  <dc:description/>
  <dc:language>en-US</dc:language>
  <cp:lastModifiedBy/>
  <cp:revision>1</cp:revision>
  <dc:subject/>
  <dc:title/>
</cp:coreProperties>
</file>