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12560" y="1026720"/>
            <a:ext cx="493236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432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2612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2612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2612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2612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2612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2612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2612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2612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2612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4088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5052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5076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6064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4088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5076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6064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40880" y="555480"/>
            <a:ext cx="8605800" cy="58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5052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04640" y="1893960"/>
            <a:ext cx="9674280" cy="5665680"/>
          </a:xfrm>
          <a:prstGeom prst="roundRect">
            <a:avLst>
              <a:gd name="adj" fmla="val 28"/>
            </a:avLst>
          </a:prstGeom>
          <a:solidFill>
            <a:srgbClr val="dddddd"/>
          </a:solidFill>
          <a:ln w="936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181080" cy="917640"/>
          </a:xfrm>
          <a:custGeom>
            <a:avLst/>
            <a:gdLst>
              <a:gd name="textAreaLeft" fmla="*/ 360 w 181080"/>
              <a:gd name="textAreaRight" fmla="*/ 180720 w 181080"/>
              <a:gd name="textAreaTop" fmla="*/ 360 h 917640"/>
              <a:gd name="textAreaBottom" fmla="*/ 917280 h 917640"/>
            </a:gdLst>
            <a:ahLst/>
            <a:rect l="textAreaLeft" t="textAreaTop" r="textAreaRight" b="textAreaBottom"/>
            <a:pathLst>
              <a:path w="21600" h="109286">
                <a:moveTo>
                  <a:pt x="189" y="0"/>
                </a:moveTo>
                <a:arcTo wR="189" hR="189" stAng="16200000" swAng="-5400000"/>
                <a:lnTo>
                  <a:pt x="0" y="109097"/>
                </a:lnTo>
                <a:arcTo wR="189" hR="189" stAng="10800000" swAng="-5400000"/>
                <a:lnTo>
                  <a:pt x="21411" y="109286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2381400"/>
            <a:ext cx="181080" cy="917280"/>
          </a:xfrm>
          <a:custGeom>
            <a:avLst/>
            <a:gdLst>
              <a:gd name="textAreaLeft" fmla="*/ 360 w 181080"/>
              <a:gd name="textAreaRight" fmla="*/ 180720 w 181080"/>
              <a:gd name="textAreaTop" fmla="*/ 360 h 917280"/>
              <a:gd name="textAreaBottom" fmla="*/ 916920 h 917280"/>
            </a:gdLst>
            <a:ahLst/>
            <a:rect l="textAreaLeft" t="textAreaTop" r="textAreaRight" b="textAreaBottom"/>
            <a:pathLst>
              <a:path w="21600" h="109243">
                <a:moveTo>
                  <a:pt x="189" y="0"/>
                </a:moveTo>
                <a:arcTo wR="189" hR="189" stAng="16200000" swAng="-5400000"/>
                <a:lnTo>
                  <a:pt x="0" y="109054"/>
                </a:lnTo>
                <a:arcTo wR="189" hR="189" stAng="10800000" swAng="-5400000"/>
                <a:lnTo>
                  <a:pt x="21411" y="109243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168560"/>
            <a:ext cx="181080" cy="917280"/>
          </a:xfrm>
          <a:custGeom>
            <a:avLst/>
            <a:gdLst>
              <a:gd name="textAreaLeft" fmla="*/ 360 w 181080"/>
              <a:gd name="textAreaRight" fmla="*/ 180720 w 181080"/>
              <a:gd name="textAreaTop" fmla="*/ 360 h 917280"/>
              <a:gd name="textAreaBottom" fmla="*/ 916920 h 917280"/>
            </a:gdLst>
            <a:ahLst/>
            <a:rect l="textAreaLeft" t="textAreaTop" r="textAreaRight" b="textAreaBottom"/>
            <a:pathLst>
              <a:path w="21600" h="109243">
                <a:moveTo>
                  <a:pt x="189" y="0"/>
                </a:moveTo>
                <a:arcTo wR="189" hR="189" stAng="16200000" swAng="-5400000"/>
                <a:lnTo>
                  <a:pt x="0" y="109054"/>
                </a:lnTo>
                <a:arcTo wR="189" hR="189" stAng="10800000" swAng="-5400000"/>
                <a:lnTo>
                  <a:pt x="21411" y="109243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760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LIVERPOO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760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LIVERPOO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664000" y="3252960"/>
            <a:ext cx="4863960" cy="2939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760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LIVERPOO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2914560" y="2808360"/>
          <a:ext cx="4357800" cy="2579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14560" y="2808360"/>
                    <a:ext cx="4357800" cy="257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760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LIVERPOO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2808360" y="2778120"/>
          <a:ext cx="4570200" cy="2981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08360" y="2778120"/>
                    <a:ext cx="4570200" cy="298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760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LIVERPOO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2898720" y="3024360"/>
          <a:ext cx="4229280" cy="296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8720" y="3024360"/>
                    <a:ext cx="4229280" cy="296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760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LIVERPOO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2781360" y="3191040"/>
          <a:ext cx="4564080" cy="307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81360" y="3191040"/>
                    <a:ext cx="4564080" cy="307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760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LIVERPOO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2376360" y="2819520"/>
          <a:ext cx="5438880" cy="3227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6360" y="2819520"/>
                    <a:ext cx="5438880" cy="322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760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LIVERPOO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2879640" y="2664000"/>
            <a:ext cx="4824360" cy="352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760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LIVERPOO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2303640" y="2664000"/>
            <a:ext cx="4895640" cy="37432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23T21:00:32Z</dcterms:created>
  <dc:creator>demmer anne</dc:creator>
  <dc:description>Arrière-plan gris et couleurs froides</dc:description>
  <dc:language>en-US</dc:language>
  <cp:lastModifiedBy/>
  <cp:revision>1</cp:revision>
  <dc:subject/>
  <dc:title>Mer de glace</dc:title>
</cp:coreProperties>
</file>