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FDD-CCBB-4925-9A01-DD231F18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70A-0375-4175-9D68-AFE01EE0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13F4-1139-4D90-865A-C91F0309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4B3-BA88-44BA-A767-5D3985FA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2CA-95CD-4AE2-BFDE-ABAA3B45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4D0A-EF1D-4C10-BB8D-24EE0D77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1C9-80CC-4693-BC35-0C1AE70F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36A-906A-4D31-B3C5-F5A18F2D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9D5-742B-4683-A1E0-06B51B52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E4D-5B3A-45E0-92AA-9B5443F0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0139-5DA8-4FFA-9FA5-05EDCE57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49E-54C0-4233-8E5A-9511AAB4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F6E78-D7E9-4408-B313-BF8AFE22FBE3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0480" y="1832040"/>
            <a:ext cx="7067520" cy="4667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he Statue of Liberty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incoln Center for Performing Arts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35640" y="3456000"/>
            <a:ext cx="576000" cy="57636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4720" y="2448000"/>
            <a:ext cx="576360" cy="57636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00360" y="1440000"/>
            <a:ext cx="1871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3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round zero site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08000" y="3527280"/>
            <a:ext cx="720720" cy="72072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00360" y="1440000"/>
            <a:ext cx="1871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3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nter Park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24000" y="4967280"/>
            <a:ext cx="576360" cy="57636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6360" y="1800360"/>
            <a:ext cx="7067520" cy="4667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rooklyn Bridge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88000" y="2952720"/>
            <a:ext cx="720720" cy="64764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he MOMA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6360" y="5832360"/>
            <a:ext cx="576360" cy="57636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he Empire State Building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48360" y="3527280"/>
            <a:ext cx="576360" cy="57636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he United Nations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84720" y="4032360"/>
            <a:ext cx="576000" cy="57600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ime square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6360" y="4464000"/>
            <a:ext cx="576000" cy="57636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rnegie Hall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17760" y="3956040"/>
            <a:ext cx="576360" cy="57636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7T14:55:45Z</dcterms:created>
  <dc:creator>demmer anne</dc:creator>
  <dc:description/>
  <dc:language>en-US</dc:language>
  <cp:lastModifiedBy/>
  <cp:revision>1</cp:revision>
  <dc:subject/>
  <dc:title/>
</cp:coreProperties>
</file>