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89CD-5A97-4B25-9F26-0B9B79BB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D43-8322-45D8-BD2C-AF553954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4F1F-F40D-4292-929C-AF7BCB89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E5A8-D4CE-4DB8-8215-F4E810B7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164C-A448-4936-9944-7487D5E6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A8A1-E1B8-4CEE-97C9-15DB5F1E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DFC4-0C4D-469D-88F6-69BFECFF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A82C-3D8D-46CF-93B0-31983C40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BBF7-91D5-4512-84B0-FDBB41CF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53D-7EA1-46AB-A829-CCF7CFE5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70D1-F352-4C56-AF39-4182FF92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1723-001A-44F1-9F50-5A21FE44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F5730-3949-4852-B867-3C07520A7955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ow well do you know Manhattan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90480" y="1832040"/>
            <a:ext cx="7067520" cy="4667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00360" y="1440000"/>
            <a:ext cx="1871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HERE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0" y="6675480"/>
            <a:ext cx="8640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he Statue of Liberty 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ow well do you know Manhattan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36480" y="1884240"/>
            <a:ext cx="7067520" cy="4667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600360" y="1440000"/>
            <a:ext cx="1871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HERE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0" y="6675480"/>
            <a:ext cx="8640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incoln Center for Performing Arts 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35640" y="3456000"/>
            <a:ext cx="576000" cy="576360"/>
          </a:xfrm>
          <a:prstGeom prst="star5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ow well do you know Manhattan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36480" y="1884240"/>
            <a:ext cx="7067520" cy="4667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600360" y="1440000"/>
            <a:ext cx="1871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HERE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84720" y="2448000"/>
            <a:ext cx="576360" cy="576360"/>
          </a:xfrm>
          <a:prstGeom prst="star5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ow well do you know Manhattan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6480" y="1884240"/>
            <a:ext cx="7067520" cy="4667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00360" y="1440000"/>
            <a:ext cx="1871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3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WHERE IS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0" y="6675480"/>
            <a:ext cx="8640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round zero site 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08000" y="3527280"/>
            <a:ext cx="720720" cy="720720"/>
          </a:xfrm>
          <a:prstGeom prst="star5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ow well do you know Manhattan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36480" y="1884240"/>
            <a:ext cx="7067520" cy="4667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00360" y="1440000"/>
            <a:ext cx="1871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3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WHERE IS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0" y="6675480"/>
            <a:ext cx="8640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enter Park 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24000" y="4967280"/>
            <a:ext cx="576360" cy="576360"/>
          </a:xfrm>
          <a:prstGeom prst="star5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ow well do you know Manhattan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76360" y="1800360"/>
            <a:ext cx="7067520" cy="4667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00360" y="1440000"/>
            <a:ext cx="1871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HERE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0" y="6675480"/>
            <a:ext cx="8640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rooklyn Bridge 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88000" y="2952720"/>
            <a:ext cx="720720" cy="647640"/>
          </a:xfrm>
          <a:prstGeom prst="star5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ow well do you know Manhattan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6480" y="1884240"/>
            <a:ext cx="7067520" cy="4667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600360" y="1440000"/>
            <a:ext cx="1871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HERE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0" y="6675480"/>
            <a:ext cx="8640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he MOMA 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76360" y="5832360"/>
            <a:ext cx="576360" cy="576360"/>
          </a:xfrm>
          <a:prstGeom prst="star5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ow well do you know Manhattan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36480" y="1884240"/>
            <a:ext cx="7067520" cy="4667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600360" y="1440000"/>
            <a:ext cx="1871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HERE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0" y="6675480"/>
            <a:ext cx="8640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he Empire State Building 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48360" y="3527280"/>
            <a:ext cx="576360" cy="576360"/>
          </a:xfrm>
          <a:prstGeom prst="star5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ow well do you know Manhattan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6480" y="1884240"/>
            <a:ext cx="7067520" cy="4667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600360" y="1440000"/>
            <a:ext cx="1871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HERE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0" y="6675480"/>
            <a:ext cx="8640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he United Nations 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84720" y="4032360"/>
            <a:ext cx="576000" cy="576000"/>
          </a:xfrm>
          <a:prstGeom prst="star5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ow well do you know Manhattan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36480" y="1884240"/>
            <a:ext cx="7067520" cy="4667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600360" y="1440000"/>
            <a:ext cx="1871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HERE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0" y="6675480"/>
            <a:ext cx="8640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ime square 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56360" y="4464000"/>
            <a:ext cx="576000" cy="576360"/>
          </a:xfrm>
          <a:prstGeom prst="star5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ow well do you know Manhattan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36480" y="1884240"/>
            <a:ext cx="7067520" cy="4667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600360" y="1440000"/>
            <a:ext cx="1871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HERE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0" y="6675480"/>
            <a:ext cx="8640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rnegie Hall 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17760" y="3956040"/>
            <a:ext cx="576360" cy="576360"/>
          </a:xfrm>
          <a:prstGeom prst="star5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7T14:55:45Z</dcterms:created>
  <dc:creator>demmer anne</dc:creator>
  <dc:description/>
  <dc:language>en-US</dc:language>
  <cp:lastModifiedBy/>
  <cp:revision>1</cp:revision>
  <dc:subject/>
  <dc:title/>
</cp:coreProperties>
</file>