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28E-30C5-4C4E-9B0E-D58C44B4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7BA-70B9-4BD0-B0B2-10CF1E32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060-50E7-43B2-B22F-4D325ECC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17A-A0E4-439D-BA3B-3F9B4C84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7A0E-D4C2-4FAD-8539-C5B35C39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CF11-D5E0-40D2-BA6D-2579DBE4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03EC-766F-4152-81CD-2C7A3276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8A2A-C4B7-4F6B-A46F-EED23E93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DCD6-6B06-43B8-8457-8399704E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3C10-50A8-4DA0-A503-107899D8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7997-30D2-4EFA-8E48-DAB38DBD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06E-9921-4F7A-9FEE-C25524D3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F4CE-F809-4340-8742-DCDEAB92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CDE2-DF0F-4AA4-8BAC-0B710ECE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99B8-3658-4F59-AFAA-E9B0F2A0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321E-31F2-4EA8-B3E1-35728C57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9511-6898-4D15-80EA-9D2C20A2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82C-52D7-41E8-AB9F-841CCE59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5C0-59C5-477B-9C66-9EDA91D2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115-E384-4E7A-B013-E6946E1E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E71-D5DD-4735-85F0-863D899E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838-9DAD-478D-A9C3-DE4149B2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F82-8EFE-4141-9FA8-9208E7BB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047-5AFE-4575-95CB-C2CC3336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3560" cy="5940360"/>
            <a:chOff x="228600" y="228600"/>
            <a:chExt cx="8683560" cy="594036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3560" cy="5940360"/>
            </a:xfrm>
            <a:prstGeom prst="rect">
              <a:avLst/>
            </a:prstGeom>
            <a:solidFill>
              <a:srgbClr val="000000"/>
            </a:solidFill>
            <a:ln cap="sq"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6600" cy="5767560"/>
            </a:xfrm>
            <a:prstGeom prst="rect">
              <a:avLst/>
            </a:prstGeom>
            <a:solidFill>
              <a:srgbClr val="00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0040" cy="0"/>
            </a:xfrm>
            <a:prstGeom prst="line">
              <a:avLst/>
            </a:prstGeom>
            <a:ln cap="sq"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73040"/>
            <a:ext cx="8150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160" y="1828800"/>
            <a:ext cx="815004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624816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56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4E51E-E7AE-41C0-813F-DBDC77D0C79E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4840" cy="5559480"/>
            <a:chOff x="380880" y="457200"/>
            <a:chExt cx="8394840" cy="555948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4840" cy="5559480"/>
            </a:xfrm>
            <a:prstGeom prst="rect">
              <a:avLst/>
            </a:prstGeom>
            <a:solidFill>
              <a:srgbClr val="000000"/>
            </a:solidFill>
            <a:ln cap="sq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6360" cy="5406840"/>
            </a:xfrm>
            <a:prstGeom prst="rect">
              <a:avLst/>
            </a:prstGeom>
            <a:noFill/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1960" cy="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6778440" cy="25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400" y="6248160"/>
            <a:ext cx="2051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160"/>
            <a:ext cx="28846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7800" y="625752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FCC185-1406-4B15-B0CB-40CA9FE2B3BF}" type="slidenum">
              <a:rPr b="0" lang="fr-FR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7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19320" y="838080"/>
            <a:ext cx="67816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200" spc="-1" strike="noStrike">
                <a:solidFill>
                  <a:srgbClr val="333333"/>
                </a:solidFill>
                <a:latin typeface="Arial"/>
                <a:ea typeface="Lucida Sans Unicode"/>
              </a:rPr>
              <a:t>Slavery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Slavery in the Colonies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New England colonies : no large plantation systems.</a:t>
            </a:r>
            <a:br>
              <a:rPr sz="2900"/>
            </a:b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Slaves lived in cities and small far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Chesapeake Bay colonies : large tobacco plantations.</a:t>
            </a:r>
            <a:br>
              <a:rPr sz="2900"/>
            </a:b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centre of the domestic slave trad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Carolina and Georgia : large rice and cotton plant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The Effects of the American Revolution and the Constitution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Gradual abolition of slavery in the northern colon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End of the Atlantic Slave Trade in 18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Entrenchment of slavery in the South with the invention of the cotton gin in 1793 by Eli Whitn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Life of a Slav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04280" indent="-30456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st slaves had Sundays off and they went to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280" indent="-30456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st slaves could not read or write, and it was illegal for them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lave Codes : They could not...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leave their home without a pas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carry a weap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gather in groups 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own property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marry legally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defend themselves against a white person, or speak in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Resistanc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52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100" spc="-1" strike="noStrike">
                <a:solidFill>
                  <a:srgbClr val="333333"/>
                </a:solidFill>
                <a:latin typeface="Arial"/>
              </a:rPr>
              <a:t>Flight</a:t>
            </a:r>
            <a:r>
              <a:rPr b="0" lang="fr-FR" sz="2100" spc="-1" strike="noStrike">
                <a:solidFill>
                  <a:srgbClr val="333333"/>
                </a:solidFill>
                <a:latin typeface="Arial"/>
              </a:rPr>
              <a:t> : Slaves would runaw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52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100" spc="-1" strike="noStrike">
                <a:solidFill>
                  <a:srgbClr val="333333"/>
                </a:solidFill>
                <a:latin typeface="Arial"/>
              </a:rPr>
              <a:t>Truancy</a:t>
            </a:r>
            <a:r>
              <a:rPr b="0" lang="fr-FR" sz="2100" spc="-1" strike="noStrike">
                <a:solidFill>
                  <a:srgbClr val="333333"/>
                </a:solidFill>
                <a:latin typeface="Arial"/>
              </a:rPr>
              <a:t> : Flight for a short amount of time and then the slave came ba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52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100" spc="-1" strike="noStrike">
                <a:solidFill>
                  <a:srgbClr val="333333"/>
                </a:solidFill>
                <a:latin typeface="Arial"/>
              </a:rPr>
              <a:t>Refusal to reproduce</a:t>
            </a:r>
            <a:r>
              <a:rPr b="0" lang="fr-FR" sz="2100" spc="-1" strike="noStrike">
                <a:solidFill>
                  <a:srgbClr val="333333"/>
                </a:solidFill>
                <a:latin typeface="Arial"/>
              </a:rPr>
              <a:t> : Women refused to have childr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52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100" spc="-1" strike="noStrike">
                <a:solidFill>
                  <a:srgbClr val="333333"/>
                </a:solidFill>
                <a:latin typeface="Arial"/>
              </a:rPr>
              <a:t>Covert Action</a:t>
            </a:r>
            <a:r>
              <a:rPr b="0" lang="fr-FR" sz="2100" spc="-1" strike="noStrike">
                <a:solidFill>
                  <a:srgbClr val="333333"/>
                </a:solidFill>
                <a:latin typeface="Arial"/>
              </a:rPr>
              <a:t> : Slaves would sometimes kill animals, destroy crops, start fires, steal stuff, break tools or poison foo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Violenc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4 major slave revolts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Stono Rebellion : failed revolt in South Carolina in 173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Gabriel Prosser : led failed revolt in Virginia in 18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Denmark Vessey : led failed revolt in South Carolina in 18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Nat Turner : killed 60 white people in Virginia in 183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Punishmen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Slaves were often brutally punished for misbehav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Punishments included:  whipping, branding, being sold, being gagged, etc... Other violent methods were us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6480" y="3916080"/>
            <a:ext cx="4000320" cy="1950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11640" y="2573280"/>
            <a:ext cx="32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477120" y="304920"/>
            <a:ext cx="1465200" cy="18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Compromise of 1850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California is admitted to the Union (United States) as a free sta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Utah and New Mexico territories are created - no mention of slavery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Outlaws slave trade in Washington, D.C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Fugitive Slave Act - requires northerners to return escaped slaves to mas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The Dred Scott Decision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red Scott was a slave who was taken to a free territory by his owner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He sued for his freedom because he lived in the free territor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His case went all the way to the Supreme Court, where Scott lost because he was not considered a citizen, thus could not sue in federal court.  (He was considered as “property” and could be taken anywhere by his 'owner'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Election of 1860 and the Start of the Civil War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Abraham Lincoln was elected president in 1860 without any southern electoral v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Many southern states quickly seceded from the Union, South Carolina leading the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Southern troops fired upon Fort Sumter, starting the Civil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North fought to preserve the Union, while the South fought to preserve sla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2674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The Civil War and the Emancipation Proclamation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Early in the war, Lincoln began to think about ending slavery in the South to help end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On September 22, 1862 he issued the Emancipation Proclamation which declared an end to slavery in the states in rebellion on January 1, 186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What did it do?  Nothing.  It only freed slaves in the states that had sec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21360" y="1828800"/>
            <a:ext cx="31287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Capture and the Middle Passag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After capture, Africans were packed tightly into slave ship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666666"/>
                </a:solidFill>
                <a:latin typeface="Arial"/>
              </a:rPr>
              <a:t>The death rate of the “passengers” was 50%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End of the Civil War and the 13</a:t>
            </a:r>
            <a:r>
              <a:rPr b="1" lang="fr-FR" sz="4000" spc="-1" strike="noStrike" baseline="30000">
                <a:solidFill>
                  <a:srgbClr val="333333"/>
                </a:solidFill>
                <a:latin typeface="Arial"/>
              </a:rPr>
              <a:t>th</a:t>
            </a: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 Amendmen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5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300" spc="-1" strike="noStrike">
                <a:solidFill>
                  <a:srgbClr val="333333"/>
                </a:solidFill>
                <a:latin typeface="Arial"/>
              </a:rPr>
              <a:t>The South lost, and the states were forced to accept the 13</a:t>
            </a:r>
            <a:r>
              <a:rPr b="0" lang="fr-FR" sz="2300" spc="-1" strike="noStrike" baseline="30000">
                <a:solidFill>
                  <a:srgbClr val="333333"/>
                </a:solidFill>
                <a:latin typeface="Arial"/>
              </a:rPr>
              <a:t>th</a:t>
            </a:r>
            <a:r>
              <a:rPr b="0" lang="fr-FR" sz="2300" spc="-1" strike="noStrike">
                <a:solidFill>
                  <a:srgbClr val="333333"/>
                </a:solidFill>
                <a:latin typeface="Arial"/>
              </a:rPr>
              <a:t> Amendment to the Constitution before they could be readmitted into the Un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5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300" spc="-1" strike="noStrike">
                <a:solidFill>
                  <a:srgbClr val="333333"/>
                </a:solidFill>
                <a:latin typeface="Arial"/>
              </a:rPr>
              <a:t>The 13</a:t>
            </a:r>
            <a:r>
              <a:rPr b="0" lang="fr-FR" sz="2300" spc="-1" strike="noStrike" baseline="30000">
                <a:solidFill>
                  <a:srgbClr val="333333"/>
                </a:solidFill>
                <a:latin typeface="Arial"/>
              </a:rPr>
              <a:t>th</a:t>
            </a:r>
            <a:r>
              <a:rPr b="0" lang="fr-FR" sz="2300" spc="-1" strike="noStrike">
                <a:solidFill>
                  <a:srgbClr val="333333"/>
                </a:solidFill>
                <a:latin typeface="Arial"/>
              </a:rPr>
              <a:t> Amendment abolished slavery in the United Sta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5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300" spc="-1" strike="noStrike">
                <a:solidFill>
                  <a:srgbClr val="333333"/>
                </a:solidFill>
                <a:latin typeface="Arial"/>
              </a:rPr>
              <a:t>It was ratified in 1865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The End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1640" y="2664000"/>
            <a:ext cx="84232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"/>
                <a:ea typeface="Lucida Sans Unicode"/>
              </a:rPr>
              <a:t>Adapted from :</a:t>
            </a:r>
            <a:br>
              <a:rPr sz="2400"/>
            </a:br>
            <a:r>
              <a:rPr b="1" lang="fr-FR" sz="2400" spc="-1" strike="noStrike">
                <a:solidFill>
                  <a:srgbClr val="333333"/>
                </a:solidFill>
                <a:latin typeface="Arial"/>
                <a:ea typeface="Lucida Sans Unicode"/>
              </a:rPr>
              <a:t>teachinghistory.ua.edu/resources/ppt/Slavery.p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  <a:ea typeface="Lucida Sans Unicode"/>
              </a:rPr>
              <a:t>The triangular tra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71520" y="1944720"/>
            <a:ext cx="708048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7636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  <a:ea typeface="Lucida Sans Unicode"/>
              </a:rPr>
              <a:t>Destination and A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3280" y="1800360"/>
            <a:ext cx="835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st Africans landed in Brazil, the other were taken to North Americ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Lucida Sans Unicode"/>
              </a:rPr>
              <a:t>Slaves were auctioned off to the highest bidd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86120" y="3622680"/>
            <a:ext cx="528624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0360" y="1596960"/>
            <a:ext cx="87836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666666"/>
                </a:solidFill>
                <a:latin typeface="Arial"/>
              </a:rPr>
              <a:t>Slaves were put through the process of “seasoning".  It took between one and four years to get them ready for work. They were taught a European language, were given a  European name, and were shown labour requireme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6360" y="36036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  <a:ea typeface="Lucida Sans Unicode"/>
              </a:rPr>
              <a:t> </a:t>
            </a:r>
            <a:r>
              <a:rPr b="1" lang="fr-FR" sz="4000" spc="-1" strike="noStrike">
                <a:solidFill>
                  <a:srgbClr val="333333"/>
                </a:solidFill>
                <a:latin typeface="Arial"/>
                <a:ea typeface="Lucida Sans Unicode"/>
              </a:rPr>
              <a:t>Seas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79640" y="3311640"/>
            <a:ext cx="3659400" cy="2663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0360" y="5985000"/>
            <a:ext cx="8207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666666"/>
                </a:solidFill>
                <a:latin typeface="Arial"/>
              </a:rPr>
              <a:t>Estimated mortality rates during this process varied from 7% to 50%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The Beginnings of Slavery in the United States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1280" y="2087640"/>
            <a:ext cx="4000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5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300" spc="-1" strike="noStrike">
                <a:solidFill>
                  <a:srgbClr val="666666"/>
                </a:solidFill>
                <a:latin typeface="Arial"/>
              </a:rPr>
              <a:t>The Portuguese and Spanish had already brought Africans to South and Latin Americ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5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300" spc="-1" strike="noStrike">
                <a:solidFill>
                  <a:srgbClr val="666666"/>
                </a:solidFill>
                <a:latin typeface="Arial"/>
              </a:rPr>
              <a:t>In 1619, the first Africans were brought to Jamestown (Virginia) by the Dutc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2016000"/>
            <a:ext cx="3708360" cy="40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Why Not Enslave the Native Population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ative Americans were highly likely to catch European dis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y were familiar with the terrain and could escape eas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y had political allies that could fight against the “owner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me of them adopted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lack slav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84720" y="3227400"/>
            <a:ext cx="2519280" cy="33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33"/>
                </a:solidFill>
                <a:latin typeface="Arial"/>
              </a:rPr>
              <a:t>Reasons for Using Enslaved African Labor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ximity : It only took about 12 weeks to get to the colonies from the African coa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xperience : Black slaves had previous experience and knowledge working in sugar and rice prod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hysical strength and resistance : They were used to working in difficult weather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mmunity from diseases : They were less likely to get sick due to prolonged contact with Europeans over centu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75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ow escape possibilities : They did not know the land, had no allies, and were highly visible because of their skin col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333333"/>
                </a:solidFill>
                <a:latin typeface="Arial"/>
              </a:rPr>
              <a:t>Anthony Johnson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He was an African brought to the colonies in the 1620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He obtained his freedom, and purchased 250 acres of land in Virginia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He owned at least one slave and white indentured servan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74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This shows that blacks were not thought of strictly as slaves until the 1660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11:35Z</dcterms:created>
  <dc:creator>gr-lab</dc:creator>
  <dc:description/>
  <dc:language>en-US</dc:language>
  <cp:lastModifiedBy>gr-lab</cp:lastModifiedBy>
  <dcterms:modified xsi:type="dcterms:W3CDTF">2005-02-04T00:33:33Z</dcterms:modified>
  <cp:revision>3</cp:revision>
  <dc:subject/>
  <dc:title>Slavery</dc:title>
</cp:coreProperties>
</file>