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BFF-2B74-4F5E-BC18-4788DCBC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5A0-BB8C-438D-ABCD-30F1C8F5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4E-AA63-47A3-933B-981194B3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597-2682-4B72-8A1D-934C45B1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0A87-108C-444A-8D84-FCB611F6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7765-291E-4555-869D-B89A4795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A72-3AAA-454A-BE21-C25958B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92F-FAF3-48A0-AE59-880AAD0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D0EF-4DB8-439D-AA4B-621C550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EF9-9FBA-4DAC-BA89-78BDDBD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01E-B844-42AC-819C-23B70E8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F8E-791F-41B9-BADF-9A2CCC3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4CDC-F94F-4C1A-85E4-7123FCF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BD0-1330-44FC-B549-B05C45F9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A42-7155-48DF-A24E-0036839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6E76-D9C4-4FCB-927D-5B47D66F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743D-01EC-474D-A25C-0586A29B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CE9-D7C5-4A68-9012-14713B11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483-7D01-4ECC-BC28-D666802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DC4-909F-4E04-AE8C-4EC12B39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38B-7852-4C3B-9FB2-C7A4D7D7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16B-2CFE-4C50-B10D-49F3E85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F00-8582-4506-BD07-5B626C37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B93-69C7-493D-9615-FAC1D4C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3560" cy="5940360"/>
            <a:chOff x="228600" y="228600"/>
            <a:chExt cx="8683560" cy="594036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3560" cy="5940360"/>
            </a:xfrm>
            <a:prstGeom prst="rect">
              <a:avLst/>
            </a:prstGeom>
            <a:solidFill>
              <a:srgbClr val="000000"/>
            </a:solidFill>
            <a:ln cap="sq"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6600" cy="57675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0040" cy="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73040"/>
            <a:ext cx="815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16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5B3E8-B0DA-4074-9540-F77BE98FC57C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4840" cy="5559480"/>
            <a:chOff x="380880" y="457200"/>
            <a:chExt cx="8394840" cy="555948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4840" cy="5559480"/>
            </a:xfrm>
            <a:prstGeom prst="rect">
              <a:avLst/>
            </a:prstGeom>
            <a:solidFill>
              <a:srgbClr val="000000"/>
            </a:solidFill>
            <a:ln cap="sq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6360" cy="5406840"/>
            </a:xfrm>
            <a:prstGeom prst="rect">
              <a:avLst/>
            </a:prstGeom>
            <a:noFill/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1960" cy="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677844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400" y="6248160"/>
            <a:ext cx="2051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160"/>
            <a:ext cx="2884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7800" y="625752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8F78F1-1DAA-405E-8B80-0270828F61B9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838080"/>
            <a:ext cx="67816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200" spc="-1" strike="noStrike">
                <a:solidFill>
                  <a:srgbClr val="333333"/>
                </a:solidFill>
                <a:latin typeface="Arial"/>
                <a:ea typeface="Lucida Sans Unicode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Slavery in the Colonies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New England colonies : no large plantation systems.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Slaves lived in cities and small far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hesapeake Bay colonies : large tobacco plantations.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entre of the domestic slave tra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arolina and Georgia : large rice and cotton plant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Effects of the American Revolution and the Constitution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Life of a Slav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4280" indent="-30456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laves had Sundays off and they went to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laves could not read or write, and it was illegal for them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lave Codes : They could not..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eave their home without a pas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arry a weap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gather in groups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own property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marry legally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defend themselves against a white person, or speak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Resistanc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Flight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Slaves would runaw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Truancy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Flight for a short amount of time and then the slave came 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Refusal to reproduce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Women refused to have childr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Covert Action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Slaves would sometimes kill animals, destroy crops, start fires, steal stuff, break tools or poison fo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Violenc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4 major slave revolts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tono Rebellion : failed revolt in South Carolina in 173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Gabriel Prosser : led failed revolt in Virginia in 18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enmark Vessey : led failed revolt in South Carolina in 18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Nat Turner : killed 60 white people in Virginia in 183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Punishmen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Punishments included:  whipping, branding, being sold, being gagged, etc... Other violent methods were u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6480" y="3916080"/>
            <a:ext cx="4000320" cy="1950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11640" y="2573280"/>
            <a:ext cx="32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Compromise of 1850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alifornia is admitted to the Union (United States) as a free st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Utah and New Mexico territories are created - no mention of slaver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Outlaws slave trade in Washington, D.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Fugitive Slave Act - requires northerners to return escaped slaves to mas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The Dred Scott Decision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His case went all the way to the Supreme Court, where Scott lost because he was not considered a citizen, thus could not sue in federal court.  (He was considered as “property” and could be taken anywhere by his 'owner'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Election of 1860 and the Start of the Civil Wa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Civil War and the Emancipation Proclamation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Capture and the Middle Passag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End of the Civil War and the 13</a:t>
            </a:r>
            <a:r>
              <a:rPr b="1" lang="fr-FR" sz="40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 Amendmen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The South lost, and the states were forced to accept the 13</a:t>
            </a:r>
            <a:r>
              <a:rPr b="0" lang="fr-FR" sz="23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The 13</a:t>
            </a:r>
            <a:r>
              <a:rPr b="0" lang="fr-FR" sz="23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 Amendment abolished slavery in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The End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1640" y="2664000"/>
            <a:ext cx="8423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Adapted from :</a:t>
            </a:r>
            <a:br>
              <a:rPr sz="2400"/>
            </a:br>
            <a:r>
              <a:rPr b="1" lang="fr-FR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teachinghistory.ua.edu/resources/ppt/Slavery.p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  <a:ea typeface="Lucida Sans Unicode"/>
              </a:rPr>
              <a:t>The triangular tr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71520" y="1944720"/>
            <a:ext cx="70804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63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Destination and A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80" y="1800360"/>
            <a:ext cx="83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st Africans landed in Brazil, the other were taken to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6120" y="3622680"/>
            <a:ext cx="528624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0360" y="1596960"/>
            <a:ext cx="87836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666666"/>
                </a:solidFill>
                <a:latin typeface="Arial"/>
              </a:rPr>
              <a:t>Slaves were put through the process of “seasoning".  It took between one and four years to get them ready for work. They were taught a European language, were given a  European name, and were shown labour require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360" y="36036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Seas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79640" y="3311640"/>
            <a:ext cx="3659400" cy="266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0360" y="5985000"/>
            <a:ext cx="8207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666666"/>
                </a:solidFill>
                <a:latin typeface="Arial"/>
              </a:rPr>
              <a:t>Estimated mortality rates during this process varied from 7% to 50%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Beginnings of Slavery in the United Stat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280" y="208764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666666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666666"/>
                </a:solidFill>
                <a:latin typeface="Arial"/>
              </a:rPr>
              <a:t>In 1619, the first Africans were brought to Jamestown (Virginia) by the Dut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2016000"/>
            <a:ext cx="3708360" cy="40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Why Not Enslave the Native Population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ve Americans were highly likely to catch European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were familiar with the terrain and could escape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had political allies that could fight against the “owne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e of them adopted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lack sl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4720" y="3227400"/>
            <a:ext cx="251928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Reasons for Using Enslaved African Labo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ximity : It only took about 12 weeks to get to the colonies from the African coa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erience : Black slaves had previous experience and knowledge working in sugar and rice prod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ysical strength and resistance : They were used to working in difficult weather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mmunity from diseases : They were less likely to get sick due to prolonged contact with Europeans over centu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w escape possibilities : They did not know the land, had no allies, and were highly visible because of their skin co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Anthony Johnson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was an African brought to the colonies in the 1620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obtained his freedom, and purchased 250 acres of land in Virginia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owned at least one slave and white indentured serva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This shows that blacks were not thought of strictly as slaves until the 1660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gr-lab</cp:lastModifiedBy>
  <dcterms:modified xsi:type="dcterms:W3CDTF">2005-02-04T00:33:33Z</dcterms:modified>
  <cp:revision>3</cp:revision>
  <dc:subject/>
  <dc:title>Slavery</dc:title>
</cp:coreProperties>
</file>