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C6D4-B854-489D-A151-640B0305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AAD5-A3BE-46F4-8EAD-3C6451A6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6F24-519F-4BA0-A8C6-684C4277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77B-3A60-4C2A-8266-DA5B6D70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7B17-F73E-45C5-8AA1-FC50DC84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8FD3-93FC-42C4-B050-E8DD1BFA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A33F-997F-4213-BED0-155B4F52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7AF2-BB4E-48AE-ACDD-48AE60C7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D43-5DDF-4BFF-85C9-603F97CC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3247-5564-4994-B265-C7431264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316-72A9-4D15-9465-33688E20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7BEF-0381-47C7-BE72-258B81D9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0D6EC-F949-4302-B1A0-D149C774919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QUEEN P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mie Reid (born 1947)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English artist and anarchist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48000" y="503280"/>
            <a:ext cx="5400720" cy="59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84360" y="1871640"/>
            <a:ext cx="7128000" cy="488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20720" y="277920"/>
            <a:ext cx="921528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0720" y="1730520"/>
            <a:ext cx="9215280" cy="49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511280" y="1871640"/>
            <a:ext cx="7201080" cy="488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11400" y="1927080"/>
            <a:ext cx="3959280" cy="48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11400" y="1927080"/>
            <a:ext cx="3959280" cy="4815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40000" y="2087640"/>
            <a:ext cx="3456000" cy="453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240000" y="2087640"/>
            <a:ext cx="3527640" cy="45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1768320"/>
            <a:ext cx="7848360" cy="498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5T17:08:39Z</dcterms:created>
  <dc:creator>demmer anne</dc:creator>
  <dc:description/>
  <dc:language>en-US</dc:language>
  <cp:lastModifiedBy/>
  <cp:revision>1</cp:revision>
  <dc:subject/>
  <dc:title/>
</cp:coreProperties>
</file>