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274-C9E4-408B-A427-7D0E7B1A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B76-56D5-43D1-B82A-84B76275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CC4-279C-4940-BC13-CA2A9F87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C1A-8B10-4C3C-9943-17CB3DAC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953-C573-4E81-97E6-7CB19740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35F-E21C-4EFD-B3C4-6742C9A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54A-0C69-4B80-822C-80DFEA39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528-5DFC-4125-A17E-AD37D32E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533-E50E-4198-82BA-174B87D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243-E132-413E-B7D1-BDC8C76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D13-FADC-4A10-81B2-CB535D3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475-2B88-402B-A247-A6869AE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EA1C-4163-4D6E-BEF1-59EBEF2DE6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QUEEN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ie Reid (born 1947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English artist and anarchis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48000" y="503280"/>
            <a:ext cx="540072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84360" y="1871640"/>
            <a:ext cx="7128000" cy="488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0720" y="277920"/>
            <a:ext cx="92152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1730520"/>
            <a:ext cx="92152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11280" y="1871640"/>
            <a:ext cx="7201080" cy="48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11400" y="1927080"/>
            <a:ext cx="395928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11400" y="1927080"/>
            <a:ext cx="3959280" cy="48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0" y="2087640"/>
            <a:ext cx="3456000" cy="45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40000" y="2087640"/>
            <a:ext cx="352764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1768320"/>
            <a:ext cx="7848360" cy="498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7:08:39Z</dcterms:created>
  <dc:creator>demmer anne</dc:creator>
  <dc:description/>
  <dc:language>en-US</dc:language>
  <cp:lastModifiedBy/>
  <cp:revision>1</cp:revision>
  <dc:subject/>
  <dc:title/>
</cp:coreProperties>
</file>