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477-EFC7-4902-890B-BB08CA37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689-A2A9-4F9D-B769-4F805108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053-2236-4C06-B4B0-5F4A78E9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40F1-556E-44E2-AD1D-A98324B2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9DA6-B44D-4B57-BE06-EC9984A7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876-75AF-47C4-848B-0C8888E9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AE41-1102-4F0F-89DF-A837E37B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6599-5416-4187-981F-91CE3374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F82-EBE2-45A1-9829-953F0120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A8A6-7E81-4B7F-9266-6A1D30C6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CA4-1491-4CB0-BDA5-5977599F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06F-95A2-45AC-ACEF-FF1B9A9E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8DE77-2B8C-4C95-A093-F9BCC69F5D82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rms of cyberbul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60720" y="1800360"/>
            <a:ext cx="5533920" cy="3168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00360" y="5629320"/>
            <a:ext cx="4608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PPY-SL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rms of cyberbul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00360" y="5629320"/>
            <a:ext cx="4608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L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35280" y="1811160"/>
            <a:ext cx="4303800" cy="29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rms of cyberbul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00360" y="5629320"/>
            <a:ext cx="4608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08360" y="2355840"/>
            <a:ext cx="4232160" cy="23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rms of cyberbul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00360" y="5629320"/>
            <a:ext cx="4608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RWARDING A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14680" y="2085840"/>
            <a:ext cx="3187800" cy="34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rms of cyberbul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56000" y="5616720"/>
            <a:ext cx="4608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HOTOSH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08360" y="2263680"/>
            <a:ext cx="4125960" cy="30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rms of cyberbul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27280" y="5629320"/>
            <a:ext cx="4608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OSSIP / RUMOUR SPREA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4000" y="2344680"/>
            <a:ext cx="4895640" cy="29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rms of bul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43280" y="5629320"/>
            <a:ext cx="4608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DENTITY TH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86080" y="1863720"/>
            <a:ext cx="4815000" cy="35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3T22:13:42Z</dcterms:created>
  <dc:creator/>
  <dc:description/>
  <dc:language>en-US</dc:language>
  <cp:lastModifiedBy/>
  <dcterms:modified xsi:type="dcterms:W3CDTF">2018-01-13T23:00:06Z</dcterms:modified>
  <cp:revision>1</cp:revision>
  <dc:subject/>
  <dc:title/>
</cp:coreProperties>
</file>