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0FC-11C0-4B40-AEA7-A0C5336C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9E5-49E5-45C4-83C3-4FBF4D62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24F-350A-4659-854D-BEB22C92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CB6-3DA2-4988-B727-732FF326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266-F528-4489-9962-978F59E8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2D4-0406-44AB-9298-A1A63EB9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6AC-F0A6-4486-B235-10B4786A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FA2-EE4D-459F-8379-4C7585CC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60C-F100-48D5-8BFA-D204C4BA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74F-017C-4ACB-AAC5-15437CC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F4E-EB73-4678-9868-3330148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BB4-2010-4F9E-897B-87B21BB5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AB9A5-4D08-4440-AB6D-F925CCF7B74D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60720" y="1800360"/>
            <a:ext cx="5533920" cy="316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0036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PPY-SL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036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L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35280" y="1811160"/>
            <a:ext cx="4303800" cy="29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036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08360" y="2355840"/>
            <a:ext cx="423216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036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WARDING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4680" y="2085840"/>
            <a:ext cx="31878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56000" y="5616720"/>
            <a:ext cx="4608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HOTOS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08360" y="2263680"/>
            <a:ext cx="4125960" cy="30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cyber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728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SSIP / RUMOUR SP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4000" y="2344680"/>
            <a:ext cx="489564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s of bul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43280" y="5629320"/>
            <a:ext cx="46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86080" y="1863720"/>
            <a:ext cx="48150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3T22:13:42Z</dcterms:created>
  <dc:creator/>
  <dc:description/>
  <dc:language>en-US</dc:language>
  <cp:lastModifiedBy/>
  <dcterms:modified xsi:type="dcterms:W3CDTF">2018-01-13T23:00:06Z</dcterms:modified>
  <cp:revision>1</cp:revision>
  <dc:subject/>
  <dc:title/>
</cp:coreProperties>
</file>