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F20-7971-4969-84A8-3C700EC8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0F7-74B7-4D6E-8839-6A7AE701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5D8-1186-429C-B150-637F3725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114-6F95-4092-8256-EB28DF9A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534D-CF3D-4A6F-81AB-C5F99FA6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51AC-40B7-4C24-8F0E-EC76AB5E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9648-FE7C-4297-8FE7-AEFAACB7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7449-83FD-49F0-8905-F219FDA7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9B95-BF10-4883-ADB1-70E04EEB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9372-72FB-4EF2-928E-B33F94E5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9804-D23F-4098-AEF1-1924DEF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1C0-11B5-44F0-B77D-07052A41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CE2A-889D-46E8-8E8C-D5A212AE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3C48-0AEF-47E7-87D0-A44E65A5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2E19-7A43-4414-848F-D0696BCA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AFEA-87CB-4F17-96D3-F6FAF195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7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3160" y="21603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17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3160" y="4449960"/>
            <a:ext cx="278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8B37-87AD-4844-8E3A-1EFD6F00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F10-95CF-45CC-BF8D-F366A94B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6BE-A87A-4D76-825B-2E90D0CA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442-C699-40F7-9E0D-3581A580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360" y="301320"/>
            <a:ext cx="8853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83A-1366-4947-8912-0487C7EE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119-1E0C-4FF9-AB6D-29F4254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000" y="44499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BAB-26A1-42EC-B901-CA91A8A2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2160360"/>
            <a:ext cx="4215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449960"/>
            <a:ext cx="8639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D0B-6219-4624-A20C-DA2095FA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4103280"/>
            <a:ext cx="85662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5903640"/>
            <a:ext cx="85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marL="75240" indent="0">
              <a:lnSpc>
                <a:spcPct val="11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1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2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3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4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5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  <a:p>
            <a:pPr lvl="6" marL="75240" indent="-75240">
              <a:lnSpc>
                <a:spcPct val="11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6ABCE-9285-40E0-BFE9-DC12D0F49EEB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319640"/>
            <a:ext cx="503280" cy="107928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301320"/>
            <a:ext cx="88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Open Sans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2160360"/>
            <a:ext cx="8639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1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1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2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3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4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5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  <a:p>
            <a:pPr lvl="6" marL="335880" indent="-335880">
              <a:lnSpc>
                <a:spcPct val="11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Open Sans"/>
                <a:ea typeface="Segoe UI"/>
              </a:defRPr>
            </a:lvl1pPr>
          </a:lstStyle>
          <a:p>
            <a:pPr indent="0" algn="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15862-1F0B-4481-9179-800A815D4181}" type="slidenum"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Open Sans"/>
                <a:ea typeface="Segoe UI"/>
              </a:rPr>
              <a:t> /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280"/>
            <a:ext cx="503280" cy="1079640"/>
          </a:xfrm>
          <a:prstGeom prst="rect">
            <a:avLst/>
          </a:prstGeom>
          <a:solidFill>
            <a:srgbClr val="ef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000" y="4103640"/>
            <a:ext cx="85680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3333"/>
                </a:solidFill>
                <a:latin typeface="Open Sans"/>
              </a:rPr>
              <a:t>Any suggestions ? </a:t>
            </a: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A93-2DB6-42F7-B795-C130B6B599B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2000" y="3993840"/>
            <a:ext cx="85680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2000" y="5903640"/>
            <a:ext cx="856800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8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43080" y="1424160"/>
            <a:ext cx="6137280" cy="46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1CB-D8C4-4582-B6DE-8937B238D29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74920" y="2376360"/>
            <a:ext cx="4995720" cy="33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8A90-6F34-4D9B-B853-F1026D4023D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71640" y="1697040"/>
            <a:ext cx="5975280" cy="46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CFA0-6075-4F94-BD1A-A2EA8F026D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1924200"/>
            <a:ext cx="6743880" cy="37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BA2C-2B98-4968-BA30-62203F7557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17560" y="1944720"/>
            <a:ext cx="670716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BDEC-B8B1-4C4E-A518-81A010503E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360" y="301680"/>
            <a:ext cx="88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Open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407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Open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62080" y="3024360"/>
            <a:ext cx="576108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4064-B821-4434-BD27-B7274AD4492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2T18:41:05Z</dcterms:created>
  <dc:creator/>
  <dc:description/>
  <dc:language>en-US</dc:language>
  <cp:lastModifiedBy/>
  <dcterms:modified xsi:type="dcterms:W3CDTF">2018-11-22T18:56:49Z</dcterms:modified>
  <cp:revision>2</cp:revision>
  <dc:subject/>
  <dc:title/>
</cp:coreProperties>
</file>