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9BF-69C3-4511-A2E2-7DF73536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62C-C37E-4AD0-9EE9-5214BF6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B45-4E58-4E48-8D7B-90AD8232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DAE-433E-4195-8D68-264B1675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A2B-559F-4A07-8DD6-46F375D2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12C9-4490-4856-A5ED-111AC6D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F44-DA8A-4FFE-93B4-8B00765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5AC-67D6-4386-8E52-C9A2BF0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634-6EFA-4266-AF30-0A1F7B2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7199-ACC2-489E-82EA-4CF5B70F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CE0-6E17-4388-8B92-43E8163B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BF1-A36F-4401-B7F3-E145B64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7291-D8A9-45A0-8514-12F6B78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3421-50A6-445C-8C61-3F38F0F0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485E-4446-448B-A39E-BC350825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74A4-C192-471A-8222-A3F06540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9C6-CCEB-4818-BCFA-7BB4292C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02F-2642-4B1E-A29B-577FDC6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0CF-B955-4BAA-A5D1-365AF36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245-9C81-447E-9030-F54AD66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3B4-C956-4318-A3EB-1B3C2471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42D-F542-4CB6-AF27-0F4D340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9BC-95C6-4D95-9169-3436196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A9A-B6A4-4609-95BB-DF0429A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E1F27-7DD2-439D-AF3A-D6CC37E9277D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CE394-2E28-46B0-AB55-14369D05F4AB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8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Any suggestions ?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A40-E7DA-458F-8B06-27AD064078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43080" y="1424160"/>
            <a:ext cx="6137280" cy="46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794-639E-42A3-836B-BFC76EF346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74920" y="2376360"/>
            <a:ext cx="499572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E4CC-AC3C-4471-A6F7-68BE39911B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71640" y="1697040"/>
            <a:ext cx="5975280" cy="46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CE1-05F0-4722-8ABE-9B3FA9B776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924200"/>
            <a:ext cx="67438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FF1-9039-442C-82B9-3717E4FFEE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17560" y="1944720"/>
            <a:ext cx="67071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C0E-F0F2-4826-B2EB-256C52F7EB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62080" y="3024360"/>
            <a:ext cx="576108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224F-796F-47E3-AA6C-F882109A4F0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18:41:05Z</dcterms:created>
  <dc:creator/>
  <dc:description/>
  <dc:language>en-US</dc:language>
  <cp:lastModifiedBy/>
  <dcterms:modified xsi:type="dcterms:W3CDTF">2018-11-22T18:56:49Z</dcterms:modified>
  <cp:revision>2</cp:revision>
  <dc:subject/>
  <dc:title/>
</cp:coreProperties>
</file>