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827-7227-45D1-B27E-C17D6149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A63-33BD-4F2D-99C7-2BE594F7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6FF-2515-4514-8927-5A3BC41C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AEE-48F1-4E0D-B8D0-188A0311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036-E380-4CDB-A3E7-D8FABA77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A2B-11F8-447B-8C45-C9182F58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6E3-FB8A-4E04-9B94-D6019AD4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701-4BB9-4A54-8D53-60ACA67D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08C-6241-4C8F-B1DF-426D6B0A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22B-BD6E-4DB7-A52E-AEF1D381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442-29D2-4884-8209-413B19BA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8A7-D202-46D1-B43B-15959D64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42F56-349D-4237-B776-8096E731F4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68360" y="1768320"/>
            <a:ext cx="72723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6360" y="1768320"/>
            <a:ext cx="8999280" cy="49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3280" y="1768320"/>
            <a:ext cx="88567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871640"/>
            <a:ext cx="7632720" cy="48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4000" y="1871640"/>
            <a:ext cx="77040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24000" y="1768320"/>
            <a:ext cx="758664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68360" y="1871640"/>
            <a:ext cx="735984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68360" y="1944720"/>
            <a:ext cx="7415280" cy="453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21:13:29Z</dcterms:created>
  <dc:creator>demmer anne</dc:creator>
  <dc:description/>
  <dc:language>en-US</dc:language>
  <cp:lastModifiedBy/>
  <cp:revision>1</cp:revision>
  <dc:subject/>
  <dc:title/>
</cp:coreProperties>
</file>