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E11-1943-417B-B263-A010D975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9E5-8C49-40EA-A54B-E5EDF3C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B33-1A0B-40C1-B815-75161A3B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AA0-2CBC-48EB-9022-6E027644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B0E-83D4-4010-8CD8-134BDC21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C5C-0FF4-4090-91E9-B962928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1A7-A38F-4928-BFD3-5822CF94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84D-9DBC-4380-885D-6AAEDF9C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12F-3F6E-40A9-9287-ED995EFA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707-FF8A-4575-8063-FEC7E79B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F2C-9017-4FDE-82EF-EB24EE1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0B3-FE05-4129-AA1E-223277E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B2C64-2F78-47D8-A9A7-FE0828D50B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68360" y="1768320"/>
            <a:ext cx="72723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6360" y="1768320"/>
            <a:ext cx="8999280" cy="49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8856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871640"/>
            <a:ext cx="763272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4000" y="1871640"/>
            <a:ext cx="77040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24000" y="1768320"/>
            <a:ext cx="758664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68360" y="1871640"/>
            <a:ext cx="735984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ifferent depart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68360" y="1944720"/>
            <a:ext cx="74152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21:13:29Z</dcterms:created>
  <dc:creator>demmer anne</dc:creator>
  <dc:description/>
  <dc:language>en-US</dc:language>
  <cp:lastModifiedBy/>
  <cp:revision>1</cp:revision>
  <dc:subject/>
  <dc:title/>
</cp:coreProperties>
</file>