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BFD2-6147-401B-9A97-9E15386B8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476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856476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91640" y="6415200"/>
            <a:ext cx="856476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FD6E-9EDA-4473-BEFD-5CDEE92CF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476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417924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80400" y="5903640"/>
            <a:ext cx="417924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91640" y="6415200"/>
            <a:ext cx="417924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80400" y="6415200"/>
            <a:ext cx="417924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ED81-3BF9-4550-873F-FEC56191D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476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27576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7480" y="5903640"/>
            <a:ext cx="27576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83320" y="5903640"/>
            <a:ext cx="27576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91640" y="6415200"/>
            <a:ext cx="27576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7480" y="6415200"/>
            <a:ext cx="27576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83320" y="6415200"/>
            <a:ext cx="27576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001C-D879-45BD-BA63-7D05377F2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F8064-FC51-4EC9-BFB3-9ABB76391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476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91640" y="5903640"/>
            <a:ext cx="8564760" cy="9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4D8F5-FE1F-4750-982B-718EEACB6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476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8564760" cy="9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0016B-02BE-4E19-B6EB-D4A73D9A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476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4179240" cy="9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80400" y="5903640"/>
            <a:ext cx="4179240" cy="9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69044-F275-452A-BD50-24CFE57DE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476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D1109-AB54-478F-838F-58161BCD8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91640" y="4103280"/>
            <a:ext cx="8564760" cy="666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4E973-3BB0-40FC-B695-E3BE2F52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476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417924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80400" y="5903640"/>
            <a:ext cx="4179240" cy="9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91640" y="6415200"/>
            <a:ext cx="417924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CE0CA-9224-4C3F-8B65-0F46817E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476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91640" y="5903640"/>
            <a:ext cx="8564760" cy="9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DF2C-C9C2-4128-8BDC-CC1F91AD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476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4179240" cy="9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80400" y="5903640"/>
            <a:ext cx="417924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80400" y="6415200"/>
            <a:ext cx="417924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CE8B1-AC1F-46D1-9D89-3E0D615E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476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417924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80400" y="5903640"/>
            <a:ext cx="417924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91640" y="6415200"/>
            <a:ext cx="856476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B9909-847F-470A-83BA-6E20C51F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476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856476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91640" y="6415200"/>
            <a:ext cx="856476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251EB-6AA5-476A-8AA2-29E8F215A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476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417924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80400" y="5903640"/>
            <a:ext cx="417924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1640" y="6415200"/>
            <a:ext cx="417924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80400" y="6415200"/>
            <a:ext cx="417924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F14A8-2CE8-4E8B-B1D7-B0180F684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476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27576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87480" y="5903640"/>
            <a:ext cx="27576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83320" y="5903640"/>
            <a:ext cx="27576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91640" y="6415200"/>
            <a:ext cx="27576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87480" y="6415200"/>
            <a:ext cx="27576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83320" y="6415200"/>
            <a:ext cx="27576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07E74-EFAF-48DA-B709-EB409F1AA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476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8564760" cy="9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0153-ADE2-4AD2-B0EE-D1250126E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476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4179240" cy="9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80400" y="5903640"/>
            <a:ext cx="4179240" cy="9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345C-AE90-4FFF-90BA-CA811D7AC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476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39FE-C8D4-484B-B805-468EFE6E7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91640" y="4103280"/>
            <a:ext cx="8564760" cy="666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36B4-925C-4D98-A63B-E53FEF176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476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417924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80400" y="5903640"/>
            <a:ext cx="4179240" cy="9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91640" y="6415200"/>
            <a:ext cx="417924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9370-1A5A-456B-B750-ACDF5A62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476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4179240" cy="9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80400" y="5903640"/>
            <a:ext cx="417924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80400" y="6415200"/>
            <a:ext cx="417924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4E90-15DA-45E0-9CD0-8AC0D713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476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417924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80400" y="5903640"/>
            <a:ext cx="417924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91640" y="6415200"/>
            <a:ext cx="856476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7FE9-66DC-4314-A770-3AB13853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476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Open Sans"/>
              </a:rPr>
              <a:t>Click to edit the title text format</a:t>
            </a: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91640" y="5903640"/>
            <a:ext cx="8564760" cy="9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2000"/>
          </a:bodyPr>
          <a:p>
            <a:pPr marL="75240" indent="0">
              <a:lnSpc>
                <a:spcPct val="113000"/>
              </a:lnSpc>
              <a:spcAft>
                <a:spcPts val="18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1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2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3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4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5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6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>
              <a:lnSpc>
                <a:spcPct val="11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 algn="r">
              <a:lnSpc>
                <a:spcPct val="11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FA93A5-F13E-449E-8A60-500DC84659D1}" type="slidenum"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number&gt;</a:t>
            </a:fld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 /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4319640"/>
            <a:ext cx="503280" cy="1079280"/>
          </a:xfrm>
          <a:prstGeom prst="rect">
            <a:avLst/>
          </a:prstGeom>
          <a:solidFill>
            <a:srgbClr val="ef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2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Open Sans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20360" y="2160720"/>
            <a:ext cx="8637480" cy="43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0">
              <a:lnSpc>
                <a:spcPct val="11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1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2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3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4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5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6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>
              <a:lnSpc>
                <a:spcPct val="11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 algn="r">
              <a:lnSpc>
                <a:spcPct val="11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8D10B1-0803-4873-A51D-73DC817ACFFE}" type="slidenum"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number&gt;</a:t>
            </a:fld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 /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7280"/>
            <a:ext cx="503280" cy="1079640"/>
          </a:xfrm>
          <a:prstGeom prst="rect">
            <a:avLst/>
          </a:prstGeom>
          <a:solidFill>
            <a:srgbClr val="ef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92000" y="3993840"/>
            <a:ext cx="8568000" cy="16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92000" y="5903640"/>
            <a:ext cx="8568000" cy="9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Open Sans"/>
              </a:rPr>
              <a:t>A BREASTPLATE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793960" y="1076400"/>
            <a:ext cx="4118040" cy="425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FB19-68D3-485E-BAD8-CE5BF151A1F7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92000" y="3993840"/>
            <a:ext cx="8568000" cy="16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92000" y="5903640"/>
            <a:ext cx="8568000" cy="9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Open Sans"/>
              </a:rPr>
              <a:t>A STUDDED LEATHER ARMOUR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600360" y="1403280"/>
            <a:ext cx="3672000" cy="408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90F6-F106-4E00-82ED-09163C766D4A}" type="slidenum">
              <a:t>2</a:t>
            </a:fld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92000" y="3993840"/>
            <a:ext cx="8568000" cy="16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92000" y="5903640"/>
            <a:ext cx="8568000" cy="9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Open Sans"/>
              </a:rPr>
              <a:t>ARM GUARDS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246480" y="158436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3AD4-62C9-4E7D-ACFC-F2DDEEC96405}" type="slidenum">
              <a:t>3</a:t>
            </a:fld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20360" y="3954240"/>
            <a:ext cx="8567640" cy="16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92000" y="5903640"/>
            <a:ext cx="8568000" cy="9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Open Sans"/>
              </a:rPr>
              <a:t>GAUNTLETS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592360" y="1949400"/>
            <a:ext cx="4608720" cy="343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D32E-B38E-43AB-B6F6-103EC34D69FF}" type="slidenum">
              <a:t>4</a:t>
            </a:fld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92000" y="3993840"/>
            <a:ext cx="8568000" cy="16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92000" y="5903640"/>
            <a:ext cx="8568000" cy="9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Open Sans"/>
              </a:rPr>
              <a:t>ARMBANDS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24360" y="2232000"/>
            <a:ext cx="4462200" cy="2968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D443-17D2-45A9-B97B-AF885A26C414}" type="slidenum">
              <a:t>5</a:t>
            </a:fld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92000" y="3993840"/>
            <a:ext cx="8568000" cy="16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92000" y="5903640"/>
            <a:ext cx="8568000" cy="9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Open Sans"/>
              </a:rPr>
              <a:t>A CHAKRAM AND A SWORD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03880" y="1488960"/>
            <a:ext cx="4127400" cy="41277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805040" y="1440000"/>
            <a:ext cx="2946240" cy="223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A3D2-3E1F-420A-81B0-70AECE087BE5}" type="slidenum">
              <a:t>6</a:t>
            </a:fld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22T20:15:30Z</dcterms:created>
  <dc:creator/>
  <dc:description/>
  <dc:language>en-US</dc:language>
  <cp:lastModifiedBy/>
  <dcterms:modified xsi:type="dcterms:W3CDTF">2018-11-22T20:58:12Z</dcterms:modified>
  <cp:revision>3</cp:revision>
  <dc:subject/>
  <dc:title/>
</cp:coreProperties>
</file>