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BDD7-8EA9-4B09-A0D9-F5A113071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476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856476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91640" y="6415200"/>
            <a:ext cx="856476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D7DD-2B6B-4B29-B1A7-0B06C0BF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476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24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80400" y="5903640"/>
            <a:ext cx="417924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91640" y="6415200"/>
            <a:ext cx="417924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80400" y="6415200"/>
            <a:ext cx="417924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0A35-6374-4607-88C5-E7D768D27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476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27576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7480" y="5903640"/>
            <a:ext cx="27576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83320" y="5903640"/>
            <a:ext cx="27576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91640" y="6415200"/>
            <a:ext cx="27576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7480" y="6415200"/>
            <a:ext cx="27576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83320" y="6415200"/>
            <a:ext cx="27576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E0E2-B3DC-4C53-82FF-E11B5CF67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015D-BDA4-4AF8-8640-DA76A545A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476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91640" y="5903640"/>
            <a:ext cx="856476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ABE8-4E0E-43FD-9E95-56646FE9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476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856476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AE43-65F9-48A3-AB47-B9F2CFF5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476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24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80400" y="5903640"/>
            <a:ext cx="417924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8997-CA79-419B-8A36-21DECCC9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476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8677-DC6B-427D-82F3-1D687993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91640" y="4103280"/>
            <a:ext cx="8564760" cy="666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3E29F-F8A2-423F-93FF-56CD0A48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476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24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80400" y="5903640"/>
            <a:ext cx="417924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91640" y="6415200"/>
            <a:ext cx="417924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AE72-0E8C-4D5E-ACB8-D5BBC9E0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476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91640" y="5903640"/>
            <a:ext cx="856476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9677-AFCF-450E-BA6A-E17B482B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476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24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80400" y="5903640"/>
            <a:ext cx="417924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80400" y="6415200"/>
            <a:ext cx="417924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35CB6-5CEA-47DA-BCAB-C6351AEF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476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24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80400" y="5903640"/>
            <a:ext cx="417924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91640" y="6415200"/>
            <a:ext cx="856476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F507-9E87-476B-836B-C3447C73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476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856476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91640" y="6415200"/>
            <a:ext cx="856476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3A65-26B3-47E5-B48E-2FB2F324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476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24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80400" y="5903640"/>
            <a:ext cx="417924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1640" y="6415200"/>
            <a:ext cx="417924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80400" y="6415200"/>
            <a:ext cx="417924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DF2C-8D3F-478F-B9B2-5DA191823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476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27576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87480" y="5903640"/>
            <a:ext cx="27576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83320" y="5903640"/>
            <a:ext cx="27576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91640" y="6415200"/>
            <a:ext cx="27576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87480" y="6415200"/>
            <a:ext cx="27576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83320" y="6415200"/>
            <a:ext cx="27576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1EADC-01F0-418F-92CF-B9E60BB68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476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856476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7537-D149-4A43-A0DB-7F7E8F78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476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24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80400" y="5903640"/>
            <a:ext cx="417924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3123-938A-4105-8903-47F01559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476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1095-A8AC-4AE0-B809-C85CB425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91640" y="4103280"/>
            <a:ext cx="8564760" cy="666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08B2-B5F7-40F2-B1BC-E58367AE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476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24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80400" y="5903640"/>
            <a:ext cx="417924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91640" y="6415200"/>
            <a:ext cx="417924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B066-9A06-4838-80A6-24C25DCC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476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24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80400" y="5903640"/>
            <a:ext cx="417924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80400" y="6415200"/>
            <a:ext cx="417924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121C-2F05-4F86-9F3F-FB1B78F0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476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24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80400" y="5903640"/>
            <a:ext cx="417924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91640" y="6415200"/>
            <a:ext cx="856476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3932-B0F6-4078-8499-5A634630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476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Open Sans"/>
              </a:rPr>
              <a:t>Click to edit the title text format</a:t>
            </a: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91640" y="5903640"/>
            <a:ext cx="856476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2000"/>
          </a:bodyPr>
          <a:p>
            <a:pPr marL="75240" indent="0">
              <a:lnSpc>
                <a:spcPct val="113000"/>
              </a:lnSpc>
              <a:spcAft>
                <a:spcPts val="18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1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2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3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4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5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6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>
              <a:lnSpc>
                <a:spcPct val="11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r">
              <a:lnSpc>
                <a:spcPct val="11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FFF0E-B597-445E-9910-07400B2BCC7A}" type="slidenum"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 /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4319640"/>
            <a:ext cx="503280" cy="1079280"/>
          </a:xfrm>
          <a:prstGeom prst="rect">
            <a:avLst/>
          </a:prstGeom>
          <a:solidFill>
            <a:srgbClr val="ef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2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Open Sans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20360" y="2160720"/>
            <a:ext cx="8637480" cy="43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lnSpc>
                <a:spcPct val="11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1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2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3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4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5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6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>
              <a:lnSpc>
                <a:spcPct val="11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r">
              <a:lnSpc>
                <a:spcPct val="11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70A10D-B1A1-40D7-90D2-BF8F261B7202}" type="slidenum"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 /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7280"/>
            <a:ext cx="503280" cy="1079640"/>
          </a:xfrm>
          <a:prstGeom prst="rect">
            <a:avLst/>
          </a:prstGeom>
          <a:solidFill>
            <a:srgbClr val="ef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92000" y="3993840"/>
            <a:ext cx="8568000" cy="16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Open Sans"/>
              </a:rPr>
              <a:t>A BREASTPLATE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793960" y="1076400"/>
            <a:ext cx="4118040" cy="425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CBA3-BC4C-410C-81C7-178DF753F783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92000" y="3993840"/>
            <a:ext cx="8568000" cy="16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Open Sans"/>
              </a:rPr>
              <a:t>A STUDDED LEATHER ARMOUR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600360" y="1403280"/>
            <a:ext cx="3672000" cy="408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D4AE-0B18-4566-871C-CBD8F4AC1A40}" type="slidenum">
              <a:t>2</a:t>
            </a:fld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92000" y="3993840"/>
            <a:ext cx="8568000" cy="16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Open Sans"/>
              </a:rPr>
              <a:t>ARM GUARD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246480" y="158436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EA03-0CD5-41F3-AD96-38F070D9B981}" type="slidenum">
              <a:t>3</a:t>
            </a:fld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0360" y="3954240"/>
            <a:ext cx="8567640" cy="16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Open Sans"/>
              </a:rPr>
              <a:t>GAUNTLET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92360" y="1949400"/>
            <a:ext cx="4608720" cy="343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43D0-5D93-48D3-942E-16FD295A41CC}" type="slidenum">
              <a:t>4</a:t>
            </a:fld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92000" y="3993840"/>
            <a:ext cx="8568000" cy="16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Open Sans"/>
              </a:rPr>
              <a:t>ARMBAND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24360" y="2232000"/>
            <a:ext cx="4462200" cy="296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F243-2569-4C07-BE76-4DDA7B03AA15}" type="slidenum">
              <a:t>5</a:t>
            </a:fld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92000" y="3993840"/>
            <a:ext cx="8568000" cy="16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Open Sans"/>
              </a:rPr>
              <a:t>A CHAKRAM AND A SWORD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03880" y="1488960"/>
            <a:ext cx="4127400" cy="4127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805040" y="1440000"/>
            <a:ext cx="2946240" cy="223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28E1-0BF0-4F2E-9C51-948E96CFE81D}" type="slidenum">
              <a:t>6</a:t>
            </a:fld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2T20:15:30Z</dcterms:created>
  <dc:creator/>
  <dc:description/>
  <dc:language>en-US</dc:language>
  <cp:lastModifiedBy/>
  <dcterms:modified xsi:type="dcterms:W3CDTF">2018-11-22T20:58:12Z</dcterms:modified>
  <cp:revision>3</cp:revision>
  <dc:subject/>
  <dc:title/>
</cp:coreProperties>
</file>