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5A7-D140-4B7A-A2C6-A9D4E1FE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A12-0DD5-468B-B6C4-775E744A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5DE-97BE-45E0-917E-C71B87F2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78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40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78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40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AB1-BB0B-4DD4-A1A8-14B2794C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7631-964D-4404-9881-AF4675FB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D545-3EF8-47B0-8925-6A96177B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AC67-3AE2-41E8-9E56-82B82D78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D71B-CE54-43F9-9389-6B384A23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C67C-B94F-43B6-9F56-3F11D414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91640" y="4103280"/>
            <a:ext cx="8566200" cy="66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0E6A-B9A9-454A-89E3-A25BC5D5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148D-F261-43B6-9BD7-A099B927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03C-A18D-4758-9A42-251612A1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78C7-E953-41B5-BB14-85A10690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239E-4777-492F-8B06-944204BF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DD5D-33A9-48A5-AD7A-32709337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8871-1407-472E-B921-E392DC69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78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840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916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78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840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B187-EF52-4F8C-8478-A8120A50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239-CC19-422C-A6C3-F504118B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B591-041E-441D-B592-9FF3E98A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556-101F-4407-A169-511E4AE2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91640" y="4103280"/>
            <a:ext cx="8566200" cy="66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AEE-E95E-4D71-B6C0-D2AFCC34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73A-260F-49CF-B9A9-D24EC564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776-3EC8-4B6C-99ED-0CEA536A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1B5-724B-4F12-9D96-8DB65560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48B36-AA11-4364-B378-E014D6568C64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B0DF8-0D0A-4782-A104-423D663A09BA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2000" y="3578040"/>
            <a:ext cx="8568000" cy="24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333333"/>
                </a:solidFill>
                <a:latin typeface="Open Sans"/>
              </a:rPr>
              <a:t>Identify the workplaces and the corresponding departments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406-1399-441B-8F66-D29AA8AAA35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 LABORATORY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54120" y="2013120"/>
            <a:ext cx="5289840" cy="36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69C-95E1-4DF5-B893-A350C783DCCE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 WAREHOUSE / A GARAG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16120" y="1847880"/>
            <a:ext cx="5446800" cy="36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3B6-0D68-4D8B-95BE-FFD9A8079B8C}" type="slidenum">
              <a:t>3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WORKSTATION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78120" y="2209680"/>
            <a:ext cx="6400800" cy="333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FEF-473A-4045-886C-21E07EB334EA}" type="slidenum">
              <a:t>4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CUBICLE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30280" y="2084400"/>
            <a:ext cx="7137360" cy="35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8DE-1C1C-44C6-BB0B-F84334319CC7}" type="slidenum">
              <a:t>5</a:t>
            </a:fld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N OFFIC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62000" y="1409760"/>
            <a:ext cx="5908680" cy="405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1C8-EE28-438F-91E2-EE1A41FF5319}" type="slidenum">
              <a:t>6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280" y="4032000"/>
            <a:ext cx="856764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 WORKSHOP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35280" y="1441440"/>
            <a:ext cx="5516640" cy="41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267-2789-4E9B-9AA2-A443AF7095F9}" type="slidenum">
              <a:t>7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7280" y="4032000"/>
            <a:ext cx="856764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 MEETING ROOM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8120" y="2232000"/>
            <a:ext cx="4977000" cy="331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73E-7B05-406D-8258-58F6621DBBD7}" type="slidenum">
              <a:t>8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20:53:02Z</dcterms:created>
  <dc:creator/>
  <dc:description/>
  <dc:language>en-US</dc:language>
  <cp:lastModifiedBy/>
  <dcterms:modified xsi:type="dcterms:W3CDTF">2018-11-23T21:45:12Z</dcterms:modified>
  <cp:revision>2</cp:revision>
  <dc:subject/>
  <dc:title/>
</cp:coreProperties>
</file>