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6C1-C378-46B8-961C-A95D5A69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B84-8940-4A9E-9C77-5FEFAA0E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872-D9AE-48B1-85B1-34B6173E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78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40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78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840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671-87DA-432F-848C-227DB768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A169-A8F2-4186-8F9A-6AB7499D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4EA3-751A-475B-972A-286BFD8A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F9BF-4C81-4F51-B928-9E61B686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1C06-8273-495D-ABD1-ECA6A51B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00B0-E2BC-4127-92D5-A00557BA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91640" y="4103280"/>
            <a:ext cx="8566200" cy="66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B1E4-7CAC-44AF-A87F-1413185E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6AA8-BD60-4DAB-BDCF-EF1DA52D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7A5-B0B2-4F18-867B-2A5AB71A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70AB-F65D-415F-A2F6-F951A283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D44D-ECDC-41CD-892B-3E719640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2D2E-FE3F-4BAC-8A9E-4CACDD37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C763-37EB-4221-9118-28FFC5E0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78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840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916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78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840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92CC-32D0-4F80-80FC-ECB6D6E7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7F8-E191-460C-B81F-6674EBA2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0D2-9B3D-451F-ABD8-E09337CA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AAD-887D-475B-8A9C-B0D6D36C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91640" y="4103280"/>
            <a:ext cx="8566200" cy="66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F02-F8EC-4DBF-96E9-3E4155E4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45C-DDDC-490F-936A-48E863BF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1BA-4D2B-4306-942C-D24D9BBB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D05-A615-47D6-ACDB-219B889D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83D4F-7602-48F1-B015-9A23807DFCFE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04BEF-BE4D-44A1-A39A-B9863BF218EA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2000" y="3578040"/>
            <a:ext cx="8568000" cy="24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333333"/>
                </a:solidFill>
                <a:latin typeface="Open Sans"/>
              </a:rPr>
              <a:t>Identify the workplaces and the corresponding departments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C98-9B15-4624-82BF-99C21E454D3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 LABORATORY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54120" y="2013120"/>
            <a:ext cx="5289840" cy="36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B8B-ED5F-45DC-9F51-335A8808A07D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 WAREHOUSE / A GARAG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16120" y="1847880"/>
            <a:ext cx="5446800" cy="36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135-001F-4E59-8F04-E8044ACF481B}" type="slidenum">
              <a:t>3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WORKSTATION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78120" y="2209680"/>
            <a:ext cx="6400800" cy="333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64D-CE4B-46B0-B481-18539FC152F4}" type="slidenum">
              <a:t>4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CUBICLE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30280" y="2084400"/>
            <a:ext cx="7137360" cy="35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E49-EB0E-43D2-A14B-B300F9289319}" type="slidenum">
              <a:t>5</a:t>
            </a:fld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N OFFIC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62000" y="1409760"/>
            <a:ext cx="5908680" cy="405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447-7420-4977-B431-F292E9432107}" type="slidenum">
              <a:t>6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280" y="4032000"/>
            <a:ext cx="856764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 WORKSHOP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35280" y="1441440"/>
            <a:ext cx="5516640" cy="41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77D-8CEC-4536-8CA4-BB0FA0194F7B}" type="slidenum">
              <a:t>7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7280" y="4032000"/>
            <a:ext cx="856764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 MEETING ROOM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8120" y="2232000"/>
            <a:ext cx="4977000" cy="331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417-C090-4241-AB3E-CD59B933B243}" type="slidenum">
              <a:t>8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20:53:02Z</dcterms:created>
  <dc:creator/>
  <dc:description/>
  <dc:language>en-US</dc:language>
  <cp:lastModifiedBy/>
  <dcterms:modified xsi:type="dcterms:W3CDTF">2018-11-23T21:45:12Z</dcterms:modified>
  <cp:revision>2</cp:revision>
  <dc:subject/>
  <dc:title/>
</cp:coreProperties>
</file>