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04E-58AE-4F84-A3AB-A97FEB99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5200"/>
            <a:ext cx="8097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FAA-9343-48F8-B6D4-FFCBD3E7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520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9000" y="308520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83F-3B66-4F07-9854-D9D04E85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7080" y="136836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94880" y="136836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520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7080" y="308520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94880" y="3085200"/>
            <a:ext cx="26071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340-4857-4F39-9C4B-BABA88D2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F16-4886-4891-8033-F6D20C86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056-3D35-4734-9B64-5D13C9A9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8F8-7902-41C4-AD16-2C7CED46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C08-65DB-40B1-8C1E-CC36A5A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978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E05-2AC9-44B3-AFBA-6A776388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520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B7B-CE05-44D7-A412-9F49FF83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9000" y="308520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0C9-17AD-4E08-8D4D-027E060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9000" y="1368360"/>
            <a:ext cx="39517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5200"/>
            <a:ext cx="8097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286-8B89-494D-B6FF-12461AAF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42F54-EC34-4B7F-AEA9-A5214A894A8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A cell</a:t>
            </a:r>
            <a:r>
              <a:rPr b="0" lang="fr-FR" sz="33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65400" y="1339920"/>
            <a:ext cx="3702240" cy="326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933-E0E7-4735-9693-1C4B65334BF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Nucleus</a:t>
            </a:r>
            <a:r>
              <a:rPr b="0" lang="fr-FR" sz="33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14560" y="1344600"/>
            <a:ext cx="4894200" cy="29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C8A-D57E-431F-84FD-CE34C5B8BD8E}" type="slidenum">
              <a:t>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The cytoplasm</a:t>
            </a:r>
            <a:r>
              <a:rPr b="0" lang="fr-FR" sz="33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4724640" cy="35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DB6-2706-4A09-A504-6CE88DA741A7}" type="slidenum">
              <a:t>3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An embryo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57680" y="1355760"/>
            <a:ext cx="484632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BCE-25AF-4297-A69D-9DEC92FC9295}" type="slidenum">
              <a:t>4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A surrogate mother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76520" y="1233360"/>
            <a:ext cx="4548240" cy="32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3CA-B282-4C15-93F1-0BEF0138F543}" type="slidenum">
              <a:t>5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50505"/>
                </a:solidFill>
                <a:latin typeface="Arial"/>
              </a:rPr>
              <a:t>Now explain how Dolly the ewe was cloned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1928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10000" y="1228680"/>
            <a:ext cx="36385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C10-CCB8-42B4-86F1-CD8379BD8803}" type="slidenum">
              <a:t>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20:27:02Z</dcterms:created>
  <dc:creator/>
  <dc:description/>
  <dc:language>en-US</dc:language>
  <cp:lastModifiedBy/>
  <dcterms:modified xsi:type="dcterms:W3CDTF">2018-12-14T21:03:12Z</dcterms:modified>
  <cp:revision>2</cp:revision>
  <dc:subject/>
  <dc:title>DNA</dc:title>
</cp:coreProperties>
</file>