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E00-D007-4A7A-8FC7-4B7F674E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5200"/>
            <a:ext cx="8097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409-C91F-466C-8144-851E38EE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520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9000" y="308520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345-E96C-4C3D-9570-20225B2D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7080" y="136836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94880" y="136836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520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7080" y="308520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94880" y="308520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77A-0D28-4523-9304-C2E4EF8F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0FE-3B3D-4B1A-916D-C1A53732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2D6-2864-4AAD-9EB8-E0B713EB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E4F-C0E5-411B-AAD6-45368BE2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783-C8DD-47AB-B167-428F13B5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978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538-781C-4AE3-92F5-EB5B414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520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248-401B-4A84-A0DE-BC2787F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9000" y="308520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7DE-99AD-4F03-8D3E-499EBE6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5200"/>
            <a:ext cx="8097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EB2-F5AC-4653-9A3A-FA3C0AC4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90587-A2B3-4576-8D84-88DB5B7B2AD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A cell</a:t>
            </a:r>
            <a:r>
              <a:rPr b="0" lang="fr-FR" sz="33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65400" y="1339920"/>
            <a:ext cx="3702240" cy="326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1EF-F942-471B-B8EE-871EA16DD1A0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Nucleus</a:t>
            </a:r>
            <a:r>
              <a:rPr b="0" lang="fr-FR" sz="33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14560" y="1344600"/>
            <a:ext cx="4894200" cy="29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D77-CD0C-4890-83AF-562B4629F4A6}" type="slidenum">
              <a:t>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The cytoplasm</a:t>
            </a:r>
            <a:r>
              <a:rPr b="0" lang="fr-FR" sz="33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4724640" cy="35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84E-FAEB-41F0-81CC-B1427AAA8D90}" type="slidenum">
              <a:t>3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An embryo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57680" y="1355760"/>
            <a:ext cx="484632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C9E-8271-4761-8A5F-D51E048A3C15}" type="slidenum">
              <a:t>4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A surrogate mother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76520" y="1233360"/>
            <a:ext cx="4548240" cy="32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38B-C30E-4001-855B-B1DB80A566CF}" type="slidenum">
              <a:t>5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Now explain how Dolly the ewe was cloned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10000" y="1228680"/>
            <a:ext cx="36385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645-E277-41AB-A41D-D6BFEE40F574}" type="slidenum">
              <a:t>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20:27:02Z</dcterms:created>
  <dc:creator/>
  <dc:description/>
  <dc:language>en-US</dc:language>
  <cp:lastModifiedBy/>
  <dcterms:modified xsi:type="dcterms:W3CDTF">2018-12-14T21:03:12Z</dcterms:modified>
  <cp:revision>2</cp:revision>
  <dc:subject/>
  <dc:title>DNA</dc:title>
</cp:coreProperties>
</file>