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3D0-52A5-4595-BC15-FB06E28A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B22-AD46-4978-98A6-8F8598FD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6A8-960B-4FBB-BEB5-FB1EB231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9C1-01CF-4FBB-8AEB-BF6BC91C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D7E2-2A81-4E72-AC89-F5D52385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86DB-02D4-4D4D-8658-DD26D9EA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AE7C-E196-4AD5-811A-BAB94495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C89B-1731-45E9-AD35-53DC19F8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83A8-0C54-4E84-ABD6-1F2FF524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A0A8-8E29-460A-A9CD-8D3A8D1C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877A-BFCA-4949-8DD0-37ED763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A32-7FDF-45E9-83FF-68546D10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FDB7-FFF7-4E74-BB1D-CE6DE4A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5631-FCA3-421F-9E3B-CC9F0ECC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E1A6-0278-45F0-9011-DAD11983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7BB9-C278-4508-AA01-DE1275F9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45C5-E9C7-4DB7-8029-BD2000BB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011-10A0-48CB-BD1C-456AFD6D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502-1799-440B-AB80-9E428B86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C36-3441-45EC-AD12-56200C1A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43A-569E-4430-8BAB-DA4B5F79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D27-ADE6-4E03-8AE8-21BAA90E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F6B-468F-4090-9194-9E63838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C46-4ED8-4C3E-94A2-37D11A3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543E1-1C39-4BAB-B0D1-B44612B0B730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3DF45-C046-4E2E-B4EC-5C34F26221F6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If we don’t stop global warming now 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4A9-F398-43AF-8A6E-1A4CADE28C8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76640" y="2104920"/>
            <a:ext cx="56451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85A-4A6D-40EF-A914-28B51C9DD0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4080" y="1847880"/>
            <a:ext cx="5695920" cy="39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F23C-9564-4530-8DA4-AA45234AB2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5400" y="2077920"/>
            <a:ext cx="793260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B57B-A7CF-4F6A-B033-12595FCBB2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5280" y="2303640"/>
            <a:ext cx="8689680" cy="30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EB0C-E3C5-40E5-B5A0-40462D0664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92360" y="2016000"/>
            <a:ext cx="5040360" cy="37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4501-B2BD-4042-B836-84D797E7D6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65160" y="2257560"/>
            <a:ext cx="5838840" cy="35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FDC0-2B34-4F2C-9925-EC622BAA8B4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9:14:33Z</dcterms:created>
  <dc:creator/>
  <dc:description/>
  <dc:language>en-US</dc:language>
  <cp:lastModifiedBy/>
  <dcterms:modified xsi:type="dcterms:W3CDTF">2019-01-18T09:26:41Z</dcterms:modified>
  <cp:revision>2</cp:revision>
  <dc:subject/>
  <dc:title/>
</cp:coreProperties>
</file>