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642-FC85-4B23-8D43-0DD44ECA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A29-12E6-4090-AAB6-4641E5A3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142-50CE-494E-B57E-9447B202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2B3-0C66-4C72-B796-7EF48D8D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40A-5C7F-498D-9661-183A227B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AFD-471E-407B-8766-2231E50B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0627-E08C-4C5B-8340-15EAF1A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6A5-6EB2-4302-B0B0-8777334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83E5-1BF4-40C5-B281-40A52A1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2961-4008-4EFD-8C96-0307C82F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A80B-5265-43D3-9503-8651A24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466-CBF2-49F6-95FE-F96DA47E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1297-7C1C-4268-B045-427F309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73ED-D504-469D-A981-931B096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AD8-CB3F-46F5-AD18-65F19ED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A04A-7137-45A2-8CFD-6042B2AB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9A77-DF5A-468F-B69C-C3B0872C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D53-0B1C-4845-9173-F0EC3AF7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FF8-D483-4642-985A-E1FAE2F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3DF-34F2-4606-835A-20DEB05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E0C-967A-4409-9435-FDD946D5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445-7585-40A8-ACD2-B305F8D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F76-2ACA-49EA-9D47-CC21DBF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312-C62D-431A-A12B-8FACF35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AFA84-DC69-4A31-9D75-D3D5A05AE6F1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970F9-A536-4087-BAA4-47A167E97086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If we don’t stop global warming now 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810-835A-412C-ADB8-BD670F0920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76640" y="2104920"/>
            <a:ext cx="56451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531-7A6D-43D4-9B32-7632F7889B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4080" y="1847880"/>
            <a:ext cx="5695920" cy="39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4BEE-D882-42C1-9E53-393A957D66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5400" y="2077920"/>
            <a:ext cx="793260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7F87-DD6B-49A9-A55F-07AD04170F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5280" y="2303640"/>
            <a:ext cx="8689680" cy="30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F0F9-862A-40B0-8411-D4A9E66EFE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2360" y="2016000"/>
            <a:ext cx="504036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22E1-7EBC-4976-BCF1-A8B830764D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65160" y="2257560"/>
            <a:ext cx="5838840" cy="35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546-F007-4010-AED2-E4908BFF616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9:14:33Z</dcterms:created>
  <dc:creator/>
  <dc:description/>
  <dc:language>en-US</dc:language>
  <cp:lastModifiedBy/>
  <dcterms:modified xsi:type="dcterms:W3CDTF">2019-01-18T09:26:41Z</dcterms:modified>
  <cp:revision>2</cp:revision>
  <dc:subject/>
  <dc:title/>
</cp:coreProperties>
</file>