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7DF-5EE4-41D6-9F9C-AA028515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0B6-9BF9-4864-A604-E4CE0D2B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37A-9728-4ECD-A94B-4F1C19BF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2BF-CC37-4154-A538-0F681835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45A-F61C-417B-8327-DCE72BE7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CE5-9C49-4E24-A995-59052B85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110-27F9-484F-ABFF-D7AE76C5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ED7-6BFC-4B4C-B464-B43D174F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15640"/>
            <a:ext cx="70182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231-AEE8-4177-8FF5-5A6417D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F48-F3AD-4540-ACCD-7433A768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CB6-17A7-40B9-A7AF-AF21F3E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07C-32AA-43C2-B648-A254416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1C689-A3B8-442F-9DBC-20373FB7590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51520" y="1368360"/>
            <a:ext cx="2724120" cy="38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1640" y="4967280"/>
            <a:ext cx="921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bell’s Soup Ca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Andy Warhol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0360" y="1386000"/>
            <a:ext cx="5376960" cy="39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280" y="4967280"/>
            <a:ext cx="878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fend Dignlt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Shepard Fairey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79640" y="1584360"/>
            <a:ext cx="4811760" cy="320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1640" y="5111640"/>
            <a:ext cx="8207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gel of the Nor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Antony Gormley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4000" y="1440000"/>
            <a:ext cx="5029200" cy="354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1640" y="5040360"/>
            <a:ext cx="9647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oad Runner and Wile E. Coyo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Chuck Jones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512720"/>
            <a:ext cx="2735280" cy="3527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3280" y="5052960"/>
            <a:ext cx="9215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alking Ma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Alberto Giacometti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9T09:47:20Z</dcterms:created>
  <dc:creator/>
  <dc:description/>
  <dc:language>en-US</dc:language>
  <cp:lastModifiedBy/>
  <cp:revision>1</cp:revision>
  <dc:subject/>
  <dc:title>Bright Blue</dc:title>
</cp:coreProperties>
</file>