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906-21CC-4015-867E-1A647F5B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0CA-65F2-459E-B2FE-51A363B5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72A-7D4D-469B-9997-B5DF8C7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AED-9056-4F46-A46B-25AA555F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492-18C8-4587-8292-CAE56704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8EB-CF9A-4A3A-BB88-E36CB1C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EF1-89F4-4923-8632-D6DB8C14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11B-3682-48A9-9639-EBC9E3E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15640"/>
            <a:ext cx="7018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A5D-CCD5-4D87-AB87-BF493627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F37-3115-4636-9366-16BA526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213-0907-4536-959A-15DA028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401-8961-4F32-9C98-FECD906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82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5186-09F8-45F2-ABA6-52D30D99F09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51520" y="1368360"/>
            <a:ext cx="2724120" cy="38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1640" y="4967280"/>
            <a:ext cx="921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bell’s Soup Ca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ndy Warhol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0360" y="1386000"/>
            <a:ext cx="5376960" cy="39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280" y="4967280"/>
            <a:ext cx="878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end Dignlt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Shepard Fairey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79640" y="1584360"/>
            <a:ext cx="4811760" cy="320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1640" y="5111640"/>
            <a:ext cx="820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gel of the Nor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ntony Gormley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4000" y="144000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5040360"/>
            <a:ext cx="9647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ad Runner and Wile E. Coyo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Chuck Jones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144360"/>
            <a:ext cx="7020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THE WORLD THROUG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42560" y="287280"/>
            <a:ext cx="6915240" cy="18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000" y="936720"/>
            <a:ext cx="676728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512720"/>
            <a:ext cx="2735280" cy="352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3280" y="5052960"/>
            <a:ext cx="9215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alking Ma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Alberto Giacometti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9T09:47:20Z</dcterms:created>
  <dc:creator/>
  <dc:description/>
  <dc:language>en-US</dc:language>
  <cp:lastModifiedBy/>
  <cp:revision>1</cp:revision>
  <dc:subject/>
  <dc:title>Bright Blue</dc:title>
</cp:coreProperties>
</file>