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0C4-01CF-48A9-ACDD-7C083926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C2A-5FE7-41DA-9B2E-D896209E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6EAB-9807-478A-A903-E4BA213A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78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840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78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840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F4B-9999-4955-9946-C8346AF2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AB28-D093-471E-B223-D29BAF01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BAC4-9CB6-41A1-AB8D-F120922E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DC10-60D6-438A-927A-83F4AFD8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1E63-E495-43A5-8F23-D65EBCB4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B783-9CFC-4E88-8CBA-7D78F240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91640" y="4103280"/>
            <a:ext cx="8566200" cy="66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468D-6C51-47DC-A497-3EC6674B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AD63-6EAE-41FB-ACC8-4D38B459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778-3369-425C-964E-C7949453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BF53-858C-4D7F-A1D8-39F30542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5765-68C3-4D79-AB9A-B97E870F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9D42-6453-47E1-A594-ED9E4206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97BF-3E74-4398-9C5B-64D3F6C2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878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84040" y="590364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916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878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84040" y="6416280"/>
            <a:ext cx="2757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03D2-8106-4527-857D-5FB77248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162-2340-4FC6-9C75-E6748148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BD48-0AF4-4A94-A20D-1119CB78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1F3-B363-42E8-AAC4-88277F3A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91640" y="4103280"/>
            <a:ext cx="8566200" cy="66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AA7C-B91D-46F6-A522-2C3D0D11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2F68-F787-4EEF-99C7-59B50BCE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81120" y="641628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331-765D-4D9A-BB7E-998000A0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81120" y="5903640"/>
            <a:ext cx="417996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6416280"/>
            <a:ext cx="8566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AE48-BBB9-4A81-88C2-653C0AB6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marL="75240" indent="0">
              <a:lnSpc>
                <a:spcPct val="11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1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2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3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4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5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6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086B0-7766-4100-AE94-37A9CC45CC23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319640"/>
            <a:ext cx="503280" cy="107928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1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1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2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3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4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5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6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41996-8142-4FEA-84FB-D7605E41647B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7280"/>
            <a:ext cx="503280" cy="107964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333333"/>
                </a:solidFill>
                <a:latin typeface="Open Sans"/>
              </a:rPr>
              <a:t>The curious incident of the dog in the night-time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B707-7C23-4C22-8FD8-FDF32E68204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03280" y="216000"/>
            <a:ext cx="6696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RAINSTORMING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55800" y="1450800"/>
            <a:ext cx="2789280" cy="2005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299200" y="782640"/>
            <a:ext cx="3039840" cy="2170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800360" y="4032360"/>
            <a:ext cx="3004920" cy="208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048360" y="3595680"/>
            <a:ext cx="2639880" cy="187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F216-99F0-4190-AFC0-BDC1EA2EA799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360" y="576000"/>
            <a:ext cx="856764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333333"/>
                </a:solidFill>
                <a:latin typeface="Open Sans"/>
              </a:rPr>
              <a:t>The curious incident of the dog in the night-time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2" name=""/>
          <p:cNvSpPr/>
          <p:nvPr/>
        </p:nvSpPr>
        <p:spPr>
          <a:xfrm>
            <a:off x="1440000" y="2664000"/>
            <a:ext cx="6912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 What do you think of this title 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11280" y="3402000"/>
            <a:ext cx="69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Does the title make you want to read the         book ? Why 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11280" y="4464000"/>
            <a:ext cx="6912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What predictions can you make about the       book or about its genre 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11280" y="5435640"/>
            <a:ext cx="6912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Is the previous question difficult to answer ?    Why 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506-5052-45E8-AB16-F950C52348C9}" type="slidenum">
              <a:t>3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6000" y="1728360"/>
            <a:ext cx="856764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333333"/>
                </a:solidFill>
                <a:latin typeface="Open Sans"/>
              </a:rPr>
              <a:t>The novel has had several covers. 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7" name=""/>
          <p:cNvSpPr/>
          <p:nvPr/>
        </p:nvSpPr>
        <p:spPr>
          <a:xfrm>
            <a:off x="1800360" y="3622680"/>
            <a:ext cx="6335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Which do you think would appeal to adults 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28720" y="4319640"/>
            <a:ext cx="7488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Which do you think would appeal to teenagers 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28720" y="5081760"/>
            <a:ext cx="7488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Do the covers help you to add anything to your predictions about the book 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DFF-AEC3-46F3-94C9-2051BE3B1B8B}" type="slidenum">
              <a:t>4</a:t>
            </a:fld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52760" y="1414440"/>
            <a:ext cx="3387600" cy="5508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168720" y="1046160"/>
            <a:ext cx="3671640" cy="5850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819520" y="1038240"/>
            <a:ext cx="4381560" cy="5800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952720" y="714240"/>
            <a:ext cx="4248360" cy="629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DF5B-0B4C-4EE1-A7DC-72110CCA85FD}" type="slidenum">
              <a:t>5</a:t>
            </a:fld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45040" y="3989520"/>
            <a:ext cx="2119320" cy="3138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36720" y="4103640"/>
            <a:ext cx="2317680" cy="3024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931000" y="558720"/>
            <a:ext cx="2062080" cy="3113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087560" y="431640"/>
            <a:ext cx="2081160" cy="331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06E-507E-4AFA-BFB2-C0B6731DBDE0}" type="slidenum">
              <a:t>6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07T09:34:00Z</dcterms:created>
  <dc:creator/>
  <dc:description/>
  <dc:language>en-US</dc:language>
  <cp:lastModifiedBy/>
  <dcterms:modified xsi:type="dcterms:W3CDTF">2019-09-07T10:25:41Z</dcterms:modified>
  <cp:revision>2</cp:revision>
  <dc:subject/>
  <dc:title/>
</cp:coreProperties>
</file>