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258-A300-4ADA-85FF-86DE389C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F5C-7DBC-4EB7-AF3A-7DB95EB9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467-9B01-429A-BA0D-DFFCA7A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80A-0B3C-4180-AC7B-C3CA099B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776-AF03-4390-BEA0-D09ACB8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9DF-6F9D-4354-A9A5-F700DA50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C45A-D6AA-496F-BC31-34CD7292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999A-A9CD-4169-84E6-50D8BFFA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9E27-1C69-45C1-8E4A-FDEB4B0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2A2-BEB5-4544-9CCC-F251D8E3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ED04-41A2-4A17-B2A0-FC8B53F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678-8CEE-43BC-9125-8623EBF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D7C9-1694-4625-BD68-0F39C37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44A-D622-4A8D-A707-F0E429F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191-E824-43E0-A1DF-9A11BA2E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6826-02D7-4139-ABD0-A302565B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740-46F6-4927-97A3-6976B8F7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692-BD59-4A90-A91F-C8E21A18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471-7AC6-4744-BA1C-540790DD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751-F8DD-4B25-9430-FA4C08C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EAD-2F2D-47AF-B03A-1762E34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B8B-C9D4-44DA-8002-35CB6AE3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FAE-C8AC-4EDE-8803-92C8485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4A1-9463-4A0C-8904-DF4E57B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2E985-065C-4433-9E71-55D0432DC90C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AD72D-F215-4A4B-8604-22A78D599746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The curious incident of the dog in the night-time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E74-A0BD-4C08-9E6D-2FCE7C0BBD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280" y="216000"/>
            <a:ext cx="669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RAINSTORM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55800" y="1450800"/>
            <a:ext cx="2789280" cy="200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9200" y="782640"/>
            <a:ext cx="303984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00360" y="4032360"/>
            <a:ext cx="3004920" cy="208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48360" y="3595680"/>
            <a:ext cx="2639880" cy="187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D31-DB8A-4377-9CC9-D88D4027807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57600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The curious incident of the dog in the night-time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2" name=""/>
          <p:cNvSpPr/>
          <p:nvPr/>
        </p:nvSpPr>
        <p:spPr>
          <a:xfrm>
            <a:off x="1440000" y="2664000"/>
            <a:ext cx="6912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What do you think of this title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11280" y="3402000"/>
            <a:ext cx="69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Does the title make you want to read the         book ? Why 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11280" y="446400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What predictions can you make about the       book or about its genre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11280" y="543564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Is the previous question difficult to answer ?    Why 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60A-5D50-4AC3-8C22-9A3AF47E8BFA}" type="slidenum">
              <a:t>3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172836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The novel has had several covers. 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7" name=""/>
          <p:cNvSpPr/>
          <p:nvPr/>
        </p:nvSpPr>
        <p:spPr>
          <a:xfrm>
            <a:off x="1800360" y="3622680"/>
            <a:ext cx="6335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Which do you think would appeal to adults 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8720" y="431964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Which do you think would appeal to teenagers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28720" y="508176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Do the covers help you to add anything to your predictions about the book 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B68-4D5D-4A37-9A75-883B63A18BE4}" type="slidenum">
              <a:t>4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52760" y="1414440"/>
            <a:ext cx="3387600" cy="550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168720" y="1046160"/>
            <a:ext cx="3671640" cy="585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19520" y="1038240"/>
            <a:ext cx="4381560" cy="5800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52720" y="714240"/>
            <a:ext cx="4248360" cy="62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62C-CC50-4950-B1BD-4C7BA6F5B663}" type="slidenum">
              <a:t>5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5040" y="3989520"/>
            <a:ext cx="2119320" cy="31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36720" y="4103640"/>
            <a:ext cx="231768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31000" y="558720"/>
            <a:ext cx="2062080" cy="311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087560" y="431640"/>
            <a:ext cx="2081160" cy="33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C1B-BD6A-4F54-B989-7F15E1025244}" type="slidenum">
              <a:t>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7T09:34:00Z</dcterms:created>
  <dc:creator/>
  <dc:description/>
  <dc:language>en-US</dc:language>
  <cp:lastModifiedBy/>
  <dcterms:modified xsi:type="dcterms:W3CDTF">2019-09-07T10:25:41Z</dcterms:modified>
  <cp:revision>2</cp:revision>
  <dc:subject/>
  <dc:title/>
</cp:coreProperties>
</file>