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53C-2828-4F20-9804-E465C72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537-F5FD-43F1-8A8E-003A7F5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0F9-6FF4-43EB-AD33-E7DFCFB9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927-EF07-4166-8A22-65047B40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0CE9-74C1-4C68-86BF-E76B9353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C1C-6F16-4661-BB9A-0FB498C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9FE6-4DFA-4F42-B06C-4A01382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B41-BBCD-4262-8E32-D8A40A0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781-ECE2-4CE3-BE0E-292C24F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90B0-0948-4B02-95AC-C2BFFC6F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730D-7C46-49CB-BB32-FBD852B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1C7-5663-4C95-83D2-16285D8B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DB6-D7C0-442B-A13E-21EB2AD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A0BD-27F2-4045-98D4-DEDFA22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2ED-FFED-4B21-8457-4C8E5A9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8A2-C2D8-4E0F-9E10-21441A0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E88-D411-4FEF-98A6-AF5FE2F3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504-FEE3-481C-80BD-6C6EFAA6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C9B-5D69-4052-93E1-9360F70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308-C248-469A-AE3B-DD775B26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2B4-08D5-4C15-AF6A-1586CC98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A01-9F6E-426B-AE37-9733E8D2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3E7-4367-4ACF-82BD-926D2682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90E-31FF-4F12-80BA-065F284D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3035C-E652-41CA-A80F-0D57A78C239D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52C04-72D1-4298-AA3A-B2EB87616089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rule of thir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60720" y="884160"/>
            <a:ext cx="601344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B2C-6526-4F1F-B882-A972611E6CB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golden rectangl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43160" y="2085840"/>
            <a:ext cx="391176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208-FA82-41E7-B813-0CEBD0C01171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rule of od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37040" y="2165400"/>
            <a:ext cx="392400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EB1-3F08-4071-9EF6-4C0BBDBE3143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Leading lin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62240" y="2381400"/>
            <a:ext cx="3873600" cy="28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889-892F-42CA-92B3-8E4FEBCF29B7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 strong diagon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97320" y="1790640"/>
            <a:ext cx="34034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CF6-1035-477A-B819-63597AF84F60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 line of sigh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02120" y="2070000"/>
            <a:ext cx="399384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A78-C349-4714-BD11-67DD5158523B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The point of view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89240" y="2160720"/>
            <a:ext cx="3867120" cy="29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C7D-E591-4630-884F-C796925F8DE9}" type="slidenum">
              <a:t>7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30520" y="1427040"/>
            <a:ext cx="313704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F71-2997-4634-AE4D-B23E7E0238E0}" type="slidenum">
              <a:t>8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Open Sans"/>
              </a:rPr>
              <a:t>Active spac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63920" y="1511280"/>
            <a:ext cx="32702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F43-0C23-4E52-96D7-F5C8F3057BEC}" type="slidenum">
              <a:t>9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7T11:29:27Z</dcterms:created>
  <dc:creator/>
  <dc:description/>
  <dc:language>en-US</dc:language>
  <cp:lastModifiedBy/>
  <dcterms:modified xsi:type="dcterms:W3CDTF">2019-09-17T11:44:18Z</dcterms:modified>
  <cp:revision>2</cp:revision>
  <dc:subject/>
  <dc:title/>
</cp:coreProperties>
</file>