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1A4-9DA8-4F46-AB00-3B82714A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7D9-3736-4799-B2B0-F2FBA587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F5A-C0DA-4DCA-BFB2-E8AC2A63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78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840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78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840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7CF3-F607-45DB-8826-274D6B93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4964-71D5-48A4-8619-7556CCCC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F26C-6811-45E9-AD3B-F33DEC25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A16F-BC87-468C-A936-52D3C058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3F43-100B-4514-9E5D-D2979F96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5ECE-DA69-4CB6-8431-5A655308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91640" y="4103280"/>
            <a:ext cx="8566200" cy="66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8463-66A5-469F-9EDC-5BAC597C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34F5-370C-4F07-A76B-84A695EA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C449-4F83-4C1C-9A32-C7F38326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8A09-2BC4-4B73-8959-C2245090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6A37-5BB6-4C10-A11A-14CDB69C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632D-0B89-4FC1-9E76-C56F09BB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4E8A-3C08-46D9-A42C-6824A08D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878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840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916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878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840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8BDD-6170-4C43-ADC8-77FFE7E7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C11-58E2-475D-A32D-1B1F78D9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D649-D153-4B64-90C1-776302CD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95B9-9E2E-4428-B886-9E901FF3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91640" y="4103280"/>
            <a:ext cx="8566200" cy="66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6D96-7FF7-4BCD-A686-10B699BC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2C9-2800-4624-B4F3-10C312FA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389C-5736-4057-9476-0DD61B08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4008-1D56-49DC-9216-9ABF03E0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marL="75240" indent="0">
              <a:lnSpc>
                <a:spcPct val="11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1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2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3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4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5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6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5D05D-F4A9-4DBD-9BD1-FA9F4EDD652E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319640"/>
            <a:ext cx="503280" cy="107928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1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1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2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3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4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5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6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93B6B-6AF7-4E76-973F-198E0EA421A2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7280"/>
            <a:ext cx="503280" cy="107964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Open Sans"/>
              </a:rPr>
              <a:t>The rule of third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60720" y="884160"/>
            <a:ext cx="6013440" cy="386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29C6-3E43-43CA-8645-A41C9B4003AF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Open Sans"/>
              </a:rPr>
              <a:t>The golden rectangl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143160" y="2085840"/>
            <a:ext cx="3911760" cy="346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BD1-F3F2-41C9-9688-0BE9256B6519}" type="slidenum">
              <a:t>2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Open Sans"/>
              </a:rPr>
              <a:t>The rule of odd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137040" y="2165400"/>
            <a:ext cx="3924000" cy="330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876-F15D-4F9F-858A-3811E290F426}" type="slidenum">
              <a:t>3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Open Sans"/>
              </a:rPr>
              <a:t>Leading line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162240" y="2381400"/>
            <a:ext cx="3873600" cy="287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9F0F-1394-4087-8FE4-78F5E2626D3B}" type="slidenum">
              <a:t>4</a:t>
            </a:fld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Open Sans"/>
              </a:rPr>
              <a:t>A strong diagona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97320" y="1790640"/>
            <a:ext cx="3403440" cy="405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6F43-2909-4AA9-8F0B-2AAE738192AA}" type="slidenum">
              <a:t>5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Open Sans"/>
              </a:rPr>
              <a:t>A line of sigh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102120" y="2070000"/>
            <a:ext cx="3993840" cy="349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AC5-4A4F-49D6-8D97-1B8BE8A7338B}" type="slidenum">
              <a:t>6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Open Sans"/>
              </a:rPr>
              <a:t>The point of view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189240" y="2160720"/>
            <a:ext cx="3867120" cy="299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C89-1E2E-4021-8CF8-C1AB051F61A3}" type="slidenum">
              <a:t>7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Open Sans"/>
              </a:rPr>
              <a:t>Framing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530520" y="1427040"/>
            <a:ext cx="3137040" cy="404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F937-9814-4760-AF96-539DF437A4AA}" type="slidenum">
              <a:t>8</a:t>
            </a:fld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Open Sans"/>
              </a:rPr>
              <a:t>Active spac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63920" y="1511280"/>
            <a:ext cx="327024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72A-30AB-4560-A358-EE3821DF7FBC}" type="slidenum">
              <a:t>9</a:t>
            </a:fld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7T11:29:27Z</dcterms:created>
  <dc:creator/>
  <dc:description/>
  <dc:language>en-US</dc:language>
  <cp:lastModifiedBy/>
  <dcterms:modified xsi:type="dcterms:W3CDTF">2019-09-17T11:44:18Z</dcterms:modified>
  <cp:revision>2</cp:revision>
  <dc:subject/>
  <dc:title/>
</cp:coreProperties>
</file>