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5E0-3E27-4EFD-895B-54DDBCC8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944-4B55-412D-9CCD-8C8E7099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169-B0F1-460B-9AAC-79907DC7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40F-C8D8-4D45-80AD-97F0EB55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4F72-A1C4-4499-BFB2-19000A42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6A7A-FCCB-414C-931E-38BE063A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8319-5812-4E1D-ABD3-99A13CAC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60B3-43CA-456A-968A-C7A0C7F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88DA-9ABE-49E2-B415-6EE7C6E7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031A-94A5-4493-8D4F-E9CBC1EA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14FD-1BA3-4934-A906-CBD1296D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D5D-DCB6-48BB-ACEA-0170C983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A569-8377-45BE-870C-7CC37984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8B97-38DC-410F-8475-0E17A4B3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3EC7-92B7-402D-AE62-94F1F189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A6B8-A0E9-4F48-830B-BED92ADD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CD3C-E278-43D8-BE72-A85B1BA7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8B7-8BF3-472A-9E1D-4D3459D5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4A5-A0B6-4B6D-BB12-F1EAD367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A0E-1D64-4BAE-A4EE-CBBB92FC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524-9123-475B-ACB0-39CC26C6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789-126A-4333-A9D4-61C5A80A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009-E76A-46AE-B917-405EBF10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5CA-5B03-47A7-B9F1-1C9CEFC1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91DDE-F70E-4F35-B441-BE2507F9EA93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8E7BE-E47E-4F6B-B853-2801995BFBA5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8320" y="863640"/>
            <a:ext cx="8906040" cy="59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7F4-FA18-4968-8572-0979CEF83D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907920"/>
            <a:ext cx="7775640" cy="570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A7B-F092-4D56-9A95-CFEAED2C259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0000" y="806400"/>
            <a:ext cx="7704000" cy="573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B88D-8A81-4FC4-8CD9-04D891E6DD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63640" y="689040"/>
            <a:ext cx="8712000" cy="609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CB83-F471-41CE-BD5C-1D16D2C348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63640" y="538200"/>
            <a:ext cx="8423280" cy="631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E373-EC6B-4FAD-86F8-AABA8A21DD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806400"/>
            <a:ext cx="8748720" cy="588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4135-49C4-450A-9619-E92C128D6F67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17:06:32Z</dcterms:created>
  <dc:creator/>
  <dc:description/>
  <dc:language>en-US</dc:language>
  <cp:lastModifiedBy/>
  <dcterms:modified xsi:type="dcterms:W3CDTF">2019-09-11T17:20:45Z</dcterms:modified>
  <cp:revision>2</cp:revision>
  <dc:subject/>
  <dc:title/>
</cp:coreProperties>
</file>