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0756-71E9-49F2-9C7E-1799299A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111-6A8C-481B-A5AC-47D2B4ED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852-8BD4-40F4-B9BA-9DB3A6B9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7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31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072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7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31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039-F9AF-4CEC-B9A9-F6DA0BAB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5115-BD5F-4952-B1BB-BF5194CE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B37C-F36E-4BE4-A85E-5CCCE08D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47B9-DCF7-4814-9AC7-59C91B6D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0035-2EF1-4741-81A6-C1E98E15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8380-FD6D-4A2C-A4E3-6E9E6F73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20360" y="301320"/>
            <a:ext cx="8853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22CB-5D68-4D08-8DF2-17C39E26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4A35-069A-4772-9B4C-F3EBCDE7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2533-08DE-45BC-AEC4-C915746F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858E-758E-478A-88FD-C10B456E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98A8-3AB0-4645-ADB8-B1654AFA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E088-6E0F-4BF5-9290-AA5114FF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AF2A-D89C-4BF1-B902-CB2BFEF9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17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631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72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17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631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4273-F73F-416C-8779-BDABDA8C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C7E-C3C6-4DFA-A1C7-CA98D5F7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35A-29DD-4CAA-9D2D-87F49293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324F-4416-4EEA-805C-3493BCF6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360" y="301320"/>
            <a:ext cx="8853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0A56-A41E-4DF8-9271-0355A79E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4E3B-247D-4DDC-BA72-61C79C45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B85-73F0-4DAE-974E-E6FD96BD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681-0265-430F-B820-3A9F5362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marL="75240" indent="0">
              <a:lnSpc>
                <a:spcPct val="11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1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2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3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4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5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6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CD74C-9064-4115-98F6-B1B1C2E2CFB4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319640"/>
            <a:ext cx="503280" cy="107928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1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1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2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3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4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5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6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85BB8-FF1E-44BF-880D-B9632FB342FB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7280"/>
            <a:ext cx="503280" cy="107964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98320" y="863640"/>
            <a:ext cx="8906040" cy="597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649-DF51-4C97-992C-B5388543279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907920"/>
            <a:ext cx="7775640" cy="570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E8B-6137-4D4F-A528-998B060FA74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40000" y="806400"/>
            <a:ext cx="7704000" cy="573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DFBF-9606-495F-878B-AC97D774CC5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63640" y="689040"/>
            <a:ext cx="8712000" cy="609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5801-1559-44A7-9FB5-9C3DCEA6287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63640" y="538200"/>
            <a:ext cx="8423280" cy="631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ED4B-937B-4AC1-9F5C-44AF9AE346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806400"/>
            <a:ext cx="8748720" cy="588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BA1E-8803-4EFA-93AA-08FA5897D89D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1T17:06:32Z</dcterms:created>
  <dc:creator/>
  <dc:description/>
  <dc:language>en-US</dc:language>
  <cp:lastModifiedBy/>
  <dcterms:modified xsi:type="dcterms:W3CDTF">2019-09-11T17:20:45Z</dcterms:modified>
  <cp:revision>2</cp:revision>
  <dc:subject/>
  <dc:title/>
</cp:coreProperties>
</file>