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png" ContentType="image/png"/>
  <Override PartName="/ppt/media/image7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40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0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546D-9489-4887-96C0-A664DF06C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3262-DD14-468D-8A8D-DB67247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78F9-D071-4BB6-A30B-63B2A48A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A6C2-C5B8-4B34-A17F-12DFDA4E5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36D4C-062C-4F49-BA88-61A37D57A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DF091-0E74-42C4-A7F1-0036B9B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35C01-7F45-4842-8FDA-4F666B1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764F-E9CA-4ED3-845C-7BC7D06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B5330-1571-4891-BB26-721B8D0B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48626-2526-40B2-8BFA-A1511C6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49EC0-CC9B-4BEE-BA00-B8F99715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E163-46AF-4DA6-BCA0-F010F9C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C16A-8959-4DA6-A5C7-A0D124C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65DA8-4413-4F71-B7D2-D2963320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3368E-3700-4624-BAB3-4EACD14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72A86-D8D6-4C1A-B96E-E6E39C5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0F8D-2D5E-48D9-881F-A23D5735E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692-1838-406B-B7ED-5E30082E1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A8A-6214-444A-A73B-5BD8613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58A-F425-4D0E-9D5B-BACC9E7B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EAD-AE66-4D9D-823D-90EA72A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BB63-5ABE-457D-AF25-0A682182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13BA-F531-4BAD-BC88-4A33D809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5CB-B8A1-4B62-A35B-A6B9112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841F-EFBE-42E8-9016-7899B9E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B93-73A8-463B-AAFB-6938363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4395-5926-4307-BE91-3A8F725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B47-FB29-4912-8D34-14C47EF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314-3738-4F6B-B595-5530343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C80-5E1F-456E-B165-28A69C517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5623E-4ACA-44D2-B40F-D7797CAFA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542C0-C28C-45F7-AC50-910CCA0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800EA-5DA8-434D-8A02-6DE8047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0925-2968-4119-93F2-4BEFE153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3DD7F-3938-40E9-A404-C5A77C8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087E7-86B5-49AD-A598-F7FC222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E38FD-34C2-4D13-A425-85FA3669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8F5F0-A5D3-40DD-920D-6FBDBE0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384D8-3B43-4CC8-A076-BC4FA8C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F7A10-B97D-4DFD-B3F2-BCA31646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C060F-9876-4BC0-992B-771BE2AD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97C08-7763-491C-ACC0-F93A00A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A441F-309F-4537-A02C-E8163F8B2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7D05-6DEC-4FA5-8343-0E54B7BF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81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96CE-DD84-407D-BC73-299506F9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4702-FAA6-408B-AD5F-49F09DC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F509-D078-41FE-93C7-EB718B1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56C6-7133-49F8-B111-933DF9F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5AC58B-7C2C-4AE5-8636-ACC1FE87622E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cap="sq"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56C353-D2BD-4D40-8D54-8E5433C86A92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711E266-9613-4558-8844-B4369DCF6661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cap="sq"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cap="sq"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81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DEA830-C328-43CE-AA5B-BCB73B4C17C1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Segoe U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91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dapted from Tina Heller’s ppt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720" y="993600"/>
            <a:ext cx="8321760" cy="24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154160" y="1104840"/>
            <a:ext cx="69912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62120" y="974880"/>
            <a:ext cx="5975280" cy="21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3657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100240" y="1041480"/>
            <a:ext cx="50990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N’T DISCUS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INK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at do the “gothic” images have in comm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at elements might you expect in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(What can you anticipate discovering in Gothic literature?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1447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ithout discussing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ach student should mak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nother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li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of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five more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element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to answer the following ques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880" y="1447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ow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…DISCUSS your answ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Perio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is period crosses from the late 18th Century to the early 19th and mixes i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e Romantic Period with Gothic Romanc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Color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ark colors…shades of black create mystery and da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eep red…reveals injury, death, murder…or a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Jewel tones that reflect the Renaissance may create sett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Gothic Tone/Atmosphe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steri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anger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uspensef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nfu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Horriffy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4.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icrosoft YaHei"/>
              </a:rPr>
              <a:t>Other Gothic Elements</a:t>
            </a: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By: Tina Hel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613720" cy="3157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43434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rite down your answers to a few ques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re-quiz on gothic litera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Church      Cemetery      Old Ca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Mansion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ave         Forest          Ruin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hadowy, dark 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1930320" cy="144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019920" y="990720"/>
            <a:ext cx="1981080" cy="19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429000" y="655560"/>
            <a:ext cx="2209680" cy="147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 of the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uspens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stery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 threatening f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Isolation            op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1504800" cy="1524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429000" y="609480"/>
            <a:ext cx="2286000" cy="16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248520" y="685800"/>
            <a:ext cx="18288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egend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ld Tale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yth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886200" y="685800"/>
            <a:ext cx="117144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791320" y="762120"/>
            <a:ext cx="1523880" cy="133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1676520" y="685800"/>
            <a:ext cx="1752480" cy="147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58920" y="3672000"/>
            <a:ext cx="83055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isturbing dream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oreshadowing visions     Lurking d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rescience   Haunting nightm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809880" y="457200"/>
            <a:ext cx="1152720" cy="1755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hosts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Giant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alking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onsters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e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houls      Appar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121932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629400" y="685800"/>
            <a:ext cx="118116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cream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Wail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ry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Moaning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Sobb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ear      Terror    Loneliness    Anx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103640" y="503280"/>
            <a:ext cx="1405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istraught heroin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Needs a prot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Alon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ensiv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eak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ost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rightened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Vulnerable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ainting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1828800" cy="273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700440"/>
            <a:ext cx="8305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mmanded to Mar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r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</a:t>
            </a: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ommit a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or to do something intolerabl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321760" cy="2755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74800" y="2303640"/>
            <a:ext cx="1212840" cy="1676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912000" y="2303640"/>
            <a:ext cx="112392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25560" y="3645000"/>
            <a:ext cx="87631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ind, especially howling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       rain, especially blow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ors grating on rusty hinges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sighs, moans, howls, eerie soun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footsteps approaching  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lanking chains lights in abandoned ro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gusts of wind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blowing out ligh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characters trapped in a room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doors suddenly slamming sh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ruins of buildings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            baying of distant dogs (or wolves?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hunder and lightning 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	</a:t>
            </a:r>
            <a:r>
              <a:rPr b="0" lang="en-US" sz="1800" spc="-1" strike="noStrike">
                <a:solidFill>
                  <a:srgbClr val="fefac9"/>
                </a:solidFill>
                <a:latin typeface="Constantia"/>
                <a:ea typeface="Microsoft YaHei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32176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01760" y="171360"/>
            <a:ext cx="8413560" cy="2425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80880" y="358128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Powerful, overwhelming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Uncertainty of reciprocation of that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Unrequited l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Tension between true love and father’s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Lovers pa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Illicit love or lust threatens the virtuous 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Rival lovers or multiple sui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55096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mantic Period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late 18th Century to the late 19th, the Romantic period flourished with authors including Jane Austen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ne Ey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William Blake, Samuel Coleridge, and William Wordsw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321760" cy="304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is the time period (century) of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color (s) do you associate with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What atmosphere (tone) is produced in Gothic literatu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ame </a:t>
            </a:r>
            <a:r>
              <a:rPr b="0" lang="en-US" sz="2200" spc="-1" strike="noStrike">
                <a:solidFill>
                  <a:srgbClr val="f8c891"/>
                </a:solidFill>
                <a:latin typeface="Constantia"/>
              </a:rPr>
              <a:t>two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other elements (character types, settings, events, etc.) that are typically found in Gothic litera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321760" cy="3157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o not change your answers on the pre-quiz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Do NOT discuss your quiz answers ye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Only discuss what is asked of yo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47640" y="1011240"/>
            <a:ext cx="7848720" cy="3092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9280" y="4272120"/>
            <a:ext cx="404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511280" y="873000"/>
            <a:ext cx="6551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541520" y="914400"/>
            <a:ext cx="62164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062000" y="1092240"/>
            <a:ext cx="717552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  <a:ea typeface="Microsoft YaHei"/>
              </a:rPr>
              <a:t>Which of the images is “gothic”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321760" cy="968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90560" y="1041480"/>
            <a:ext cx="5918400" cy="205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2:45:04Z</dcterms:created>
  <dc:creator>Tina Heller</dc:creator>
  <dc:description/>
  <dc:language>en-US</dc:language>
  <cp:lastModifiedBy/>
  <dcterms:modified xsi:type="dcterms:W3CDTF">2019-11-19T21:23:36Z</dcterms:modified>
  <cp:revision>69</cp:revision>
  <dc:subject/>
  <dc:title>An Introduction  to  Gothic Literature</dc:title>
</cp:coreProperties>
</file>