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4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40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0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226B-D1A3-47C6-B1E5-3C425C29F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D932-A157-4E7B-A246-AA5824C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6D0E-BBD7-428D-B87D-2512B07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98C3-6A3E-4CCA-9615-98E3C6744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F2179-E796-4131-AC90-579F389D1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375F-04A0-4352-A2A7-64A87EB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12C93-B2F5-41E3-AC29-D428626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C4D8E-B37A-4B0B-BA74-071A2C87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85E14-8446-42F7-B976-7895A952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60318-3256-4838-8676-CF466278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65D1D-617C-4083-B4FF-670B8A7C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6C65-E6AF-48F9-9635-4692DBEC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01850-E2C2-433E-8941-B0DD072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9CBF9-6957-4788-A0B6-723E162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00444-C81E-483C-B78D-89FF9513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81D79-F931-413E-9E0C-F0C78D8F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0C05D-A2CA-4382-AC6B-0C73B3B6E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E22-339D-422D-9D22-AF3B3A80BF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2D4-BED3-4070-9598-AF06CF2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F45B-D710-4C43-B97D-86A9B14E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7BB3-56A9-41F2-A23E-860835D0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CAA-20A9-4D37-9BDB-0A60BE8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15F8-F7EB-4232-938B-7096F6C5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7FF0-582F-4700-B9D5-B92FA00A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98E1-2CB4-4C16-99AB-86352F7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FD09-5AF1-40E2-9E4B-08D702C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DF2E-8C5E-48F1-A1BE-7AC9B0F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2B9B-89E7-4D33-A1F8-DF680E6D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14AE-6F1C-4C47-AAED-C88424DA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6481-6C73-4669-909B-A24BD08C6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A5BA0-B714-4647-A468-B5BB74156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D95F9-B40D-40F3-8AF4-47E9807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4B334-E6E2-488D-8BE8-CDD10911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B235-4023-43CA-B1E4-C9D36665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4DD5B-3655-4FDA-B905-3108AF3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77087-79FE-4CB3-B66D-38723458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FFA67-CFF2-47D8-A63D-E70BB545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07A8B-1792-4C6B-8C39-72ABD43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67A27-E86D-4041-BCEC-FD19326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BAA58A-120E-4872-83A7-E7B56A3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DF33D-E37B-4D43-BBE3-3449D1F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58ECC-E815-45F1-B3A2-79A9F29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44017-EAA2-45DC-879D-2A25E561E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CB4F-2C06-44F1-9B8C-19FFC252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85C4-E9CF-4FD6-AA81-F35C180F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2BC2-E4D9-4472-9CC8-E3B0EAF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5930-2F1E-4FFA-B2B9-1969CB38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F4D0-2D17-4CBF-9989-CD9D75E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84DF554-9887-446D-8191-FFCE60F703E5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cap="sq"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F8AB54-5373-4E80-8820-45327A5B3DEC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EAF63EF-D702-4EA9-9B9F-B00AC2D54CB3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cap="sq"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cap="sq"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77EDCF3-F380-46EF-9172-8C2DFE9A2501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Adapted from Tina Heller’s ppt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720" y="993600"/>
            <a:ext cx="8321760" cy="24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154160" y="1104840"/>
            <a:ext cx="699120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62120" y="974880"/>
            <a:ext cx="5975280" cy="21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3657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100240" y="1041480"/>
            <a:ext cx="509904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ON’T DISCUS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INK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at do the “gothic” images have in comm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at elements might you expect in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(What can you anticipate discovering in Gothic literature?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1447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Without discussing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each student should mak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nother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li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of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five more 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element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to answer the following ques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880" y="1447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ow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…DISCUSS your answ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1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Gothic Perio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is period crosses from the late 18th Century to the early 19th and mixes i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e Romantic Period with Gothic Romanc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2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Gothic Color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ark colors…shades of black create mystery and da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eep red…reveals injury, death, murder…or a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Jewel tones that reflect the Renaissance may create sett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Gothic Tone/Atmosphe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yste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anger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uspensefu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onfu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Horriffy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4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Other Gothic Elements</a:t>
            </a: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By: Tina Hel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613720" cy="3157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43434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rite down your answers to a few ques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re-quiz on gothic litera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Church      Cemetery      Old Ca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Mansion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ave         Forest          Ruins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hadowy, dark 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1930320" cy="144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019920" y="990720"/>
            <a:ext cx="1981080" cy="198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429000" y="655560"/>
            <a:ext cx="2209680" cy="147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ear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ear of the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uspens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ystery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A threatening f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Isolation            op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1504800" cy="1524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429000" y="609480"/>
            <a:ext cx="2286000" cy="16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248520" y="685800"/>
            <a:ext cx="18288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Legend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Tale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yths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886200" y="685800"/>
            <a:ext cx="117144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791320" y="762120"/>
            <a:ext cx="1523880" cy="133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1676520" y="685800"/>
            <a:ext cx="1752480" cy="147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58920" y="3672000"/>
            <a:ext cx="83055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isturbing dream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oreshadowing visions     Lurking d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rescience   Haunting nightm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809880" y="457200"/>
            <a:ext cx="1152720" cy="1755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Ghosts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Giant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alking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onster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em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Ghouls      Appar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121932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629400" y="685800"/>
            <a:ext cx="118116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cream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Wail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ry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oan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Sobb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ear      Terror    Loneliness    Anx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103640" y="503280"/>
            <a:ext cx="1405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istraught heroin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Needs a prot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Alon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ensiv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eak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Lost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rightened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Vulnerabl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ainting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209680" y="685800"/>
            <a:ext cx="1828800" cy="273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ommanded to Mar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r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ommit a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r to do something intolerabl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74800" y="2303640"/>
            <a:ext cx="1212840" cy="1676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912000" y="2303640"/>
            <a:ext cx="112392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25560" y="3645000"/>
            <a:ext cx="87631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ind, especially howling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         rain, especially blow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oors grating on rusty hinges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ighs, moans, howls, eerie soun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ootsteps approaching  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lanking chains lights in abandoned roo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gusts of wind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blowing out ligh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haracters trapped in a room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oors suddenly slamming sh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ruins of buildings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        baying of distant dogs (or wolves?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under and lightning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32176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01760" y="171360"/>
            <a:ext cx="8413560" cy="2425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80880" y="358128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owerful, overwhelming l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Uncertainty of reciprocation of that l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Unrequited l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ension between true love and father’s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Lovers pa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Illicit love or lust threatens the virtuous 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Rival lovers or multiple sui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55096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mantic Period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late 18th Century to the late 19th, the Romantic period flourished with authors including Jane Austen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ne Ey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William Blake, Samuel Coleridge, and William Wordsw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321760" cy="304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hat is the time period (century) of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hat color (s) do you associate with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hat atmosphere (tone) is produced in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ame </a:t>
            </a:r>
            <a:r>
              <a:rPr b="0" lang="en-US" sz="2200" spc="-1" strike="noStrike">
                <a:solidFill>
                  <a:srgbClr val="f8c891"/>
                </a:solidFill>
                <a:latin typeface="Constantia"/>
              </a:rPr>
              <a:t>two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other elements (character types, settings, events, etc.) that are typically found in Gothic litera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321760" cy="3157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Do not change your answers on the pre-quiz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Do NOT discuss your quiz answers ye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Only discuss what is asked of yo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47640" y="1011240"/>
            <a:ext cx="7848720" cy="3092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9280" y="4272120"/>
            <a:ext cx="4041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511280" y="873000"/>
            <a:ext cx="6551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541520" y="914400"/>
            <a:ext cx="62164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062000" y="1092240"/>
            <a:ext cx="717552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690560" y="1041480"/>
            <a:ext cx="5918400" cy="205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2:45:04Z</dcterms:created>
  <dc:creator>Tina Heller</dc:creator>
  <dc:description/>
  <dc:language>en-US</dc:language>
  <cp:lastModifiedBy/>
  <dcterms:modified xsi:type="dcterms:W3CDTF">2019-11-19T21:23:36Z</dcterms:modified>
  <cp:revision>69</cp:revision>
  <dc:subject/>
  <dc:title>An Introduction  to  Gothic Literature</dc:title>
</cp:coreProperties>
</file>