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FA08-B8CC-4F06-AA6F-E9290C130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9840" y="1841040"/>
            <a:ext cx="86756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99840" y="4165560"/>
            <a:ext cx="86756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3FC8-35A2-4A2A-93B7-8B9D01E7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9840" y="184104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5480" y="184104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9840" y="416556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5480" y="416556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CB40-48C1-4574-8F5E-85406FF11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9840" y="1841040"/>
            <a:ext cx="27932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33120" y="1841040"/>
            <a:ext cx="27932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66400" y="1841040"/>
            <a:ext cx="27932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99840" y="4165560"/>
            <a:ext cx="27932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33120" y="4165560"/>
            <a:ext cx="27932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66400" y="4165560"/>
            <a:ext cx="27932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15E9-1088-48E8-A37B-CC6348CB0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70D9-2958-45F0-88BD-7FF03AA11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99840" y="1841040"/>
            <a:ext cx="86756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05CB-61BC-447F-946B-A38146E2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9840" y="1841040"/>
            <a:ext cx="86756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659D-7BB2-4AFA-BEAF-362CCB39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99840" y="1841040"/>
            <a:ext cx="423360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45480" y="1841040"/>
            <a:ext cx="423360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24DF-8CF1-4F07-99B9-DEAA0332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3A1D-D74A-4226-8557-D7B02970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99840" y="445680"/>
            <a:ext cx="867564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9711-6360-490A-BE69-47E6BF6E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9840" y="184104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5480" y="1841040"/>
            <a:ext cx="423360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9840" y="416556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C8265-EBDC-43BE-AC8C-1B3C2845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99840" y="1841040"/>
            <a:ext cx="86756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34F2-5767-44C8-8AD3-5FD9D395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9840" y="1841040"/>
            <a:ext cx="423360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5480" y="184104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45480" y="416556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7243-A57F-4A25-8E5C-C1CB939C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99840" y="184104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45480" y="184104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99840" y="4165560"/>
            <a:ext cx="86756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FADCC-6120-4D97-BE23-179FB389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9840" y="1841040"/>
            <a:ext cx="86756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99840" y="4165560"/>
            <a:ext cx="86756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040B-1B5F-4537-9AD3-4E6DA9F1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9840" y="184104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45480" y="184104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99840" y="416556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45480" y="416556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BA5D-4F45-4426-BA74-5C818ED1A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9840" y="1841040"/>
            <a:ext cx="27932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33120" y="1841040"/>
            <a:ext cx="27932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66400" y="1841040"/>
            <a:ext cx="27932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99840" y="4165560"/>
            <a:ext cx="27932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33120" y="4165560"/>
            <a:ext cx="27932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66400" y="4165560"/>
            <a:ext cx="27932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4CE0-B94C-40BE-A59E-4C0F41215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64391-E848-4918-97A0-E70B54E5A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99840" y="1841040"/>
            <a:ext cx="86756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B2C2F-93CC-4E92-A648-B635EC5C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99840" y="1841040"/>
            <a:ext cx="86756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04211-A26F-4BC4-8DF1-538B2B1B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99840" y="1841040"/>
            <a:ext cx="423360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45480" y="1841040"/>
            <a:ext cx="423360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47750-FFE8-424A-9D76-11B45563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3E2F3-DA9E-40DB-AB53-B407386C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99840" y="1841040"/>
            <a:ext cx="86756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05FE-C6A8-4872-8E2C-BB5DEF51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99840" y="445680"/>
            <a:ext cx="867564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6ACB7-0274-4F61-9490-7A95AB8B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99840" y="184104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45480" y="1841040"/>
            <a:ext cx="423360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99840" y="416556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6116F-542C-4286-A999-F4CA2D67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99840" y="1841040"/>
            <a:ext cx="423360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45480" y="184104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45480" y="416556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E2505-5B38-46AC-957A-1EAF2696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99840" y="184104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45480" y="184104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99840" y="4165560"/>
            <a:ext cx="86756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68314-D0D1-4861-B9CE-7FA6BEFC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99840" y="1841040"/>
            <a:ext cx="86756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99840" y="4165560"/>
            <a:ext cx="86756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72605-0BE0-4F39-9AAF-F9050316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99840" y="184104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45480" y="184104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99840" y="416556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145480" y="416556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3543D-BCDD-4E48-BA77-0DEC6EE5F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99840" y="1841040"/>
            <a:ext cx="27932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33120" y="1841040"/>
            <a:ext cx="27932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66400" y="1841040"/>
            <a:ext cx="27932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99840" y="4165560"/>
            <a:ext cx="27932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633120" y="4165560"/>
            <a:ext cx="27932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566400" y="4165560"/>
            <a:ext cx="27932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C5F7A-D10D-4680-B7EB-3043E6D3D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13EAF-426A-40BC-8CD7-445F93F62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99840" y="1841040"/>
            <a:ext cx="86756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0B506-50E5-47CC-BAF6-2F3C8B50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99840" y="1841040"/>
            <a:ext cx="86756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C2227-6286-41E4-A46F-06E0144F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9840" y="1841040"/>
            <a:ext cx="423360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5480" y="1841040"/>
            <a:ext cx="423360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4E26-AABB-49F3-85E5-34371354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99840" y="1841040"/>
            <a:ext cx="423360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45480" y="1841040"/>
            <a:ext cx="423360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51EED-6DF8-4D11-8668-B8245F53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389A2-8F88-4F59-96A0-5D8075F1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99840" y="445680"/>
            <a:ext cx="867564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83445-532E-46C1-9376-2F6575BF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99840" y="184104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45480" y="1841040"/>
            <a:ext cx="423360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99840" y="416556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344DB-1DAF-4482-857B-6DC503D5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99840" y="1841040"/>
            <a:ext cx="423360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45480" y="184104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145480" y="416556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08A79-BE85-4083-97AB-18D38BC7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9840" y="184104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45480" y="184104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99840" y="4165560"/>
            <a:ext cx="86756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C6F5C-B876-491B-BEC3-6211CC1A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9840" y="1841040"/>
            <a:ext cx="86756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99840" y="4165560"/>
            <a:ext cx="86756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D2363-8A21-4A43-8719-75C2042C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99840" y="184104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45480" y="184104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99840" y="416556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145480" y="416556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016E2-2404-4D56-AA9C-42263E253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9840" y="1841040"/>
            <a:ext cx="27932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633120" y="1841040"/>
            <a:ext cx="27932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566400" y="1841040"/>
            <a:ext cx="27932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99840" y="4165560"/>
            <a:ext cx="27932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633120" y="4165560"/>
            <a:ext cx="27932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566400" y="4165560"/>
            <a:ext cx="27932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EE6D3-BA4A-4060-89A8-35B04FD27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2017-CB45-4319-AEB5-065F80A5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99840" y="445680"/>
            <a:ext cx="867564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C65F-FD0B-4A04-BF1B-8300B162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9840" y="184104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5480" y="1841040"/>
            <a:ext cx="423360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99840" y="416556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A751-6480-420F-A94A-6D462D5C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99840" y="1841040"/>
            <a:ext cx="423360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5480" y="184104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5480" y="416556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2DFB-BDA4-4A5E-9241-65AB616F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9840" y="184104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5480" y="184104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99840" y="4165560"/>
            <a:ext cx="86756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2CC0-323B-4AF7-BB82-10F08BC2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dddddd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dddddd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dddddd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B02CD-9BC7-48CF-8CAC-99F86C14B634}" type="slidenum">
              <a:rPr b="0" lang="fr-FR" sz="1400" spc="-1" strike="noStrike">
                <a:solidFill>
                  <a:srgbClr val="dddddd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-36360" y="0"/>
            <a:ext cx="10185120" cy="759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3745080" y="2547720"/>
            <a:ext cx="2558880" cy="24685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43000"/>
          </a:bodyPr>
          <a:p>
            <a:pPr marL="147240" indent="0" algn="ctr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  <a:p>
            <a:pPr lvl="1" marL="147240" indent="-147240" algn="ctr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  <a:p>
            <a:pPr lvl="2" marL="147240" indent="-147240" algn="ctr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  <a:p>
            <a:pPr lvl="3" marL="147240" indent="-147240" algn="ctr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  <a:p>
            <a:pPr lvl="4" marL="147240" indent="-147240" algn="ctr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  <a:p>
            <a:pPr lvl="5" marL="147240" indent="-147240" algn="ctr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  <a:p>
            <a:pPr lvl="6" marL="147240" indent="-147240" algn="ctr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503280" y="301320"/>
            <a:ext cx="4037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36360" y="0"/>
            <a:ext cx="10186920" cy="7597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47600" y="1382400"/>
            <a:ext cx="43671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DejaVu Sans"/>
              </a:rPr>
              <a:t>Click to edit the title text format</a:t>
            </a: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47600" y="2728440"/>
            <a:ext cx="440532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 fontScale="77000"/>
          </a:bodyPr>
          <a:p>
            <a:pPr marL="263880" indent="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DejaVu Sans"/>
              </a:rPr>
              <a:t>Click to edit the outline text format</a:t>
            </a:r>
            <a:endParaRPr b="0" lang="en-US" sz="2600" spc="-1" strike="noStrike">
              <a:solidFill>
                <a:srgbClr val="666666"/>
              </a:solidFill>
              <a:latin typeface="DejaVu Sans"/>
            </a:endParaRPr>
          </a:p>
          <a:p>
            <a:pPr lvl="1" marL="263880" indent="-2638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DejaVu Sans"/>
              </a:rPr>
              <a:t>Second Outline Level</a:t>
            </a:r>
            <a:endParaRPr b="0" lang="en-US" sz="2600" spc="-1" strike="noStrike">
              <a:solidFill>
                <a:srgbClr val="666666"/>
              </a:solidFill>
              <a:latin typeface="DejaVu Sans"/>
            </a:endParaRPr>
          </a:p>
          <a:p>
            <a:pPr lvl="2" marL="263880" indent="-2638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DejaVu Sans"/>
              </a:rPr>
              <a:t>Third Outline Level</a:t>
            </a:r>
            <a:endParaRPr b="0" lang="en-US" sz="2600" spc="-1" strike="noStrike">
              <a:solidFill>
                <a:srgbClr val="666666"/>
              </a:solidFill>
              <a:latin typeface="DejaVu Sans"/>
            </a:endParaRPr>
          </a:p>
          <a:p>
            <a:pPr lvl="3" marL="263880" indent="-2638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DejaVu Sans"/>
              </a:rPr>
              <a:t>Fourth Outline Level</a:t>
            </a:r>
            <a:endParaRPr b="0" lang="en-US" sz="2600" spc="-1" strike="noStrike">
              <a:solidFill>
                <a:srgbClr val="666666"/>
              </a:solidFill>
              <a:latin typeface="DejaVu Sans"/>
            </a:endParaRPr>
          </a:p>
          <a:p>
            <a:pPr lvl="4" marL="263880" indent="-2638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DejaVu Sans"/>
              </a:rPr>
              <a:t>Fifth Outline Level</a:t>
            </a:r>
            <a:endParaRPr b="0" lang="en-US" sz="2600" spc="-1" strike="noStrike">
              <a:solidFill>
                <a:srgbClr val="666666"/>
              </a:solidFill>
              <a:latin typeface="DejaVu Sans"/>
            </a:endParaRPr>
          </a:p>
          <a:p>
            <a:pPr lvl="5" marL="263880" indent="-2638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DejaVu Sans"/>
              </a:rPr>
              <a:t>Sixth Outline Level</a:t>
            </a:r>
            <a:endParaRPr b="0" lang="en-US" sz="2600" spc="-1" strike="noStrike">
              <a:solidFill>
                <a:srgbClr val="666666"/>
              </a:solidFill>
              <a:latin typeface="DejaVu Sans"/>
            </a:endParaRPr>
          </a:p>
          <a:p>
            <a:pPr lvl="6" marL="263880" indent="-2638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DejaVu Sans"/>
              </a:rPr>
              <a:t>Seventh Outline Level</a:t>
            </a:r>
            <a:endParaRPr b="0" lang="en-US" sz="26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142560" y="714672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just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dddddd"/>
                </a:solidFill>
                <a:latin typeface="DejaVu Sans"/>
                <a:ea typeface="Segoe UI"/>
              </a:defRPr>
            </a:lvl1pPr>
          </a:lstStyle>
          <a:p>
            <a:pPr indent="0" algn="just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DejaVu Sans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448080" y="7146720"/>
            <a:ext cx="31924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dddddd"/>
                </a:solidFill>
                <a:latin typeface="DejaVu Sans"/>
                <a:ea typeface="Segoe UI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DejaVu Sans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621200" y="714672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dddddd"/>
                </a:solidFill>
                <a:latin typeface="DejaVu Sans"/>
                <a:ea typeface="Segoe UI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694921-FD08-4547-9B3A-A323EDDCF5FF}" type="slidenum">
              <a:rPr b="0" lang="fr-FR" sz="1400" spc="-1" strike="noStrike">
                <a:solidFill>
                  <a:srgbClr val="dddddd"/>
                </a:solidFill>
                <a:latin typeface="DejaVu Sans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36360" y="0"/>
            <a:ext cx="10186920" cy="7597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65440" y="301320"/>
            <a:ext cx="65894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DejaVu Sans"/>
              </a:rPr>
              <a:t>Click to edit the title text format</a:t>
            </a: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765440" y="1767960"/>
            <a:ext cx="6589440" cy="486756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DejaVu Sans"/>
              </a:rPr>
              <a:t>Click to edit the outline text format</a:t>
            </a:r>
            <a:endParaRPr b="0" lang="en-US" sz="2600" spc="-1" strike="noStrike">
              <a:solidFill>
                <a:srgbClr val="666666"/>
              </a:solidFill>
              <a:latin typeface="DejaVu Sans"/>
            </a:endParaRPr>
          </a:p>
          <a:p>
            <a:pPr lvl="1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DejaVu Sans"/>
              </a:rPr>
              <a:t>Second Outline Level</a:t>
            </a:r>
            <a:endParaRPr b="0" lang="en-US" sz="2600" spc="-1" strike="noStrike">
              <a:solidFill>
                <a:srgbClr val="666666"/>
              </a:solidFill>
              <a:latin typeface="DejaVu Sans"/>
            </a:endParaRPr>
          </a:p>
          <a:p>
            <a:pPr lvl="2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DejaVu Sans"/>
              </a:rPr>
              <a:t>Third Outline Level</a:t>
            </a:r>
            <a:endParaRPr b="0" lang="en-US" sz="2600" spc="-1" strike="noStrike">
              <a:solidFill>
                <a:srgbClr val="666666"/>
              </a:solidFill>
              <a:latin typeface="DejaVu Sans"/>
            </a:endParaRPr>
          </a:p>
          <a:p>
            <a:pPr lvl="3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DejaVu Sans"/>
              </a:rPr>
              <a:t>Fourth Outline Level</a:t>
            </a:r>
            <a:endParaRPr b="0" lang="en-US" sz="2600" spc="-1" strike="noStrike">
              <a:solidFill>
                <a:srgbClr val="666666"/>
              </a:solidFill>
              <a:latin typeface="DejaVu Sans"/>
            </a:endParaRPr>
          </a:p>
          <a:p>
            <a:pPr lvl="4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DejaVu Sans"/>
              </a:rPr>
              <a:t>Fifth Outline Level</a:t>
            </a:r>
            <a:endParaRPr b="0" lang="en-US" sz="2600" spc="-1" strike="noStrike">
              <a:solidFill>
                <a:srgbClr val="666666"/>
              </a:solidFill>
              <a:latin typeface="DejaVu Sans"/>
            </a:endParaRPr>
          </a:p>
          <a:p>
            <a:pPr lvl="5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DejaVu Sans"/>
              </a:rPr>
              <a:t>Sixth Outline Level</a:t>
            </a:r>
            <a:endParaRPr b="0" lang="en-US" sz="2600" spc="-1" strike="noStrike">
              <a:solidFill>
                <a:srgbClr val="666666"/>
              </a:solidFill>
              <a:latin typeface="DejaVu Sans"/>
            </a:endParaRPr>
          </a:p>
          <a:p>
            <a:pPr lvl="6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DejaVu Sans"/>
              </a:rPr>
              <a:t>Seventh Outline Level</a:t>
            </a:r>
            <a:endParaRPr b="0" lang="en-US" sz="26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142560" y="714672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dddddd"/>
                </a:solidFill>
                <a:latin typeface="DejaVu Sans"/>
                <a:ea typeface="Segoe UI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DejaVu Sans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448080" y="7146720"/>
            <a:ext cx="31924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808080"/>
                </a:solidFill>
                <a:latin typeface="DejaVu Sans"/>
                <a:ea typeface="Segoe UI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DejaVu Sans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7621200" y="714672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dddddd"/>
                </a:solidFill>
                <a:latin typeface="DejaVu Sans"/>
                <a:ea typeface="Segoe UI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EA3818-5B31-4C5D-AFF8-7AED09F41E33}" type="slidenum">
              <a:rPr b="0" lang="fr-FR" sz="1400" spc="-1" strike="noStrike">
                <a:solidFill>
                  <a:srgbClr val="dddddd"/>
                </a:solidFill>
                <a:latin typeface="DejaVu Sans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-36360" y="0"/>
            <a:ext cx="10186920" cy="75978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DejaVu Sans"/>
              </a:rPr>
              <a:t>Click to edit the title text format</a:t>
            </a: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99840" y="1841040"/>
            <a:ext cx="86756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  <a:p>
            <a:pPr lvl="1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  <a:p>
            <a:pPr lvl="2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  <a:p>
            <a:pPr lvl="3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  <a:p>
            <a:pPr lvl="4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  <a:p>
            <a:pPr lvl="5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  <a:p>
            <a:pPr lvl="6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142560" y="714672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dddddd"/>
                </a:solidFill>
                <a:latin typeface="DejaVu Sans"/>
                <a:ea typeface="Segoe UI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DejaVu Sans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448080" y="7146720"/>
            <a:ext cx="31924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808080"/>
                </a:solidFill>
                <a:latin typeface="DejaVu Sans"/>
                <a:ea typeface="Segoe UI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DejaVu Sans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7621200" y="714672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dddddd"/>
                </a:solidFill>
                <a:latin typeface="DejaVu Sans"/>
                <a:ea typeface="Segoe UI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248C50-5D84-4EC1-B6E8-880AC7ED134C}" type="slidenum">
              <a:rPr b="0" lang="fr-FR" sz="1400" spc="-1" strike="noStrike">
                <a:solidFill>
                  <a:srgbClr val="dddddd"/>
                </a:solidFill>
                <a:latin typeface="DejaVu Sans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65080" y="301680"/>
            <a:ext cx="65926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DejaVu Sans"/>
              </a:rPr>
              <a:t>ON THE BEACH</a:t>
            </a: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65080" y="1767960"/>
            <a:ext cx="659268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666666"/>
              </a:solidFill>
              <a:latin typeface="DejaVu San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765440" y="2448000"/>
            <a:ext cx="662292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17DB4-234C-4FF5-9F0A-EEFC6BB22A4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65080" y="301680"/>
            <a:ext cx="65926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65080" y="1767960"/>
            <a:ext cx="659268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666666"/>
              </a:solidFill>
              <a:latin typeface="DejaVu San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440000" y="1728720"/>
            <a:ext cx="7373880" cy="475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487AE-9EE5-4381-BB78-32ECFDCD011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00200" y="446040"/>
            <a:ext cx="867888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00200" y="1841400"/>
            <a:ext cx="8678880" cy="445320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762200" y="1944720"/>
            <a:ext cx="6167520" cy="41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8C8A7-6442-45FB-B920-EACCDB2B657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65080" y="301680"/>
            <a:ext cx="65926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65080" y="1767960"/>
            <a:ext cx="659268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666666"/>
              </a:solidFill>
              <a:latin typeface="DejaVu San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592360" y="1657440"/>
            <a:ext cx="4680000" cy="468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C8D1F-EF28-4A13-802E-A85F6DCAFE5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65080" y="301680"/>
            <a:ext cx="65926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65080" y="1767960"/>
            <a:ext cx="659268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666666"/>
              </a:solidFill>
              <a:latin typeface="DejaVu San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011320" y="2255760"/>
            <a:ext cx="5908680" cy="328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82E52-DC9C-4C03-B3DB-385FB92D8BA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00200" y="446040"/>
            <a:ext cx="867888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00200" y="1841400"/>
            <a:ext cx="8678880" cy="445320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563840" y="1646280"/>
            <a:ext cx="6661080" cy="464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629AF-5B86-4DE8-845C-92F138C009FB}" type="slidenum">
              <a:t>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20T08:09:49Z</dcterms:created>
  <dc:creator/>
  <dc:description/>
  <dc:language>en-US</dc:language>
  <cp:lastModifiedBy/>
  <dcterms:modified xsi:type="dcterms:W3CDTF">2020-01-20T08:27:09Z</dcterms:modified>
  <cp:revision>3</cp:revision>
  <dc:subject/>
  <dc:title/>
</cp:coreProperties>
</file>