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A23-72C0-46A3-8A53-C9D96FC5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653-CC11-42A8-B4B3-51B6D50B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BFB-2D4A-4624-B314-66BCE3F1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312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640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984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312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640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BCE-2204-4168-ACE9-D92779C6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A772-D305-4F12-9FEB-2EB6FC3B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553C-FDAE-44D4-8DCD-95F07AA2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DADC-4BEE-4167-A2FA-1D06C358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AFE1-6A34-45E2-9819-BE8BB33A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ACC7-216C-47DD-A66F-8BE40C7F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99840" y="445680"/>
            <a:ext cx="86756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7A6D-6D0E-497C-965A-B0FA6D17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7D00-E91C-4E15-BAFA-C6A1680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C19-E7F8-4BB0-94FE-068101A6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CA17-790F-4F8F-ABF2-3674775E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1AE5-C1DD-40F9-A20E-EFF0E2E9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D070-6BF0-4315-A817-EA711572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1A78-6236-4805-97EE-EB0E6EDA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3312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640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9984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3312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640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CE74-CE04-430D-866B-995E2EEC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78AD-1EB2-48F7-8265-96501DDE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750E-7A00-46AE-BECB-174F0128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6A84-E6D1-4FCB-A793-B8B9EAD3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5F8F-8823-4EE2-97A0-149EB105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0462-643D-4626-AFF9-63C1F544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CF4-3938-4230-BBB7-99A168A3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99840" y="445680"/>
            <a:ext cx="86756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9768-785E-4AC2-BE57-789D66B6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446C-FA3C-43F8-9BD5-C943B7B4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6C11D-ECDE-43F8-83CC-183E632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683DE-3F70-4D6A-B9A5-55460512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DCAD-1F9D-4734-B4FD-2A9DD786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F71E-7509-454E-A892-5EEB41EB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3312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6640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9984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3312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6640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89C3-C006-49BE-B148-CE656B9E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CC6F-B76E-4CF2-8BF3-A23ED6F6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1855-C13E-4C50-A8C5-38E3A43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840C-2F7B-412B-A3F6-27C3544E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E09-0D4E-4739-B29A-19A0C1EC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BEDAF-AA1B-499C-AEDD-E2EA2CD5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8DD0-C0EC-434C-92FC-79768606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99840" y="445680"/>
            <a:ext cx="86756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192D-218A-4C48-8775-C99622E7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CDF3-CCD7-4E30-846E-19FB98A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B64DA-5BE6-4F4C-9631-41A96129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FA529-0237-4763-B840-8E8AA1E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1538A-A838-4861-A2A2-AB5DDA46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8AA0A-6A39-4361-BBB4-C55A99D5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3312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66400" y="184104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9984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3312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66400" y="4165560"/>
            <a:ext cx="27932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BDEF-40F6-4A29-BFF4-DF4949DD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4F3-8467-46C4-9B2C-3ECD54F4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9840" y="445680"/>
            <a:ext cx="86756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9AE-85CA-4031-B2EC-7A7952F5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517-9AA0-49F6-B325-7332432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5480" y="416556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4AB-06D2-44FB-B586-BCD1F94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984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5480" y="1841040"/>
            <a:ext cx="423360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9840" y="4165560"/>
            <a:ext cx="86756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880-08E9-4820-9FD0-DF9C1C7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E3500-E052-467C-87DE-01C7C7CD3BD8}" type="slidenum">
              <a:rPr b="0" lang="fr-FR" sz="1400" spc="-1" strike="noStrike">
                <a:solidFill>
                  <a:srgbClr val="dddddd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0185120" cy="759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745080" y="2547720"/>
            <a:ext cx="255888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43000"/>
          </a:bodyPr>
          <a:p>
            <a:pPr marL="147240" indent="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1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2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3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4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5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6" marL="147240" indent="-147240" algn="ctr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03280" y="301320"/>
            <a:ext cx="4037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0186920" cy="7597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7600" y="1382400"/>
            <a:ext cx="4367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"/>
              </a:rPr>
              <a:t>Click to edit the title text format</a:t>
            </a: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47600" y="2728440"/>
            <a:ext cx="440532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77000"/>
          </a:bodyPr>
          <a:p>
            <a:pPr marL="2638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1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2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3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4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5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6" marL="263880" indent="-263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256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just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8080" y="71467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2120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2330B-B989-4C4D-815E-DA05EEB2703D}" type="slidenum"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0186920" cy="7597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5440" y="301320"/>
            <a:ext cx="65894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"/>
              </a:rPr>
              <a:t>Click to edit the title text format</a:t>
            </a: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765440" y="1767960"/>
            <a:ext cx="6589440" cy="48675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4256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48080" y="71467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808080"/>
                </a:solidFill>
                <a:latin typeface="DejaVu Sans"/>
                <a:ea typeface="Segoe UI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DejaVu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62120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DA9EC-80B7-43C7-82A0-E503AEB74AC5}" type="slidenum"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0186920" cy="7597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9840" y="44568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"/>
              </a:rPr>
              <a:t>Click to edit the title text format</a:t>
            </a: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9840" y="1841040"/>
            <a:ext cx="86756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14256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448080" y="71467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808080"/>
                </a:solidFill>
                <a:latin typeface="DejaVu Sans"/>
                <a:ea typeface="Segoe UI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DejaVu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621200" y="71467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dddddd"/>
                </a:solidFill>
                <a:latin typeface="DejaVu Sans"/>
                <a:ea typeface="Segoe UI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191F9-E8CB-4D7B-B788-A79DABF7727E}" type="slidenum">
              <a:rPr b="0" lang="fr-FR" sz="1400" spc="-1" strike="noStrike">
                <a:solidFill>
                  <a:srgbClr val="dddddd"/>
                </a:solidFill>
                <a:latin typeface="DejaVu San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65080" y="301680"/>
            <a:ext cx="6592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DejaVu Sans"/>
              </a:rPr>
              <a:t>ON THE BEACH</a:t>
            </a: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5080" y="1767960"/>
            <a:ext cx="6592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5440" y="2448000"/>
            <a:ext cx="662292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9B35-31D2-4079-B7FD-4548D7A098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65080" y="301680"/>
            <a:ext cx="6592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65080" y="1767960"/>
            <a:ext cx="6592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40000" y="1728720"/>
            <a:ext cx="7373880" cy="47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DC7E-B4FC-4A3E-ADEC-65DB82E2D8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867888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00200" y="1841400"/>
            <a:ext cx="867888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62200" y="1944720"/>
            <a:ext cx="616752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845C3-C18C-4B68-8AB0-E415861D82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65080" y="301680"/>
            <a:ext cx="6592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65080" y="1767960"/>
            <a:ext cx="6592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92360" y="1657440"/>
            <a:ext cx="46800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681F-843A-41C5-9393-4E4ABFD573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5080" y="301680"/>
            <a:ext cx="6592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5080" y="1767960"/>
            <a:ext cx="659268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11320" y="2255760"/>
            <a:ext cx="59086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DE7A-8677-4F39-93B9-4033E71579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0200" y="446040"/>
            <a:ext cx="867888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DejaVu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00200" y="1841400"/>
            <a:ext cx="867888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6666"/>
              </a:solidFill>
              <a:latin typeface="DejaVu San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63840" y="1646280"/>
            <a:ext cx="666108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8A44D-B70A-4B5A-A7F7-538D4DE83EE5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0T08:09:49Z</dcterms:created>
  <dc:creator/>
  <dc:description/>
  <dc:language>en-US</dc:language>
  <cp:lastModifiedBy/>
  <dcterms:modified xsi:type="dcterms:W3CDTF">2020-01-20T08:27:09Z</dcterms:modified>
  <cp:revision>3</cp:revision>
  <dc:subject/>
  <dc:title/>
</cp:coreProperties>
</file>