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76C-7F0D-4C66-B7DA-8B067C3F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C04-82F3-4E8C-8942-027A364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9F-84B5-44F7-BE2E-798A4C20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21D-522D-40D6-BB3E-9D5BB6D7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3401-CD16-40F1-9ECE-6FC7080B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096-8DBE-4BCD-859C-42C76AC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8B1-25B2-4267-A54F-71027F9F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D8A3-3F92-422D-BB67-289BD49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AC1-BCE4-4308-BFED-CC7987D3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73DD-2B4B-4678-904D-EAE40D2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6CB5-3ED6-4960-8050-903F492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CE4-1A8A-4722-851B-5522815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70B-CC0A-43BF-BD11-3225351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ABE-F467-4EEA-9B6C-DE6F508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C37-8C9C-46F8-8C6D-32672F92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711D-5778-4DDA-9875-98DBE90E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F91-1E83-4279-83F4-8EDA1102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301-FBFB-4214-A8D2-D6129276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372-334D-4FD0-A0C4-BEA6A4F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AF7-622C-4D22-9803-AD71D520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12F-38DF-42BD-B9A5-DA0AC574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6E1-8F74-4327-81E4-CC3DE26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37B-DA8F-4E79-8206-871F5CA5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63D-2D8E-4F01-9D2B-FBD2B0C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7D4D8-42E7-4755-B133-229DBE15171D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6276-7635-4969-B95A-74974457EFCC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95640" y="1152360"/>
            <a:ext cx="3887640" cy="59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2A8-2400-436E-98FE-2EF2F949A8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8360" y="1090440"/>
            <a:ext cx="7488360" cy="545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17F-52AA-4BC7-8EB9-63173881EA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08360" y="488880"/>
            <a:ext cx="4751280" cy="645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26F-56C1-4342-90BD-2F6D6E2408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0" y="728640"/>
            <a:ext cx="3816360" cy="60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9E5-4D8A-4FD5-A818-DA26149717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35280" y="414360"/>
            <a:ext cx="4967280" cy="65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B38-8DA3-4F35-A391-E78BF2B609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79640" y="558720"/>
            <a:ext cx="4535640" cy="641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05C-3EE2-4A85-A280-EF58BA7A06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63680" y="1152360"/>
            <a:ext cx="1155600" cy="181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16360" y="1511280"/>
            <a:ext cx="1708200" cy="126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61240" y="1368360"/>
            <a:ext cx="13460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63840" y="3743280"/>
            <a:ext cx="124452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176720" y="3816360"/>
            <a:ext cx="12952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128000" y="3887640"/>
            <a:ext cx="1251000" cy="17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040-F65F-4069-9D42-B6ECC5D68534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F3F-BD3A-4346-9EF4-28E408BC3C5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9T22:41:23Z</dcterms:created>
  <dc:creator/>
  <dc:description/>
  <dc:language>en-US</dc:language>
  <cp:lastModifiedBy/>
  <dcterms:modified xsi:type="dcterms:W3CDTF">2020-01-09T22:51:35Z</dcterms:modified>
  <cp:revision>2</cp:revision>
  <dc:subject/>
  <dc:title/>
</cp:coreProperties>
</file>