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A7C-ED24-4630-8A8B-150D3FB2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369-C518-4E3F-A06E-2FAF84C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F5A-230E-427D-9DC0-7F4F8E6F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D5A-98C7-4948-A4F9-42AE0A13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8894-3CC9-4B22-8AE9-7EFFE1C1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1E5D-1275-458E-B433-5431BEF3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16F-E660-4314-8073-0919074E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41B8-1A33-4B7D-90C7-D2A1BDD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1A70-E99A-43A9-BF7A-D87FF1A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0D9-A5DC-4231-A7C1-8DFB74C6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9E21-FA2E-4E2D-AB5B-0CC50B7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0F0-CAB0-4B5A-B701-536EA57C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7283-B6A3-4061-A293-7915D91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AD31-FED6-4E9E-9355-B1549DB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8A4-3A62-4A54-AF22-1325C02E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4117-8F76-4BFE-96F8-F494FA6F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0D59-0B15-4684-A153-73093159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2E6-94F6-4A64-A4BE-24B812E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822-0B75-4163-AC63-43620E4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522-4889-4762-8F92-7C3C3AB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44E-258E-4290-B24E-A5B1227F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AE8-D241-4199-A89E-65C51FD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EEE-5E2E-4526-93E0-A6A807C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849-5FBA-4762-A71A-2A5DAB3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1E08F-AA80-4101-810C-0182304273DD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18D6D-B0BB-45AF-A26C-C7418B25E836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95640" y="1152360"/>
            <a:ext cx="3887640" cy="59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496-38CD-4264-AE65-4F9D09D7FF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8360" y="1090440"/>
            <a:ext cx="7488360" cy="545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E5F-AF26-4E6E-B7D5-B59F016CE4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08360" y="488880"/>
            <a:ext cx="4751280" cy="645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2ED-C4E7-495A-B8A7-AC383AC01A7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0" y="728640"/>
            <a:ext cx="3816360" cy="60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54F-F9EA-487A-BD8F-5779368FE5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35280" y="414360"/>
            <a:ext cx="4967280" cy="65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BFD-2D71-4DDB-980F-A601F83F06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79640" y="558720"/>
            <a:ext cx="4535640" cy="641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4B4-3AB8-4483-9A08-4E4244B3D5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63680" y="1152360"/>
            <a:ext cx="1155600" cy="181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16360" y="1511280"/>
            <a:ext cx="1708200" cy="126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61240" y="1368360"/>
            <a:ext cx="13460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63840" y="3743280"/>
            <a:ext cx="124452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176720" y="3816360"/>
            <a:ext cx="12952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128000" y="3887640"/>
            <a:ext cx="1251000" cy="17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4A8-3828-4235-A1A0-E2561EA3C9CE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6F5-E0F8-4023-9C8E-231FA264DA1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9T22:41:23Z</dcterms:created>
  <dc:creator/>
  <dc:description/>
  <dc:language>en-US</dc:language>
  <cp:lastModifiedBy/>
  <dcterms:modified xsi:type="dcterms:W3CDTF">2020-01-09T22:51:35Z</dcterms:modified>
  <cp:revision>2</cp:revision>
  <dc:subject/>
  <dc:title/>
</cp:coreProperties>
</file>