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6.jpeg" ContentType="image/jpeg"/>
  <Override PartName="/ppt/media/wind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64E6-C143-4BE2-A24B-96DAFF733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D635-4207-40B9-8F0E-FFEBA2599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FAA9-F4B8-49C8-8F14-41522E1C3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DC91-8192-47F8-AFFF-194C5336C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9E14-D9E1-4B25-A6CB-C9999DDC6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93C7-1346-471D-8AC3-0B36BA101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89EC-F28B-4C58-8961-2990F8F74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D068-85FA-4AFE-B48F-33286CBEE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DE49-410C-4C85-9A98-5C286ADF9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A663-A8BB-4EDB-9123-145AE2F92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D04B-02F8-4F2D-9E87-1D29E23B7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5801-08D9-47E6-8272-DBD6A32D1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B8545-3548-4759-B1C2-3D626E957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Tormented Life of Edgar Allan Poe</a:t>
            </a:r>
            <a:endParaRPr b="0" lang="en-US" sz="4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Short Life”  1809-1849</a:t>
            </a:r>
            <a:endParaRPr b="0" lang="en-US" sz="32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144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2602080" cy="337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85800" y="1143000"/>
            <a:ext cx="769608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Nightmarish Mind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Edgar Allan Po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380880"/>
            <a:ext cx="403848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of Po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and dropped from both the University of Virginia and West Point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into debt and started borrowing money, gambling and getting deeper into debt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30360" y="1152360"/>
            <a:ext cx="313848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65200" y="3959280"/>
            <a:ext cx="382752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33520"/>
            <a:ext cx="40384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Style of Po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457200"/>
            <a:ext cx="35812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te in a Gothic Styl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and intens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ations of а world of dream and of nightmar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s stories the past is darker, mоrе ominous and oppresses his heroes and heroines 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441972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533520"/>
            <a:ext cx="40384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’s Characters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his characters аrе filled with madness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ssed with the irrational side of the mind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39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64832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457200"/>
            <a:ext cx="40384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049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1809-1849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mother  died during his youth and his father abandoned them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death of his grandmother married his 13-year-old cousin, Virginia in 1835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 died in 1847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3962520" cy="4496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311640" y="4751280"/>
            <a:ext cx="365436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99cc00"/>
                </a:solidFill>
                <a:latin typeface="comic"/>
              </a:rPr>
              <a:t>The Downward Spir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fter his wife’s death, Poe’s drinking increased and his behavior so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His writing became increasingly morbid, evil, and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0" lang="fr-FR" sz="3200" spc="-1" strike="noStrike">
                <a:solidFill>
                  <a:srgbClr val="009999"/>
                </a:solidFill>
                <a:latin typeface="Arial"/>
              </a:rPr>
              <a:t>The Raven</a:t>
            </a: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”,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oe’s most successful poem, earned Poe just $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umors of </a:t>
            </a:r>
            <a:r>
              <a:rPr b="0" lang="fr-FR" sz="3200" spc="-1" strike="noStrike">
                <a:solidFill>
                  <a:srgbClr val="009999"/>
                </a:solidFill>
                <a:latin typeface="Arial"/>
              </a:rPr>
              <a:t>drug abus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fr-FR" sz="3200" spc="-1" strike="noStrike">
                <a:solidFill>
                  <a:srgbClr val="009999"/>
                </a:solidFill>
                <a:latin typeface="Arial"/>
              </a:rPr>
              <a:t>mental illness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lagued his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0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99cc00"/>
                </a:solidFill>
                <a:latin typeface="comic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Poe’s gambling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debts 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His health deteriorated, and his strange style of writing became a target of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ridicule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 by other American auth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In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1849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, Poe was found unconscious in an alle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He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died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 just three day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0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comic"/>
              </a:rPr>
              <a:t>Literary Highligh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After his death, Poe became known as the inventor of the crime/detective mystery, the horror story, and of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gothic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Poe’s short stories are some of the most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popular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 literary works among American teena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A few of his stories have been turned into motion picture horror movies, including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“The Raven”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 and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“The Tell-Tale 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0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Works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39800" indent="-28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Stories  </a:t>
            </a: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39800" indent="-28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ems</a:t>
            </a: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t and the Pendulum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ll of the House of Usher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-Tale Heart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k of the Amontillado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que of the Red Death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ore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39625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457200"/>
            <a:ext cx="40384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Focus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mes and Conflicts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457200"/>
            <a:ext cx="40384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g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ness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ption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rse vs. Lack of Remors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nd Respect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lases and Social Significance within Society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66724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howcard Gothic"/>
              </a:rPr>
              <a:t>What Do The Following Four Ite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3629160" cy="5372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1180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56256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99"/>
                </a:solidFill>
                <a:latin typeface="Copperplate Gothic Bold"/>
              </a:rPr>
              <a:t>Edgar Allan Po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kerville Old Face"/>
              </a:rPr>
              <a:t>The Original Godfather of Mystery, Horror and Susp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447920"/>
            <a:ext cx="3200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862360" cy="33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99cc00"/>
                </a:solidFill>
                <a:latin typeface="comic"/>
              </a:rPr>
              <a:t>B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Born in </a:t>
            </a:r>
            <a:r>
              <a:rPr b="0" lang="fr-FR" sz="3200" spc="-1" strike="noStrike">
                <a:solidFill>
                  <a:srgbClr val="2eb6c8"/>
                </a:solidFill>
                <a:latin typeface="Arial"/>
              </a:rPr>
              <a:t>18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Widely regarded as one of America’s finest and most controversial 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Wrote dozens of short stories and </a:t>
            </a:r>
            <a:r>
              <a:rPr b="0" lang="fr-FR" sz="3200" spc="-1" strike="noStrike">
                <a:solidFill>
                  <a:srgbClr val="2eb6c8"/>
                </a:solidFill>
                <a:latin typeface="Arial"/>
              </a:rPr>
              <a:t>poems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, as well as one full-length </a:t>
            </a:r>
            <a:r>
              <a:rPr b="0" lang="fr-FR" sz="3200" spc="-1" strike="noStrike">
                <a:solidFill>
                  <a:srgbClr val="2eb6c8"/>
                </a:solidFill>
                <a:latin typeface="Arial"/>
              </a:rPr>
              <a:t>no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Considered the originator of the modern crime novel and the horror/shock </a:t>
            </a:r>
            <a:r>
              <a:rPr b="0" lang="fr-FR" sz="3200" spc="-1" strike="noStrike">
                <a:solidFill>
                  <a:srgbClr val="2eb6c8"/>
                </a:solidFill>
                <a:latin typeface="Arial"/>
              </a:rPr>
              <a:t>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99cc00"/>
                </a:solidFill>
                <a:latin typeface="comic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Born in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oston,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rents were traveling actors/perf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ost both parents at an early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as raised by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llan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family in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chmond,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ster parents”, the Allans, inherited a sum of money, and lived in relative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0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04:57:08Z</dcterms:created>
  <dc:creator>HP Authorized Customer</dc:creator>
  <dc:description/>
  <dc:language>en-US</dc:language>
  <cp:lastModifiedBy/>
  <dcterms:modified xsi:type="dcterms:W3CDTF">2020-01-08T22:29:01Z</dcterms:modified>
  <cp:revision>7</cp:revision>
  <dc:subject/>
  <dc:title>The Tormented Life of Edgar Allan Poe</dc:title>
</cp:coreProperties>
</file>