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6A1-0B9D-4E2D-8E78-2AD55ED8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2000" y="64130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4A1-1571-45E8-BB5E-113E3717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824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E7D-22DE-4057-AE9A-D1F0B834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64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08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20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64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08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BA7-EF7B-48CA-AD53-368D103F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D4D3-07A4-41A9-9715-D4229D3D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E402-C056-4532-BE9B-BA131BEB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90FA-4C16-4F84-AFF8-07FF7C3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5F24-9189-4B7A-B850-61A8958C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0458-2FF9-4BF5-A7BE-0E2457A3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2000" y="4103640"/>
            <a:ext cx="85600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7456-B4F3-4FC2-B294-C3ADE0BA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ACB2-7B5B-43E1-B6D4-897F40C1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405-0D74-42EA-B8F3-2E4E5EBE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824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ECFF-9D6E-4875-B635-46358AE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D346-729B-4F91-8B17-C1259137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2000" y="64130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D09-AFB1-45E9-96A3-C947AB4A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824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0B86-3AD0-4ECA-A77B-860B8B29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64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08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20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64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08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5EC-0022-4224-BBF4-82389683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D94-D889-42E6-A382-7F81CE7A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1DA-ADCC-4934-B254-E9A58FD9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8CC-9F61-4362-B575-E0392DC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2000" y="4103640"/>
            <a:ext cx="85600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66F-72D7-437D-96DC-5E8DCA3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1D4-DF54-4279-ABE7-9D43B6D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824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A95-4F86-4F77-8973-0AD5EB4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E20-0715-4CC8-87CA-DB665A2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7139D-93F7-42F4-8479-609845D08673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47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28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72216-3F54-488C-A669-33E5558799C0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91240" y="5938560"/>
            <a:ext cx="217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</a:rPr>
              <a:t>Adapted from :</a:t>
            </a: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06400" y="641520"/>
            <a:ext cx="8553600" cy="532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86480" y="6335640"/>
            <a:ext cx="3052800" cy="28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2F4-C0D1-45E1-82C8-E48993407D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38560" y="3392640"/>
            <a:ext cx="936720" cy="92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4120" y="2944800"/>
            <a:ext cx="4727520" cy="130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174760" y="360360"/>
            <a:ext cx="6039000" cy="23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20840" y="5904000"/>
            <a:ext cx="4763880" cy="72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492-4008-472E-8D2C-8EE208E03514}" type="slidenum">
              <a:t>10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428571428571429 0.0118571428571429 C -0.00628571428571429 -0.0124285714285714 -0.0188596337706219 -0.0310931194967783 -0.0289285714285714 -0.0521428571428571 C -0.0406810625747803 -0.0767121676023621 -0.0631436861557154 -0.0777124180905513 -0.0814285714285714 -0.0921428571428571 C -0.0975365434131204 -0.10485527532381 -0.118142431753631 -0.102580495426095 -0.136928571428571 -0.104142857142857 C -0.153642434367776 -0.105532876595883 -0.169611926713385 -0.113793904512535 -0.184928571428571 -0.122142857142857 C -0.205254791709179 -0.133222480221666 -0.225074279566491 -0.145753779020919 -0.244928571428571 -0.158142857142857 C -0.26078856738669 -0.168039494620723 -0.2773231845204 -0.17509083925498 -0.292892857142857 -0.186142857142857 C -0.309858899476339 -0.198186077825972 -0.326041285868671 -0.206702185133933 -0.342392857142857 -0.220095238095238 C -0.359005576578704 -0.233702189225791 -0.370221328356234 -0.253945436042306 -0.381392857142857 -0.274095238095238 C -0.392899902176421 -0.294850202260763 -0.406103687404618 -0.314525079758054 -0.411392857142857 -0.340095238095238 C -0.416889401858799 -0.366667937715356 -0.439178571428571 -0.373761904761905 -0.453392857142857 -0.390095238095238 L -0.456392857142857 -0.396095238095238 E">
                                      <p:cBhvr>
                                        <p:cTn id="14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67640" y="3456000"/>
            <a:ext cx="1008000" cy="99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176560" y="576360"/>
            <a:ext cx="49291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702400" y="1881360"/>
            <a:ext cx="3924360" cy="927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863640" y="4406760"/>
            <a:ext cx="3363840" cy="992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04920" y="1844640"/>
            <a:ext cx="4787640" cy="20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261-ADE7-4F7D-87E5-E48B48B20E3F}" type="slidenum">
              <a:t>11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3571428571429 0.00276190476190476 C -0.00892857142857141 -0.0209523809523809 -0.0136073818829509 -0.0513327360217711 -0.0359642857142857 -0.0672380952380953 C -0.0535002390360185 -0.0797136884099875 -0.0687882859353826 -0.0997455016602389 -0.0884642857142857 -0.105238095238095 C -0.109216864855428 -0.111031218037213 -0.130641658801118 -0.11547918191082 -0.149964285714286 -0.129238095238095 C -0.167355944790387 -0.141622039249483 -0.188108002297451 -0.140138797685423 -0.206964285714286 -0.147238095238095 C -0.233893717001049 -0.15737689308085 -0.261857983724322 -0.159944579137456 -0.289464285714286 -0.165238095238095 C -0.315250842151141 -0.170182674621751 -0.340788554680159 -0.179329599541797 -0.358464285714286 -0.203238095238095 C -0.375359983705411 -0.226091504917551 -0.389899764418845 -0.236275929403977 -0.404964285714286 -0.255190476190476 C -0.419292625226882 -0.273180695910625 -0.439289214774261 -0.278843606600412 -0.457428571428571 -0.287190476190476 C -0.473646363648811 -0.294653133178861 -0.490214001277388 -0.291194706620186 -0.506928571428571 -0.293190476190476 C -0.52849971609759 -0.295766135255434 -0.53875 -0.320904761904762 -0.556428571428571 -0.331190476190476 C -0.574107142857143 -0.34147619047619 -0.593321428571429 -0.353428571428571 -0.602928571428571 -0.377190476190476 L -0.628428571428571 -0.395190476190476 L -0.644928571428571 -0.401190476190476 L -0.644928571428571 -0.403190476190476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5400" y="1079640"/>
            <a:ext cx="21715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63E-AE29-4AA2-B9C2-3D171A6FE37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95400" y="3238560"/>
            <a:ext cx="3252600" cy="10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832360" y="3044880"/>
            <a:ext cx="1079640" cy="98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900520" y="1200240"/>
            <a:ext cx="5368680" cy="88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288-9DDE-4EF4-A787-36D152135F84}" type="slidenum">
              <a:t>3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9285714285714 0.00795238095238095 C -0.0611071428571428 -0.0356190476190477 -0.10828076616361 -0.0522517462467335 -0.151428571428571 -0.0800476190476191 C -0.189887911598495 -0.104823176478747 -0.221928571428571 -0.132857142857143 -0.269928571428571 -0.142 C -0.296678571428571 -0.147095238095238 -0.32025449680667 -0.166802052655567 -0.341928571428571 -0.19 C -0.367325926720264 -0.217183006473051 -0.384352504505392 -0.254918169866816 -0.415392857142857 -0.274 C -0.435709651480684 -0.286489600969846 -0.451597579340581 -0.309296787778261 -0.466392857142857 -0.332 C -0.478347584559777 -0.350344414834686 -0.496785996077108 -0.343902792040438 -0.512892857142857 -0.348 C -0.530107424779688 -0.352378982549991 -0.547892857142857 -0.348 -0.565392857142857 -0.348 L -0.566892857142857 -0.35 E">
                                      <p:cBhvr>
                                        <p:cTn id="2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08560" y="5099040"/>
            <a:ext cx="919080" cy="876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47960" y="647640"/>
            <a:ext cx="5919840" cy="93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039760" y="1800360"/>
            <a:ext cx="731844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919160" y="2519280"/>
            <a:ext cx="556920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AA6-2536-478A-88AA-727C89DEAD13}" type="slidenum">
              <a:t>4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 -0.0145714285714286 C -0.0085 -0.0476666666666667 -0.0387119154465879 -0.056812143905278 -0.051 -0.0765714285714286 C -0.0648904871713388 -0.0989073824767738 -0.0889301553069822 -0.104664393398828 -0.105 -0.124571428571429 C -0.118644441218215 -0.141473917452326 -0.133711503919101 -0.155954630230113 -0.144 -0.178571428571429 C -0.15424721848205 -0.201097487982405 -0.166148313257546 -0.221760006907869 -0.171 -0.246571428571429 C -0.177219742200226 -0.27837905642549 -0.202390068267715 -0.287719160795703 -0.218964285714286 -0.304571428571429 C -0.23503292622999 -0.320909637819343 -0.256216252423955 -0.323806343312488 -0.271464285714286 -0.340571428571429 C -0.289001967058428 -0.359853962743565 -0.297782988298966 -0.389620791265974 -0.307464285714286 -0.416523809523809 C -0.316032988487134 -0.440335077503154 -0.310750315658712 -0.469666415898607 -0.320964285714286 -0.49252380952381 C -0.332071744233465 -0.517380701620331 -0.339208405487049 -0.541676318600284 -0.358464285714286 -0.562523809523809 C -0.374351265640736 -0.579723940907595 -0.384357142857143 -0.604380952380952 -0.400464285714286 -0.62052380952381 L -0.401964285714286 -0.62252380952381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0040" y="1224000"/>
            <a:ext cx="8805600" cy="48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81F-1972-42D4-BFAC-6F2567FD36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43640" y="5111640"/>
            <a:ext cx="126864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03480" y="503280"/>
            <a:ext cx="6861240" cy="25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FB9-00C7-47AD-8C6B-45B13DC6D6CC}" type="slidenum">
              <a:t>6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 -0.0151904761904762 C 0.0093571428571429 -0.058 -0.028601693923586 -0.0663843170923835 -0.04 -0.0991904761904762 C -0.0493159802593084 -0.126003366500026 -0.0718612000631985 -0.125566042010017 -0.0895 -0.149190476190476 C -0.111468343754259 -0.178613662174539 -0.148028369725532 -0.177349449363774 -0.175 -0.199190476190476 C -0.201599803752963 -0.220730406162876 -0.239360540322668 -0.215471865847537 -0.2635 -0.249190476190476 C -0.281360540835006 -0.27413853322985 -0.313980952706741 -0.268465456025071 -0.328 -0.307190476190476 C -0.338873815135395 -0.337227375388008 -0.365569897635366 -0.350002495613713 -0.385 -0.371190476190476 C -0.405177040669488 -0.39319297199718 -0.429065594770756 -0.404437758851127 -0.451 -0.429190476190476 C -0.467887025830973 -0.448247285469219 -0.482216058083565 -0.463558557653535 -0.505 -0.469142857142857 C -0.525930348068519 -0.474272844414553 -0.541178961979014 -0.496427518313118 -0.560464285714286 -0.509142857142857 C -0.580107533439638 -0.522094185000918 -0.598005438987077 -0.534707189996278 -0.614464285714286 -0.557142857142857 C -0.628362583722852 -0.576088144938063 -0.645214285714286 -0.591190476190476 -0.663964285714286 -0.601142857142857 L -0.681964285714286 -0.623142857142857 L -0.695464285714286 -0.643142857142857 L -0.695464285714286 -0.645142857142857 E">
                                      <p:cBhvr>
                                        <p:cTn id="6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36720" y="792000"/>
            <a:ext cx="85676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ce181e"/>
                </a:solidFill>
                <a:latin typeface="Arial"/>
              </a:rPr>
              <a:t>A free ver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oes not use consistent metre patterns, rhyme, or any musical pattern. It thus tends to follow the rhythm of natural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36720" y="2160720"/>
            <a:ext cx="842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ce181e"/>
                </a:solidFill>
                <a:latin typeface="Arial"/>
              </a:rPr>
              <a:t>An enjambement</a:t>
            </a:r>
            <a:r>
              <a:rPr b="0" lang="fr-FR" sz="2400" spc="-1" strike="noStrike">
                <a:solidFill>
                  <a:srgbClr val="ce181e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s the the continuity of a sentence from one line of a poem into the start of the nex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F15-31EB-49EB-ABCC-2B64F25F1EF6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81640" y="4319640"/>
            <a:ext cx="1062000" cy="93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328840" y="676440"/>
            <a:ext cx="2718000" cy="1195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472000" y="1152360"/>
            <a:ext cx="369108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73080" y="2376360"/>
            <a:ext cx="4246560" cy="10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A89-35E9-4C9B-B661-1C64F98A8171}" type="slidenum">
              <a:t>8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285714285714 0.0126190476190476 C -0.00357142857142857 -0.0137619047619048 -0.011991409826678 -0.0396739842834757 -0.0233571428571429 -0.0633809523809524 C -0.0358485552164384 -0.089435894327986 -0.0575620396568734 -0.103627011932651 -0.0698571428571429 -0.129380952380952 C -0.0807048998976192 -0.152103208897835 -0.0981000474975501 -0.165535947997028 -0.113357142857143 -0.181380952380952 C -0.12992148128929 -0.198583572466115 -0.14164695638885 -0.223181126339144 -0.159857142857143 -0.237380952380952 C -0.177432673423035 -0.251085890387091 -0.186743865505763 -0.274626960520022 -0.200357142857143 -0.293380952380952 C -0.217922439231529 -0.317579344637075 -0.23917924306691 -0.336852416836341 -0.264821428571429 -0.343333333333333 C -0.283643529359906 -0.348090512220702 -0.297182245652654 -0.369376353548853 -0.309821428571429 -0.387333333333333 C -0.327146532180652 -0.411947783276353 -0.342537560510613 -0.441327992656923 -0.365321428571429 -0.455333333333333 C -0.385608989829491 -0.467804183592574 -0.390857142857143 -0.494619047619048 -0.408821428571429 -0.507333333333333 L -0.414821428571429 -0.513333333333333 E">
                                      <p:cBhvr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43640" y="4392720"/>
            <a:ext cx="911520" cy="850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67640" y="1728720"/>
            <a:ext cx="284940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24360" y="6119640"/>
            <a:ext cx="5054760" cy="93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89000" y="4687920"/>
            <a:ext cx="4851360" cy="150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73160" y="1584360"/>
            <a:ext cx="623556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144360" y="2959200"/>
            <a:ext cx="4969080" cy="930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2360520" y="360360"/>
            <a:ext cx="5184720" cy="115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9CB-0DFC-40D6-BD24-9A4A39699544}" type="slidenum">
              <a:t>9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1428571428571 -0.0107619047619048 C -0.00210714285714286 -0.0325714285714286 0.00663736551622709 -0.0606591548497948 -0.00728571428571429 -0.0787619047619048 C -0.0235412080276564 -0.0998972528382129 -0.0403919440385652 -0.129317252711304 -0.0657857142857143 -0.126761904761905 C -0.0839276651973118 -0.124936299638725 -0.0971765938343353 -0.138225492283784 -0.116785714285714 -0.132761904761905 C -0.136998026894497 -0.127130252937873 -0.158429926616769 -0.132710315570412 -0.178285714285714 -0.144761904761905 C -0.197108498504089 -0.156186506325043 -0.210358050671696 -0.177094177212373 -0.223285714285714 -0.196761904761905 C -0.238215193574524 -0.219475129662828 -0.254078167486078 -0.241086552695665 -0.269785714285714 -0.262761904761905 C -0.285756741592647 -0.284800842105407 -0.306320245210905 -0.302161773637634 -0.329785714285714 -0.304761904761905 C -0.345427398791613 -0.30649510815921 -0.361716431669839 -0.305279850201342 -0.376285714285714 -0.314761904761905 C -0.397787861354722 -0.328756041402196 -0.422712735530845 -0.335478535677315 -0.440785714285714 -0.356714285714286 C -0.456998449997576 -0.375764250175723 -0.467186444424547 -0.401608697617921 -0.482785714285714 -0.422714285714286 C -0.49868644824877 -0.444227750411089 -0.517750117074143 -0.456856599842646 -0.53825 -0.464714285714286 C -0.558250117082335 -0.472380409369596 -0.577714285714286 -0.483285714285714 -0.59525 -0.498714285714286 L -0.62975 -0.518714285714286 L -0.64625 -0.528714285714286 L -0.65225 -0.536714285714286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06:32Z</dcterms:created>
  <dc:creator/>
  <dc:description/>
  <dc:language>en-US</dc:language>
  <cp:lastModifiedBy/>
  <dcterms:modified xsi:type="dcterms:W3CDTF">2020-11-06T19:25:59Z</dcterms:modified>
  <cp:revision>11</cp:revision>
  <dc:subject/>
  <dc:title/>
</cp:coreProperties>
</file>