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50A4-6909-4388-96B1-F5DE9EF1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92000" y="4103640"/>
            <a:ext cx="85600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92000" y="5903640"/>
            <a:ext cx="8560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92000" y="6413040"/>
            <a:ext cx="8560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3A36-A3AC-4546-86D4-7C80B637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92000" y="4103640"/>
            <a:ext cx="85600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2000" y="5903640"/>
            <a:ext cx="4177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78240" y="5903640"/>
            <a:ext cx="4177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92000" y="6413040"/>
            <a:ext cx="4177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78240" y="6413040"/>
            <a:ext cx="4177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EFA0-767A-42B4-B59B-04ED8E127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92000" y="4103640"/>
            <a:ext cx="85600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92000" y="5903640"/>
            <a:ext cx="275616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6400" y="5903640"/>
            <a:ext cx="275616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80800" y="5903640"/>
            <a:ext cx="275616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92000" y="6413040"/>
            <a:ext cx="275616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6400" y="6413040"/>
            <a:ext cx="275616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80800" y="6413040"/>
            <a:ext cx="275616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1EF0-BE80-4A99-9A1A-E1E656E5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E63C-C85B-452A-99D9-FD39F47EA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92000" y="4103640"/>
            <a:ext cx="85600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0080" cy="9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1CA4-7DE6-4236-8C74-8320E442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92000" y="4103640"/>
            <a:ext cx="85600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92000" y="5903640"/>
            <a:ext cx="8560080" cy="9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1E5B-F380-4C73-B405-FAC3DBE5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2000" y="4103640"/>
            <a:ext cx="85600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92000" y="5903640"/>
            <a:ext cx="4177080" cy="9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78240" y="5903640"/>
            <a:ext cx="4177080" cy="9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E952-5DAA-40D3-A6C4-7C16435E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92000" y="4103640"/>
            <a:ext cx="85600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BC23-B9F1-43D1-9E8F-F6306D76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92000" y="4103640"/>
            <a:ext cx="856008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45A7-DB0C-403D-BFB9-D8D36BC6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92000" y="4103640"/>
            <a:ext cx="85600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92000" y="5903640"/>
            <a:ext cx="4177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8240" y="5903640"/>
            <a:ext cx="4177080" cy="9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92000" y="6413040"/>
            <a:ext cx="4177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292A-FB4B-4C37-9DF1-5B1D2896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92000" y="4103640"/>
            <a:ext cx="85600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0080" cy="9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7B06-D3CE-4F27-BC5F-DB955A6E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92000" y="4103640"/>
            <a:ext cx="85600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2000" y="5903640"/>
            <a:ext cx="4177080" cy="9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78240" y="5903640"/>
            <a:ext cx="4177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78240" y="6413040"/>
            <a:ext cx="4177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2D31-4225-4481-8421-5F481FE7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2000" y="4103640"/>
            <a:ext cx="85600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2000" y="5903640"/>
            <a:ext cx="4177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78240" y="5903640"/>
            <a:ext cx="4177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92000" y="6413040"/>
            <a:ext cx="8560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D00D-1BA2-4834-A17C-705E2F57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2000" y="4103640"/>
            <a:ext cx="85600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2000" y="5903640"/>
            <a:ext cx="8560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92000" y="6413040"/>
            <a:ext cx="8560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51AE-EDB9-4BD8-AD29-1C998744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92000" y="4103640"/>
            <a:ext cx="85600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92000" y="5903640"/>
            <a:ext cx="4177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78240" y="5903640"/>
            <a:ext cx="4177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2000" y="6413040"/>
            <a:ext cx="4177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78240" y="6413040"/>
            <a:ext cx="4177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17FE-84CD-4674-A0CB-405793CA1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92000" y="4103640"/>
            <a:ext cx="85600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92000" y="5903640"/>
            <a:ext cx="275616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86400" y="5903640"/>
            <a:ext cx="275616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80800" y="5903640"/>
            <a:ext cx="275616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92000" y="6413040"/>
            <a:ext cx="275616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86400" y="6413040"/>
            <a:ext cx="275616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80800" y="6413040"/>
            <a:ext cx="275616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EB7A-D0FE-4788-9109-476D8E7EC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92000" y="4103640"/>
            <a:ext cx="85600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92000" y="5903640"/>
            <a:ext cx="8560080" cy="9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BFEC-8E5F-45C1-A23D-9A2BBFBB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92000" y="4103640"/>
            <a:ext cx="85600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92000" y="5903640"/>
            <a:ext cx="4177080" cy="9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78240" y="5903640"/>
            <a:ext cx="4177080" cy="9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A252-B0FE-4BBA-9440-37E49676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92000" y="4103640"/>
            <a:ext cx="85600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E8E0-78A4-4B3E-AB78-501B8C73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92000" y="4103640"/>
            <a:ext cx="856008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26A1-46B4-40FC-B981-0B19CE8A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92000" y="4103640"/>
            <a:ext cx="85600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92000" y="5903640"/>
            <a:ext cx="4177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78240" y="5903640"/>
            <a:ext cx="4177080" cy="9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92000" y="6413040"/>
            <a:ext cx="4177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F20A-0C12-4B2C-9ECD-81290373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92000" y="4103640"/>
            <a:ext cx="85600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92000" y="5903640"/>
            <a:ext cx="4177080" cy="9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78240" y="5903640"/>
            <a:ext cx="4177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78240" y="6413040"/>
            <a:ext cx="4177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7DA7-310C-482A-86C1-3D9784F9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92000" y="4103640"/>
            <a:ext cx="85600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92000" y="5903640"/>
            <a:ext cx="4177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78240" y="5903640"/>
            <a:ext cx="4177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92000" y="6413040"/>
            <a:ext cx="8560080" cy="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0F4F-F68B-459A-8FF1-892522A7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2000" y="4103640"/>
            <a:ext cx="85600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Open Sans"/>
              </a:rPr>
              <a:t>Click to edit the title text format</a:t>
            </a: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2000" y="5903640"/>
            <a:ext cx="8560080" cy="9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2000"/>
          </a:bodyPr>
          <a:p>
            <a:pPr marL="75240" indent="0">
              <a:lnSpc>
                <a:spcPct val="113000"/>
              </a:lnSpc>
              <a:spcAft>
                <a:spcPts val="18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1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2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3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4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5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6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r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22F0F-5904-4515-833A-4BB6A24DD183}" type="slidenum"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 /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4319640"/>
            <a:ext cx="503280" cy="1079280"/>
          </a:xfrm>
          <a:prstGeom prst="rect">
            <a:avLst/>
          </a:prstGeom>
          <a:solidFill>
            <a:srgbClr val="ef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0360" y="301680"/>
            <a:ext cx="8847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Open Sans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20720" y="2160360"/>
            <a:ext cx="86328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lnSpc>
                <a:spcPct val="11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1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2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3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4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5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6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r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80F25-FD9E-459E-82F5-9D3AA359492E}" type="slidenum"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 /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7280"/>
            <a:ext cx="503280" cy="1079640"/>
          </a:xfrm>
          <a:prstGeom prst="rect">
            <a:avLst/>
          </a:prstGeom>
          <a:solidFill>
            <a:srgbClr val="ef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92000" y="3993840"/>
            <a:ext cx="856800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791240" y="5938560"/>
            <a:ext cx="217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</a:rPr>
              <a:t>Adapted from :</a:t>
            </a:r>
            <a:r>
              <a:rPr b="0" lang="fr-FR" sz="3200" spc="-1" strike="noStrike">
                <a:solidFill>
                  <a:srgbClr val="000000"/>
                </a:solidFill>
                <a:latin typeface="Open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06400" y="641520"/>
            <a:ext cx="8553600" cy="5327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486480" y="6335640"/>
            <a:ext cx="3052800" cy="28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567C-3BD1-42A6-84C8-9D8A5A9AA5D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248000" y="3090960"/>
            <a:ext cx="4361040" cy="3749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038560" y="3392640"/>
            <a:ext cx="936720" cy="927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84120" y="2944800"/>
            <a:ext cx="4727520" cy="1303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174760" y="360360"/>
            <a:ext cx="6039000" cy="2376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420840" y="5904000"/>
            <a:ext cx="4763880" cy="72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AA61-681B-418D-B381-D2909F9DD5FB}" type="slidenum">
              <a:t>10</a:t>
            </a:fld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428571428571429 0.0118571428571429 C -0.00628571428571429 -0.0124285714285714 -0.0188596337706219 -0.0310931194967783 -0.0289285714285714 -0.0521428571428571 C -0.0406810625747803 -0.0767121676023621 -0.0631436861557154 -0.0777124180905513 -0.0814285714285714 -0.0921428571428571 C -0.0975365434131204 -0.10485527532381 -0.118142431753631 -0.102580495426095 -0.136928571428571 -0.104142857142857 C -0.153642434367776 -0.105532876595883 -0.169611926713385 -0.113793904512535 -0.184928571428571 -0.122142857142857 C -0.205254791709179 -0.133222480221666 -0.225074279566491 -0.145753779020919 -0.244928571428571 -0.158142857142857 C -0.26078856738669 -0.168039494620723 -0.2773231845204 -0.17509083925498 -0.292892857142857 -0.186142857142857 C -0.309858899476339 -0.198186077825972 -0.326041285868671 -0.206702185133933 -0.342392857142857 -0.220095238095238 C -0.359005576578704 -0.233702189225791 -0.370221328356234 -0.253945436042306 -0.381392857142857 -0.274095238095238 C -0.392899902176421 -0.294850202260763 -0.406103687404618 -0.314525079758054 -0.411392857142857 -0.340095238095238 C -0.416889401858799 -0.366667937715356 -0.439178571428571 -0.373761904761905 -0.453392857142857 -0.390095238095238 L -0.456392857142857 -0.396095238095238 E">
                                      <p:cBhvr>
                                        <p:cTn id="140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dur="indefinite" fill="hold">
                      <p:stCondLst>
                        <p:cond delay="indefinite"/>
                      </p:stCondLst>
                      <p:childTnLst>
                        <p:par>
                          <p:cTn id="1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248000" y="3090960"/>
            <a:ext cx="4361040" cy="3749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767640" y="3456000"/>
            <a:ext cx="1008000" cy="998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176560" y="576360"/>
            <a:ext cx="4929120" cy="100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5702400" y="1881360"/>
            <a:ext cx="3924360" cy="927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863640" y="4406760"/>
            <a:ext cx="3363840" cy="992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304920" y="1844640"/>
            <a:ext cx="4787640" cy="204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B0A4-5AE3-4FDF-BA76-F365D1634F12}" type="slidenum">
              <a:t>11</a:t>
            </a:fld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dur="indefinite" fill="hold">
                      <p:stCondLst>
                        <p:cond delay="indefinite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3571428571429 0.00276190476190476 C -0.00892857142857141 -0.0209523809523809 -0.0136073818829509 -0.0513327360217711 -0.0359642857142857 -0.0672380952380953 C -0.0535002390360185 -0.0797136884099875 -0.0687882859353826 -0.0997455016602389 -0.0884642857142857 -0.105238095238095 C -0.109216864855428 -0.111031218037213 -0.130641658801118 -0.11547918191082 -0.149964285714286 -0.129238095238095 C -0.167355944790387 -0.141622039249483 -0.188108002297451 -0.140138797685423 -0.206964285714286 -0.147238095238095 C -0.233893717001049 -0.15737689308085 -0.261857983724322 -0.159944579137456 -0.289464285714286 -0.165238095238095 C -0.315250842151141 -0.170182674621751 -0.340788554680159 -0.179329599541797 -0.358464285714286 -0.203238095238095 C -0.375359983705411 -0.226091504917551 -0.389899764418845 -0.236275929403977 -0.404964285714286 -0.255190476190476 C -0.419292625226882 -0.273180695910625 -0.439289214774261 -0.278843606600412 -0.457428571428571 -0.287190476190476 C -0.473646363648811 -0.294653133178861 -0.490214001277388 -0.291194706620186 -0.506928571428571 -0.293190476190476 C -0.52849971609759 -0.295766135255434 -0.53875 -0.320904761904762 -0.556428571428571 -0.331190476190476 C -0.574107142857143 -0.34147619047619 -0.593321428571429 -0.353428571428571 -0.602928571428571 -0.377190476190476 L -0.628428571428571 -0.395190476190476 L -0.644928571428571 -0.401190476190476 L -0.644928571428571 -0.403190476190476 E">
                                      <p:cBhvr>
                                        <p:cTn id="162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dur="indefinite" fill="hold">
                      <p:stCondLst>
                        <p:cond delay="indefinite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dur="indefinite" fill="hold">
                      <p:stCondLst>
                        <p:cond delay="indefinite"/>
                      </p:stCondLst>
                      <p:childTnLst>
                        <p:par>
                          <p:cTn id="1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248000" y="3090960"/>
            <a:ext cx="4361040" cy="3749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995400" y="1079640"/>
            <a:ext cx="2171520" cy="373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E80C-09CE-4261-9186-3346741DD29D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48000" y="3090960"/>
            <a:ext cx="4361040" cy="3749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995400" y="3238560"/>
            <a:ext cx="3252600" cy="1081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832360" y="3044880"/>
            <a:ext cx="1079640" cy="987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2900520" y="1200240"/>
            <a:ext cx="5368680" cy="88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3C03-0F88-4717-8212-C1DCBA64758E}" type="slidenum">
              <a:t>3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9285714285714 0.00795238095238095 C -0.0611071428571428 -0.0356190476190477 -0.10828076616361 -0.0522517462467335 -0.151428571428571 -0.0800476190476191 C -0.189887911598495 -0.104823176478747 -0.221928571428571 -0.132857142857143 -0.269928571428571 -0.142 C -0.296678571428571 -0.147095238095238 -0.32025449680667 -0.166802052655567 -0.341928571428571 -0.19 C -0.367325926720264 -0.217183006473051 -0.384352504505392 -0.254918169866816 -0.415392857142857 -0.274 C -0.435709651480684 -0.286489600969846 -0.451597579340581 -0.309296787778261 -0.466392857142857 -0.332 C -0.478347584559777 -0.350344414834686 -0.496785996077108 -0.343902792040438 -0.512892857142857 -0.348 C -0.530107424779688 -0.352378982549991 -0.547892857142857 -0.348 -0.565392857142857 -0.348 L -0.566892857142857 -0.35 E">
                                      <p:cBhvr>
                                        <p:cTn id="20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248000" y="3090960"/>
            <a:ext cx="4361040" cy="3749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408560" y="5099040"/>
            <a:ext cx="919080" cy="876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947960" y="647640"/>
            <a:ext cx="5919840" cy="936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2039760" y="1800360"/>
            <a:ext cx="7318440" cy="647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919160" y="2519280"/>
            <a:ext cx="5569200" cy="43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47A4-FBF6-4535-B084-218195904CED}" type="slidenum">
              <a:t>4</a:t>
            </a:fld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 -0.0145714285714286 C -0.0085 -0.0476666666666667 -0.0387119154465879 -0.056812143905278 -0.051 -0.0765714285714286 C -0.0648904871713388 -0.0989073824767738 -0.0889301553069822 -0.104664393398828 -0.105 -0.124571428571429 C -0.118644441218215 -0.141473917452326 -0.133711503919101 -0.155954630230113 -0.144 -0.178571428571429 C -0.15424721848205 -0.201097487982405 -0.166148313257546 -0.221760006907869 -0.171 -0.246571428571429 C -0.177219742200226 -0.27837905642549 -0.202390068267715 -0.287719160795703 -0.218964285714286 -0.304571428571429 C -0.23503292622999 -0.320909637819343 -0.256216252423955 -0.323806343312488 -0.271464285714286 -0.340571428571429 C -0.289001967058428 -0.359853962743565 -0.297782988298966 -0.389620791265974 -0.307464285714286 -0.416523809523809 C -0.316032988487134 -0.440335077503154 -0.310750315658712 -0.469666415898607 -0.320964285714286 -0.49252380952381 C -0.332071744233465 -0.517380701620331 -0.339208405487049 -0.541676318600284 -0.358464285714286 -0.562523809523809 C -0.374351265640736 -0.579723940907595 -0.384357142857143 -0.604380952380952 -0.400464285714286 -0.62052380952381 L -0.401964285714286 -0.62252380952381 E">
                                      <p:cBhvr>
                                        <p:cTn id="38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70040" y="1224000"/>
            <a:ext cx="8805600" cy="482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96D3-6E82-4F29-B8AB-941C70D5F89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248000" y="3090960"/>
            <a:ext cx="4361040" cy="3749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343640" y="5111640"/>
            <a:ext cx="1268640" cy="1224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103480" y="503280"/>
            <a:ext cx="6861240" cy="251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5E62-CE44-433C-98CC-71F8B66E6F60}" type="slidenum">
              <a:t>6</a:t>
            </a:fld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 -0.0151904761904762 C 0.0093571428571429 -0.058 -0.028601693923586 -0.0663843170923835 -0.04 -0.0991904761904762 C -0.0493159802593084 -0.126003366500026 -0.0718612000631985 -0.125566042010017 -0.0895 -0.149190476190476 C -0.111468343754259 -0.178613662174539 -0.148028369725532 -0.177349449363774 -0.175 -0.199190476190476 C -0.201599803752963 -0.220730406162876 -0.239360540322668 -0.215471865847537 -0.2635 -0.249190476190476 C -0.281360540835006 -0.27413853322985 -0.313980952706741 -0.268465456025071 -0.328 -0.307190476190476 C -0.338873815135395 -0.337227375388008 -0.365569897635366 -0.350002495613713 -0.385 -0.371190476190476 C -0.405177040669488 -0.39319297199718 -0.429065594770756 -0.404437758851127 -0.451 -0.429190476190476 C -0.467887025830973 -0.448247285469219 -0.482216058083565 -0.463558557653535 -0.505 -0.469142857142857 C -0.525930348068519 -0.474272844414553 -0.541178961979014 -0.496427518313118 -0.560464285714286 -0.509142857142857 C -0.580107533439638 -0.522094185000918 -0.598005438987077 -0.534707189996278 -0.614464285714286 -0.557142857142857 C -0.628362583722852 -0.576088144938063 -0.645214285714286 -0.591190476190476 -0.663964285714286 -0.601142857142857 L -0.681964285714286 -0.623142857142857 L -0.695464285714286 -0.643142857142857 L -0.695464285714286 -0.645142857142857 E">
                                      <p:cBhvr>
                                        <p:cTn id="60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48000" y="3090960"/>
            <a:ext cx="4361040" cy="3749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36720" y="792000"/>
            <a:ext cx="856764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ce181e"/>
                </a:solidFill>
                <a:latin typeface="Arial"/>
              </a:rPr>
              <a:t>A free vers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oes not use consistent metre patterns, rhyme, or any musical pattern. It thus tends to follow the rhythm of natural spee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36720" y="2160720"/>
            <a:ext cx="842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ce181e"/>
                </a:solidFill>
                <a:latin typeface="Arial"/>
              </a:rPr>
              <a:t>An enjambement</a:t>
            </a:r>
            <a:r>
              <a:rPr b="0" lang="fr-FR" sz="2400" spc="-1" strike="noStrike">
                <a:solidFill>
                  <a:srgbClr val="ce181e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s the the continuity of a sentence from one line of a poem into the start of the next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3FA4-56CF-49B0-A87F-4BC5F362ADDA}" type="slidenum">
              <a:t>7</a:t>
            </a:fld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48000" y="3090960"/>
            <a:ext cx="4361040" cy="3749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481640" y="4319640"/>
            <a:ext cx="1062000" cy="936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328840" y="676440"/>
            <a:ext cx="2718000" cy="1195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5472000" y="1152360"/>
            <a:ext cx="3691080" cy="936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973080" y="2376360"/>
            <a:ext cx="4246560" cy="100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AEC1-1072-4020-817A-3075FFB4EE58}" type="slidenum">
              <a:t>8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4285714285714 0.0126190476190476 C -0.00357142857142857 -0.0137619047619048 -0.011991409826678 -0.0396739842834757 -0.0233571428571429 -0.0633809523809524 C -0.0358485552164384 -0.089435894327986 -0.0575620396568734 -0.103627011932651 -0.0698571428571429 -0.129380952380952 C -0.0807048998976192 -0.152103208897835 -0.0981000474975501 -0.165535947997028 -0.113357142857143 -0.181380952380952 C -0.12992148128929 -0.198583572466115 -0.14164695638885 -0.223181126339144 -0.159857142857143 -0.237380952380952 C -0.177432673423035 -0.251085890387091 -0.186743865505763 -0.274626960520022 -0.200357142857143 -0.293380952380952 C -0.217922439231529 -0.317579344637075 -0.23917924306691 -0.336852416836341 -0.264821428571429 -0.343333333333333 C -0.283643529359906 -0.348090512220702 -0.297182245652654 -0.369376353548853 -0.309821428571429 -0.387333333333333 C -0.327146532180652 -0.411947783276353 -0.342537560510613 -0.441327992656923 -0.365321428571429 -0.455333333333333 C -0.385608989829491 -0.467804183592574 -0.390857142857143 -0.494619047619048 -0.408821428571429 -0.507333333333333 L -0.414821428571429 -0.513333333333333 E">
                                      <p:cBhvr>
                                        <p:cTn id="84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248000" y="3090960"/>
            <a:ext cx="4361040" cy="3749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343640" y="4392720"/>
            <a:ext cx="911520" cy="850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767640" y="1728720"/>
            <a:ext cx="2849400" cy="100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824360" y="6119640"/>
            <a:ext cx="5054760" cy="935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189000" y="4687920"/>
            <a:ext cx="4851360" cy="1503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173160" y="1584360"/>
            <a:ext cx="6235560" cy="1224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144360" y="2959200"/>
            <a:ext cx="4969080" cy="930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>
            <a:off x="2360520" y="360360"/>
            <a:ext cx="5184720" cy="115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A8C9-E9B4-46FB-9FA2-BD690DEC039A}" type="slidenum">
              <a:t>9</a:t>
            </a:fld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21428571428571 -0.0107619047619048 C -0.00210714285714286 -0.0325714285714286 0.00663736551622709 -0.0606591548497948 -0.00728571428571429 -0.0787619047619048 C -0.0235412080276564 -0.0998972528382129 -0.0403919440385652 -0.129317252711304 -0.0657857142857143 -0.126761904761905 C -0.0839276651973118 -0.124936299638725 -0.0971765938343353 -0.138225492283784 -0.116785714285714 -0.132761904761905 C -0.136998026894497 -0.127130252937873 -0.158429926616769 -0.132710315570412 -0.178285714285714 -0.144761904761905 C -0.197108498504089 -0.156186506325043 -0.210358050671696 -0.177094177212373 -0.223285714285714 -0.196761904761905 C -0.238215193574524 -0.219475129662828 -0.254078167486078 -0.241086552695665 -0.269785714285714 -0.262761904761905 C -0.285756741592647 -0.284800842105407 -0.306320245210905 -0.302161773637634 -0.329785714285714 -0.304761904761905 C -0.345427398791613 -0.30649510815921 -0.361716431669839 -0.305279850201342 -0.376285714285714 -0.314761904761905 C -0.397787861354722 -0.328756041402196 -0.422712735530845 -0.335478535677315 -0.440785714285714 -0.356714285714286 C -0.456998449997576 -0.375764250175723 -0.467186444424547 -0.401608697617921 -0.482785714285714 -0.422714285714286 C -0.49868644824877 -0.444227750411089 -0.517750117074143 -0.456856599842646 -0.53825 -0.464714285714286 C -0.558250117082335 -0.472380409369596 -0.577714285714286 -0.483285714285714 -0.59525 -0.498714285714286 L -0.62975 -0.518714285714286 L -0.64625 -0.528714285714286 L -0.65225 -0.536714285714286 E">
                                      <p:cBhvr>
                                        <p:cTn id="10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11T17:06:32Z</dcterms:created>
  <dc:creator/>
  <dc:description/>
  <dc:language>en-US</dc:language>
  <cp:lastModifiedBy/>
  <dcterms:modified xsi:type="dcterms:W3CDTF">2020-11-06T19:25:59Z</dcterms:modified>
  <cp:revision>11</cp:revision>
  <dc:subject/>
  <dc:title/>
</cp:coreProperties>
</file>