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920" y="4412880"/>
            <a:ext cx="906948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2920" y="441288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0520" y="441288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996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96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5520" y="1767960"/>
            <a:ext cx="291996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920" y="4412880"/>
            <a:ext cx="291996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9400" y="4412880"/>
            <a:ext cx="291996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5520" y="4412880"/>
            <a:ext cx="291996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3DD4-26CA-4C09-B627-9A613120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9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904F-1A72-4CF2-897A-8ABC877C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EFF-98EE-43C8-A8F9-BAA919D3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1030-75A7-4BA6-870B-345DD8A6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7E03-11D7-4A67-94C7-677BE9B3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820584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EFC7-4377-4854-85A2-C34FD07B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41288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E87D-C213-4AFD-97A8-DD1467F8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9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41288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6683-362A-40A0-BB9E-385BF9E0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412880"/>
            <a:ext cx="906948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4AF4-A783-47D8-996F-054041A6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412880"/>
            <a:ext cx="906948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C21B-A3DD-476D-B6FB-F1EAA04B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41288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41288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750-4F4F-436C-BD84-9964DFB5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996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96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5520" y="1767960"/>
            <a:ext cx="291996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412880"/>
            <a:ext cx="291996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9400" y="4412880"/>
            <a:ext cx="291996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5520" y="4412880"/>
            <a:ext cx="291996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DAA2-157C-443A-95D4-EBFB4780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820584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2920" y="441288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0520" y="441288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920" y="4412880"/>
            <a:ext cx="9069480" cy="241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145960"/>
            <a:ext cx="789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4181040"/>
            <a:ext cx="9069480" cy="29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69000"/>
          </a:bodyPr>
          <a:p>
            <a:pPr marL="23652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6520" indent="-236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88880" y="2243160"/>
            <a:ext cx="9077400" cy="14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-11160"/>
            <a:ext cx="1008072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58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502920" y="7322760"/>
            <a:ext cx="2346120" cy="2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448080" y="7259400"/>
            <a:ext cx="319392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227720" y="7259400"/>
            <a:ext cx="23464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6CD1B-9C0F-45F0-9577-90FF1B3D1FA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723160" y="74520"/>
            <a:ext cx="1036800" cy="1028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5000" y="6951600"/>
            <a:ext cx="9829800" cy="30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2146320"/>
            <a:ext cx="789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6600"/>
                </a:solidFill>
                <a:latin typeface="Arial"/>
              </a:rPr>
              <a:t>Real or Fictional ?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72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Arial"/>
              </a:rPr>
              <a:t>Robinson Crusoe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0" y="1433520"/>
            <a:ext cx="3384720" cy="522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72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Arial"/>
              </a:rPr>
              <a:t>Robinson Crusoe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12"/>
              </a:spcBef>
              <a:buClr>
                <a:srgbClr val="ff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ictional !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book that revolves around his story is presented as autobiographical but this famous castaway was invented by Daniel DeFoe in 17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6960" y="1787400"/>
            <a:ext cx="1733760" cy="26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72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Arial"/>
              </a:rPr>
              <a:t>Sherlock Holmes 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75040" y="1622520"/>
            <a:ext cx="3792600" cy="49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72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Arial"/>
              </a:rPr>
              <a:t>Sherlock Holmes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12"/>
              </a:spcBef>
              <a:buClr>
                <a:srgbClr val="ff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ictional !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is outstanding detective was created by Sir Arthur Conan Doyle in 188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3280" y="1812960"/>
            <a:ext cx="2095560" cy="27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72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Arial"/>
              </a:rPr>
              <a:t>Harry Potter 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448000" y="1760400"/>
            <a:ext cx="4824360" cy="45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72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Arial"/>
              </a:rPr>
              <a:t>Harry Potter 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12"/>
              </a:spcBef>
              <a:buClr>
                <a:srgbClr val="ff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ictional !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is famous wizard was invented by J. K. Rowling in the 1990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63640" y="1760400"/>
            <a:ext cx="2087640" cy="19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72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0280" y="1517400"/>
            <a:ext cx="8427960" cy="506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What do all these people or characters have in common 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72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Arial"/>
              </a:rPr>
              <a:t>Bouddica 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90680" y="1720800"/>
            <a:ext cx="7032600" cy="43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72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Arial"/>
              </a:rPr>
              <a:t>Bouddica 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12"/>
              </a:spcBef>
              <a:buClr>
                <a:srgbClr val="ff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al !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he was a Celtic warrior queen who led a revolt against the Romans in AD 60-65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27040" y="1803240"/>
            <a:ext cx="3218040" cy="201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72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Arial"/>
              </a:rPr>
              <a:t>King Arthur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664000" y="1687680"/>
            <a:ext cx="4176360" cy="50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72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Arial"/>
              </a:rPr>
              <a:t>King Arthur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12"/>
              </a:spcBef>
              <a:buClr>
                <a:srgbClr val="ff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ictional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a legendary king who defended Britain against Saxon invaders.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legend might have been inspired by a real leader th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6400" y="1768320"/>
            <a:ext cx="2414880" cy="29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72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Arial"/>
              </a:rPr>
              <a:t>Lady Godiva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11440" y="1655640"/>
            <a:ext cx="6856200" cy="51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72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Arial"/>
              </a:rPr>
              <a:t>Lady Godiva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12"/>
              </a:spcBef>
              <a:buClr>
                <a:srgbClr val="ff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al !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he was a noble Anglo-Saxon woman who rode on a horse completely naked to protest against her husband’s heavily taxing local people in the 11th century.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60520" y="1841400"/>
            <a:ext cx="2392200" cy="179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72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Arial"/>
              </a:rPr>
              <a:t>Guy Fawkes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24360" y="1292400"/>
            <a:ext cx="4103640" cy="55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2072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Arial"/>
              </a:rPr>
              <a:t>Guy Fawkes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12"/>
              </a:spcBef>
              <a:buClr>
                <a:srgbClr val="ff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al !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an English consipator who took part in the Gunpowder Plot (1605) aiming at killing the King. He was arrested and execu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3280" y="1773360"/>
            <a:ext cx="1466640" cy="19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13T10:40:03Z</dcterms:created>
  <dc:creator/>
  <dc:description/>
  <dc:language>en-US</dc:language>
  <cp:lastModifiedBy/>
  <dcterms:modified xsi:type="dcterms:W3CDTF">2021-01-13T12:15:26Z</dcterms:modified>
  <cp:revision>3</cp:revision>
  <dc:subject/>
  <dc:title>Pencil</dc:title>
</cp:coreProperties>
</file>