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412880"/>
            <a:ext cx="906948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41288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0520" y="441288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41288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400" y="441288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5520" y="441288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32E-8972-47F9-9C75-1EEA6C71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BC45-9310-416E-9D03-F474EC1F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DB2-B4C2-4B2B-8E68-DE39DCDE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06F-1A0F-47B1-8AD9-EEC68D92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89B-71E0-445A-9F11-08C694FB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82058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E7C-07B9-4574-9721-89B8E7B0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41288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55A-07C5-4556-A2FC-F59A8240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41288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133-1C44-4BE0-8EB4-6AFA2C36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412880"/>
            <a:ext cx="906948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468-3E68-45FE-9A23-FC693EDE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412880"/>
            <a:ext cx="906948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64D1-5D05-4C02-A626-F70114C8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41288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41288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0CE-A0D7-4C7C-8F51-BAF2F29F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41288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41288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41288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E59-9AF0-4644-8979-03A37718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82058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41288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0520" y="441288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412880"/>
            <a:ext cx="906948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145960"/>
            <a:ext cx="789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4181040"/>
            <a:ext cx="9069480" cy="29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69000"/>
          </a:bodyPr>
          <a:p>
            <a:pPr marL="23652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88880" y="2243160"/>
            <a:ext cx="9077400" cy="14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-11160"/>
            <a:ext cx="1008072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02920" y="7322760"/>
            <a:ext cx="234612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448080" y="7259400"/>
            <a:ext cx="31939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227720" y="7259400"/>
            <a:ext cx="23464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BBF4E-0739-49AB-A063-446830FE538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723160" y="74520"/>
            <a:ext cx="1036800" cy="1028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5000" y="6951600"/>
            <a:ext cx="9829800" cy="30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2146320"/>
            <a:ext cx="789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6600"/>
                </a:solidFill>
                <a:latin typeface="Arial"/>
              </a:rPr>
              <a:t>Real or Fictional ?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Robinson Crusoe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0" y="1433520"/>
            <a:ext cx="3384720" cy="522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Robinson Crusoe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12"/>
              </a:spcBef>
              <a:buClr>
                <a:srgbClr val="ff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ctional !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book that revolves around his story is presented as autobiographical but this famous castaway was invented by Daniel DeFoe in 17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6960" y="1787400"/>
            <a:ext cx="173376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Sherlock Holmes 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75040" y="1622520"/>
            <a:ext cx="3792600" cy="49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Sherlock Holmes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12"/>
              </a:spcBef>
              <a:buClr>
                <a:srgbClr val="ff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ctional !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outstanding detective was created by Sir Arthur Conan Doyle in 188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3280" y="1812960"/>
            <a:ext cx="2095560" cy="27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Harry Potter 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48000" y="1760400"/>
            <a:ext cx="482436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Harry Potter 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12"/>
              </a:spcBef>
              <a:buClr>
                <a:srgbClr val="ff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ctional !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famous wizard was invented by J. K. Rowling in the 199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63640" y="1760400"/>
            <a:ext cx="2087640" cy="19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0280" y="1517400"/>
            <a:ext cx="8427960" cy="506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hat do all these people or characters have in common 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Bouddica 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90680" y="1720800"/>
            <a:ext cx="7032600" cy="43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Bouddica 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12"/>
              </a:spcBef>
              <a:buClr>
                <a:srgbClr val="ff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al !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he was a Celtic warrior queen who led a revolt against the Romans in AD 60-65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7040" y="1803240"/>
            <a:ext cx="3218040" cy="201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King Arthur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64000" y="1687680"/>
            <a:ext cx="4176360" cy="50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King Arthur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12"/>
              </a:spcBef>
              <a:buClr>
                <a:srgbClr val="ff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ctional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a legendary king who defended Britain against Saxon invaders.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legend might have been inspired by a real leader th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6400" y="1768320"/>
            <a:ext cx="2414880" cy="29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Lady Godiva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11440" y="1655640"/>
            <a:ext cx="6856200" cy="51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Lady Godiva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12"/>
              </a:spcBef>
              <a:buClr>
                <a:srgbClr val="ff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al !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he was a noble Anglo-Saxon woman who rode on a horse completely naked to protest against her husband’s heavily taxing local people in the 11th century.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0520" y="1841400"/>
            <a:ext cx="2392200" cy="17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Guy Fawkes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24360" y="1292400"/>
            <a:ext cx="4103640" cy="55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Guy Fawkes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12"/>
              </a:spcBef>
              <a:buClr>
                <a:srgbClr val="ff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al !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an English consipator who took part in the Gunpowder Plot (1605) aiming at killing the King. He was arrested and exec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3280" y="1773360"/>
            <a:ext cx="146664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3T10:40:03Z</dcterms:created>
  <dc:creator/>
  <dc:description/>
  <dc:language>en-US</dc:language>
  <cp:lastModifiedBy/>
  <dcterms:modified xsi:type="dcterms:W3CDTF">2021-01-13T12:15:26Z</dcterms:modified>
  <cp:revision>3</cp:revision>
  <dc:subject/>
  <dc:title>Pencil</dc:title>
</cp:coreProperties>
</file>