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313-C7A7-4923-8F79-17489CC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61C-7236-4E61-9622-1A96586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E4B-2125-4E16-9C89-93246012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5B1-10C7-4A4F-9CC0-DDD79A24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BF-EFAA-46A8-9478-157C734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907-ADC6-481E-B43F-C3A3F6DE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E50-E336-441A-B3B3-79BFD3A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9D5-A410-4FDB-AAB9-AE6BDE8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250-1D1C-4088-85B5-50A0A4D5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E35-0DB4-408D-936E-D080C38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4CA-21FB-44F4-A357-4F87D39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31E-BEA8-4416-9A90-23E7EA8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8B3A-7702-445A-B0C1-1BCDD4A47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describe pictures 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irst, identify the type of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246560" cy="25574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2792520" y="5200560"/>
            <a:ext cx="34002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93560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" descr=""/>
          <p:cNvPicPr/>
          <p:nvPr/>
        </p:nvPicPr>
        <p:blipFill>
          <a:blip r:embed="rId2"/>
          <a:stretch/>
        </p:blipFill>
        <p:spPr>
          <a:xfrm>
            <a:off x="3243240" y="5346720"/>
            <a:ext cx="31878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19640" y="1447920"/>
            <a:ext cx="2665080" cy="34909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2054160" y="5200560"/>
            <a:ext cx="50356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1603440" y="4340160"/>
            <a:ext cx="55958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1752480" cy="260964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2322360" y="4913280"/>
            <a:ext cx="4969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862440" cy="25606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2"/>
          <a:stretch/>
        </p:blipFill>
        <p:spPr>
          <a:xfrm>
            <a:off x="1036800" y="4986360"/>
            <a:ext cx="7132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"/>
          <p:cNvPicPr/>
          <p:nvPr/>
        </p:nvPicPr>
        <p:blipFill>
          <a:blip r:embed="rId1"/>
          <a:stretch/>
        </p:blipFill>
        <p:spPr>
          <a:xfrm>
            <a:off x="542880" y="1419120"/>
            <a:ext cx="80582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 picture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260600" cy="2385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957240" y="4986360"/>
            <a:ext cx="7143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home\Desktop\Classe Opéra 2011_2012\2013\im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210120" cy="24606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-244440" y="5059440"/>
            <a:ext cx="9601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592360" cy="3729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2"/>
          <a:stretch/>
        </p:blipFill>
        <p:spPr>
          <a:xfrm>
            <a:off x="1243080" y="4932360"/>
            <a:ext cx="62974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721040" cy="3241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2498760" y="5273640"/>
            <a:ext cx="42260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457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2571840" y="5273640"/>
            <a:ext cx="41940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66880" y="2205000"/>
            <a:ext cx="344808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6360" y="5059440"/>
            <a:ext cx="92109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5" descr=""/>
          <p:cNvPicPr/>
          <p:nvPr/>
        </p:nvPicPr>
        <p:blipFill>
          <a:blip r:embed="rId1"/>
          <a:stretch/>
        </p:blipFill>
        <p:spPr>
          <a:xfrm>
            <a:off x="549360" y="5059440"/>
            <a:ext cx="8229600" cy="192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3816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2384280"/>
            <a:ext cx="5112000" cy="2853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1536840" y="5200560"/>
            <a:ext cx="68641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20:15:30Z</dcterms:created>
  <dc:creator>home</dc:creator>
  <dc:description/>
  <dc:language>en-US</dc:language>
  <cp:lastModifiedBy>acdavies</cp:lastModifiedBy>
  <dcterms:modified xsi:type="dcterms:W3CDTF">2021-09-09T09:08:34Z</dcterms:modified>
  <cp:revision>9</cp:revision>
  <dc:subject/>
  <dc:title>Let’s describe pictures !</dc:title>
</cp:coreProperties>
</file>