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0FD-BB93-41AD-97EB-7176D808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678-FBA5-4A74-95A1-B2F9E1F6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900-42C1-4CCD-AD34-4686269B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6C5-E49C-4FC2-8DE2-98F0388A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4EA-60C6-4513-8059-89E17CB2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7DD-A6EE-452D-BB5A-65263EFE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050-0881-4FE8-A9AC-D14F47C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FB2-CE78-4323-B935-03BB60CE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0C1-F6BD-4B56-9183-E2EF987A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86C-5EE4-4440-B1F7-FF56BC6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E4F-6B1C-4F85-8F7D-9CE0057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3D0-FDED-4762-8410-D10A3B0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421-9E5D-48B4-A536-9F31D95F5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t’s describe pictures 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First, identify the type of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246560" cy="25574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2792520" y="5200560"/>
            <a:ext cx="34002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935600" cy="328464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4" descr=""/>
          <p:cNvPicPr/>
          <p:nvPr/>
        </p:nvPicPr>
        <p:blipFill>
          <a:blip r:embed="rId2"/>
          <a:stretch/>
        </p:blipFill>
        <p:spPr>
          <a:xfrm>
            <a:off x="3243240" y="5346720"/>
            <a:ext cx="31878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19640" y="1447920"/>
            <a:ext cx="2665080" cy="34909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2054160" y="5200560"/>
            <a:ext cx="50356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1603440" y="4340160"/>
            <a:ext cx="55958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1752480" cy="260964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4" descr=""/>
          <p:cNvPicPr/>
          <p:nvPr/>
        </p:nvPicPr>
        <p:blipFill>
          <a:blip r:embed="rId2"/>
          <a:stretch/>
        </p:blipFill>
        <p:spPr>
          <a:xfrm>
            <a:off x="2322360" y="4913280"/>
            <a:ext cx="4969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862440" cy="25606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2"/>
          <a:stretch/>
        </p:blipFill>
        <p:spPr>
          <a:xfrm>
            <a:off x="1036800" y="4986360"/>
            <a:ext cx="71323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"/>
          <p:cNvPicPr/>
          <p:nvPr/>
        </p:nvPicPr>
        <p:blipFill>
          <a:blip r:embed="rId1"/>
          <a:stretch/>
        </p:blipFill>
        <p:spPr>
          <a:xfrm>
            <a:off x="542880" y="1419120"/>
            <a:ext cx="80582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 picture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260600" cy="2385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4" descr=""/>
          <p:cNvPicPr/>
          <p:nvPr/>
        </p:nvPicPr>
        <p:blipFill>
          <a:blip r:embed="rId2"/>
          <a:stretch/>
        </p:blipFill>
        <p:spPr>
          <a:xfrm>
            <a:off x="957240" y="4986360"/>
            <a:ext cx="7143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C:\Users\home\Desktop\Classe Opéra 2011_2012\2013\im0.jpg"/>
          <p:cNvPicPr/>
          <p:nvPr/>
        </p:nvPicPr>
        <p:blipFill>
          <a:blip r:embed="rId1"/>
          <a:stretch/>
        </p:blipFill>
        <p:spPr>
          <a:xfrm>
            <a:off x="2771640" y="2421000"/>
            <a:ext cx="3210120" cy="24606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-244440" y="5059440"/>
            <a:ext cx="9601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592360" cy="3729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2"/>
          <a:stretch/>
        </p:blipFill>
        <p:spPr>
          <a:xfrm>
            <a:off x="1243080" y="4932360"/>
            <a:ext cx="62974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721040" cy="3241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2"/>
          <a:stretch/>
        </p:blipFill>
        <p:spPr>
          <a:xfrm>
            <a:off x="2498760" y="5273640"/>
            <a:ext cx="42260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457440" cy="369396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4" descr=""/>
          <p:cNvPicPr/>
          <p:nvPr/>
        </p:nvPicPr>
        <p:blipFill>
          <a:blip r:embed="rId2"/>
          <a:stretch/>
        </p:blipFill>
        <p:spPr>
          <a:xfrm>
            <a:off x="2571840" y="5273640"/>
            <a:ext cx="41940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66880" y="2205000"/>
            <a:ext cx="344808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2"/>
          <a:stretch/>
        </p:blipFill>
        <p:spPr>
          <a:xfrm>
            <a:off x="36360" y="5059440"/>
            <a:ext cx="92109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5" descr=""/>
          <p:cNvPicPr/>
          <p:nvPr/>
        </p:nvPicPr>
        <p:blipFill>
          <a:blip r:embed="rId1"/>
          <a:stretch/>
        </p:blipFill>
        <p:spPr>
          <a:xfrm>
            <a:off x="549360" y="5059440"/>
            <a:ext cx="8229600" cy="192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3816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2384280"/>
            <a:ext cx="5112000" cy="2853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1536840" y="5200560"/>
            <a:ext cx="68641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20:15:30Z</dcterms:created>
  <dc:creator>home</dc:creator>
  <dc:description/>
  <dc:language>en-US</dc:language>
  <cp:lastModifiedBy>acdavies</cp:lastModifiedBy>
  <dcterms:modified xsi:type="dcterms:W3CDTF">2021-09-09T09:08:34Z</dcterms:modified>
  <cp:revision>9</cp:revision>
  <dc:subject/>
  <dc:title>Let’s describe pictures !</dc:title>
</cp:coreProperties>
</file>