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691813" cy="46799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DA63-45DE-49B1-952B-5B747ADE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70504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50EC-CD36-4C92-9214-C4C6650F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1AF-3893-4345-A84F-2C912B0F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8B7-55F2-4592-B9E0-E9D7EC00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4960" y="187200"/>
            <a:ext cx="962352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BF99-8479-49D1-8F15-47AB0611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6624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4960" y="270504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46624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8864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042680" y="109188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496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8864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042680" y="2705040"/>
            <a:ext cx="3098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9F1D-A03F-408D-9FA6-F9FA0E10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C1FA-888C-4BB7-B8F6-F57141F3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6F62-8409-4E8A-814F-7191851B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87200"/>
            <a:ext cx="962352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D68-20BF-4CAB-B76F-3C674A9C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FB9C-A831-440E-A62D-91784E45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70504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D44-E4E3-456B-94DB-E2B85301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91880"/>
            <a:ext cx="469620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705040"/>
            <a:ext cx="9623520" cy="14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AA3-A266-4B70-9924-6763B978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4336560"/>
            <a:ext cx="24955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4336560"/>
            <a:ext cx="338760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4336560"/>
            <a:ext cx="2495520" cy="2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FC43-A488-4604-8A31-C09E76A2C36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6"/>
          <p:cNvSpPr/>
          <p:nvPr/>
        </p:nvSpPr>
        <p:spPr>
          <a:xfrm>
            <a:off x="73080" y="65160"/>
            <a:ext cx="10548720" cy="4538520"/>
          </a:xfrm>
          <a:prstGeom prst="roundRect">
            <a:avLst>
              <a:gd name="adj" fmla="val 459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à coins arrondis 7"/>
          <p:cNvSpPr/>
          <p:nvPr/>
        </p:nvSpPr>
        <p:spPr>
          <a:xfrm>
            <a:off x="149400" y="193680"/>
            <a:ext cx="10402560" cy="4305240"/>
          </a:xfrm>
          <a:prstGeom prst="roundRect">
            <a:avLst>
              <a:gd name="adj" fmla="val 41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rrondir un rectangle avec un coin du même côté 8"/>
          <p:cNvSpPr/>
          <p:nvPr/>
        </p:nvSpPr>
        <p:spPr>
          <a:xfrm rot="16200000">
            <a:off x="-1784880" y="2102760"/>
            <a:ext cx="4329360" cy="466560"/>
          </a:xfrm>
          <a:custGeom>
            <a:avLst/>
            <a:gdLst/>
            <a:ahLst/>
            <a:rect l="l" t="t" r="r" b="b"/>
            <a:pathLst>
              <a:path w="4329113" h="466725">
                <a:moveTo>
                  <a:pt x="151807" y="0"/>
                </a:moveTo>
                <a:lnTo>
                  <a:pt x="4177306" y="0"/>
                </a:lnTo>
                <a:cubicBezTo>
                  <a:pt x="4261147" y="0"/>
                  <a:pt x="4329113" y="67966"/>
                  <a:pt x="4329113" y="151807"/>
                </a:cubicBezTo>
                <a:lnTo>
                  <a:pt x="4329113" y="466725"/>
                </a:lnTo>
                <a:lnTo>
                  <a:pt x="4329113" y="466725"/>
                </a:lnTo>
                <a:lnTo>
                  <a:pt x="0" y="466725"/>
                </a:lnTo>
                <a:lnTo>
                  <a:pt x="0" y="466725"/>
                </a:lnTo>
                <a:lnTo>
                  <a:pt x="0" y="151807"/>
                </a:lnTo>
                <a:cubicBezTo>
                  <a:pt x="0" y="67966"/>
                  <a:pt x="67966" y="0"/>
                  <a:pt x="151807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 9" descr="judo ceintures.gif"/>
          <p:cNvPicPr/>
          <p:nvPr/>
        </p:nvPicPr>
        <p:blipFill>
          <a:blip r:embed="rId2"/>
          <a:stretch/>
        </p:blipFill>
        <p:spPr>
          <a:xfrm>
            <a:off x="8558280" y="1835280"/>
            <a:ext cx="1973160" cy="2627280"/>
          </a:xfrm>
          <a:prstGeom prst="rect">
            <a:avLst/>
          </a:prstGeom>
          <a:ln w="0">
            <a:noFill/>
          </a:ln>
        </p:spPr>
      </p:pic>
      <p:sp>
        <p:nvSpPr>
          <p:cNvPr id="45" name="ZoneTexte 10"/>
          <p:cNvSpPr/>
          <p:nvPr/>
        </p:nvSpPr>
        <p:spPr>
          <a:xfrm>
            <a:off x="638280" y="162000"/>
            <a:ext cx="66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A. Indique la classe des mots soulignés</a:t>
            </a:r>
            <a:r>
              <a:rPr b="1" lang="fr-F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Century Gothic"/>
              </a:rPr>
              <a:t>(0,5 point par mo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ZoneTexte 11"/>
          <p:cNvSpPr/>
          <p:nvPr/>
        </p:nvSpPr>
        <p:spPr>
          <a:xfrm>
            <a:off x="658800" y="468360"/>
            <a:ext cx="880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B. Recopie les phrases et repère les groupes qui ont les fonctions                </a:t>
            </a: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entury Gothic"/>
              </a:rPr>
              <a:t>suivantes </a:t>
            </a:r>
            <a:r>
              <a:rPr b="0" i="1" lang="fr-FR" sz="1400" spc="-1" strike="noStrike">
                <a:solidFill>
                  <a:srgbClr val="000000"/>
                </a:solidFill>
                <a:latin typeface="Century Gothic"/>
              </a:rPr>
              <a:t>(1 point par phrase)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llipse 12"/>
          <p:cNvSpPr/>
          <p:nvPr/>
        </p:nvSpPr>
        <p:spPr>
          <a:xfrm>
            <a:off x="9575640" y="314280"/>
            <a:ext cx="863640" cy="876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Objectif 8/1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960" y="187200"/>
            <a:ext cx="96235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34960" y="1091880"/>
            <a:ext cx="96235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 rot="16200000">
            <a:off x="-1748520" y="2040480"/>
            <a:ext cx="4211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Berlin Sans FB Demi"/>
              </a:rPr>
              <a:t>Vert fonc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720" y="1763280"/>
            <a:ext cx="7872480" cy="26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J’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irai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à Paris 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demain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ans s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nich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, le chiot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fougueux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tourne en ro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Un jour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nous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deviendron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d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grands voyageu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Lorsque la températur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mont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, la lune prend un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étrang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couleur rous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ans la rue,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les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musiciens de l’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orchestr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jouent un air de fê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923400" y="1077840"/>
            <a:ext cx="768204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Prédicats, compléments de phr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 rot="16200000">
            <a:off x="-1748520" y="2040480"/>
            <a:ext cx="4211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Berlin Sans FB Demi"/>
              </a:rPr>
              <a:t>Vert fonc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1763280"/>
            <a:ext cx="7872480" cy="26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u fond d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leur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trou, les crapaud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ont regardé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le ci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ès qu’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il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fait beau mes cousins vont dans l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jardin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Les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jeunes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enfants de Nathali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creusent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dans le bac à s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L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e chat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ronronne 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oucement au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coin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du fe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Mm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Langlois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distribue le courrier du jour, à 19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heures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0800" y="1074600"/>
            <a:ext cx="768204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Prédicats et compléments de phr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 rot="16200000">
            <a:off x="-1748520" y="2040480"/>
            <a:ext cx="4211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Berlin Sans FB Demi"/>
              </a:rPr>
              <a:t>Vert fonc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0720" y="1763280"/>
            <a:ext cx="7872480" cy="26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Au signal, les joueurs de chaqu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équip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s’assoient 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rapide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cet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instant le meneur de jeu commence à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 raconter 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l’histo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ès qu’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il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le décide, il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s’arrê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Dès lors,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son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voisin doit inventer la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suite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Tom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, rouge de plaisir, a gagné le prix du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entury Gothic"/>
              </a:rPr>
              <a:t>meilleur</a:t>
            </a: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 joue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910800" y="1074600"/>
            <a:ext cx="768204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Gothic"/>
              </a:rPr>
              <a:t>Prédicats et compléments de phr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5:36:29Z</dcterms:created>
  <dc:creator>Delphine</dc:creator>
  <dc:description/>
  <dc:language>en-US</dc:language>
  <cp:lastModifiedBy>Delphine</cp:lastModifiedBy>
  <dcterms:modified xsi:type="dcterms:W3CDTF">2016-06-19T20:05:55Z</dcterms:modified>
  <cp:revision>104</cp:revision>
  <dc:subject/>
  <dc:title>Diapositive 1</dc:title>
</cp:coreProperties>
</file>