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691813" cy="46799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706-681D-4318-B439-5A94C8EC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E1E-0EE3-43B6-8DFA-C3A01961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238-8B63-4493-A80E-1EDBA682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D6B-F085-4D74-BCF3-34E2932F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4960" y="187200"/>
            <a:ext cx="96235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A39-D62A-4097-840D-9E1A8ACD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8864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04268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496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8864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04268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F5E-19DF-48DE-B9D0-1672834C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BA6-3627-4175-855A-D4E0FF8F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CE3-2B82-4E0E-AC09-94BD4B5B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87200"/>
            <a:ext cx="96235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37F-B45D-4FEC-92BA-973A7F4F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E94-362E-4726-A373-E1D02B6D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315-5B7A-4952-BEAD-FF85E9B9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4B4-3505-43BE-B191-C2C0AB48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336560"/>
            <a:ext cx="24955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336560"/>
            <a:ext cx="338760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336560"/>
            <a:ext cx="24955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547A-8936-4E6E-ABE9-84D4963BCE9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73080" y="65160"/>
            <a:ext cx="10548720" cy="4538520"/>
          </a:xfrm>
          <a:prstGeom prst="roundRect">
            <a:avLst>
              <a:gd name="adj" fmla="val 459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149400" y="193680"/>
            <a:ext cx="10402560" cy="4305240"/>
          </a:xfrm>
          <a:prstGeom prst="roundRect">
            <a:avLst>
              <a:gd name="adj" fmla="val 41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rrondir un rectangle avec un coin du même côté 8"/>
          <p:cNvSpPr/>
          <p:nvPr/>
        </p:nvSpPr>
        <p:spPr>
          <a:xfrm rot="16200000">
            <a:off x="-1784880" y="2102760"/>
            <a:ext cx="4329360" cy="466560"/>
          </a:xfrm>
          <a:custGeom>
            <a:avLst/>
            <a:gdLst/>
            <a:ahLst/>
            <a:rect l="l" t="t" r="r" b="b"/>
            <a:pathLst>
              <a:path w="4329113" h="466725">
                <a:moveTo>
                  <a:pt x="151807" y="0"/>
                </a:moveTo>
                <a:lnTo>
                  <a:pt x="4177306" y="0"/>
                </a:lnTo>
                <a:cubicBezTo>
                  <a:pt x="4261147" y="0"/>
                  <a:pt x="4329113" y="67966"/>
                  <a:pt x="4329113" y="151807"/>
                </a:cubicBezTo>
                <a:lnTo>
                  <a:pt x="4329113" y="466725"/>
                </a:lnTo>
                <a:lnTo>
                  <a:pt x="4329113" y="466725"/>
                </a:lnTo>
                <a:lnTo>
                  <a:pt x="0" y="466725"/>
                </a:lnTo>
                <a:lnTo>
                  <a:pt x="0" y="466725"/>
                </a:lnTo>
                <a:lnTo>
                  <a:pt x="0" y="151807"/>
                </a:lnTo>
                <a:cubicBezTo>
                  <a:pt x="0" y="67966"/>
                  <a:pt x="67966" y="0"/>
                  <a:pt x="15180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 9" descr="judo ceintures.gif"/>
          <p:cNvPicPr/>
          <p:nvPr/>
        </p:nvPicPr>
        <p:blipFill>
          <a:blip r:embed="rId2"/>
          <a:stretch/>
        </p:blipFill>
        <p:spPr>
          <a:xfrm>
            <a:off x="8558280" y="1835280"/>
            <a:ext cx="1973160" cy="262728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10"/>
          <p:cNvSpPr/>
          <p:nvPr/>
        </p:nvSpPr>
        <p:spPr>
          <a:xfrm>
            <a:off x="638280" y="162000"/>
            <a:ext cx="66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A. Indique la classe des mots soulignés</a:t>
            </a: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entury Gothic"/>
              </a:rPr>
              <a:t>(0,5 point par mo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11"/>
          <p:cNvSpPr/>
          <p:nvPr/>
        </p:nvSpPr>
        <p:spPr>
          <a:xfrm>
            <a:off x="658800" y="468360"/>
            <a:ext cx="88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B. Recopie les phrases et repère les groupes qui ont les fonctions                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suivantes </a:t>
            </a:r>
            <a:r>
              <a:rPr b="0" i="1" lang="fr-FR" sz="1400" spc="-1" strike="noStrike">
                <a:solidFill>
                  <a:srgbClr val="000000"/>
                </a:solidFill>
                <a:latin typeface="Century Gothic"/>
              </a:rPr>
              <a:t>(1 point par phrase)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lipse 12"/>
          <p:cNvSpPr/>
          <p:nvPr/>
        </p:nvSpPr>
        <p:spPr>
          <a:xfrm>
            <a:off x="9575640" y="314280"/>
            <a:ext cx="863640" cy="876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Objectif 8/1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J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rai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à Paris 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dema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ans s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nich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le chiot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fougueux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tourne en ro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Un jour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nou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eviendron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d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grands voyageu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orsque la températur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mont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la lune prend un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étrang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couleur rous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ans la rue,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musiciens de l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orchestr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jouent un air de fê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23400" y="1077840"/>
            <a:ext cx="768204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, compléments de phr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u fond d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eur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trou, les crapaud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ont regardé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le ci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qu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fait beau mes cousins vont dans l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jard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jeun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enfants de Nathali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reusent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ans le bac à s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e chat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ronronne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oucement au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o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u fe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Mm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angloi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istribue le courrier du jour, à 19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heur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0800" y="1074600"/>
            <a:ext cx="768204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 et compléments de phr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Au signal, les joueurs de chaqu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équip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’assoient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rapid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et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instant le meneur de jeu commence à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 raconter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’histo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qu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le décide, il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’arrê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lors,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o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voisin doit inventer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uit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Tom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rouge de plaisir, a gagné le prix du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meilleur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joue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0800" y="1074600"/>
            <a:ext cx="768204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 et compléments de phr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5:36:29Z</dcterms:created>
  <dc:creator>Delphine</dc:creator>
  <dc:description/>
  <dc:language>en-US</dc:language>
  <cp:lastModifiedBy>Delphine</cp:lastModifiedBy>
  <dcterms:modified xsi:type="dcterms:W3CDTF">2016-06-19T20:05:55Z</dcterms:modified>
  <cp:revision>104</cp:revision>
  <dc:subject/>
  <dc:title>Diapositive 1</dc:title>
</cp:coreProperties>
</file>