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691813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934-5882-4976-8580-97F0976E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D7F-4B16-4FA7-97AE-97957408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D58-075E-466D-8710-6D83C880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F58-31F6-40BB-B49A-0B3940F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317-EC25-420F-91F1-71BB489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502-7102-40A0-96D3-51529E26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470-F450-4BD8-A71C-0A6F284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BBC-B900-4EAC-93B1-EF0D250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BE4-E484-4B8A-AABE-FE742D3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CE0-2C87-41E7-BC0C-5EA22BA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2FB-D857-41AE-A0A4-43072ED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3B1-CECD-4928-B134-D1A5601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336560"/>
            <a:ext cx="338760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A38-1F06-453C-B4CC-A1574009BEE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73080" y="65160"/>
            <a:ext cx="10548720" cy="4538520"/>
          </a:xfrm>
          <a:prstGeom prst="roundRect">
            <a:avLst>
              <a:gd name="adj" fmla="val 459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149400" y="193680"/>
            <a:ext cx="10402560" cy="43052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avec un coin du même côté 8"/>
          <p:cNvSpPr/>
          <p:nvPr/>
        </p:nvSpPr>
        <p:spPr>
          <a:xfrm rot="16200000">
            <a:off x="-1784880" y="2102760"/>
            <a:ext cx="4329360" cy="466560"/>
          </a:xfrm>
          <a:custGeom>
            <a:avLst/>
            <a:gdLst/>
            <a:ahLst/>
            <a:rect l="l" t="t" r="r" b="b"/>
            <a:pathLst>
              <a:path w="4329113" h="466725">
                <a:moveTo>
                  <a:pt x="151807" y="0"/>
                </a:moveTo>
                <a:lnTo>
                  <a:pt x="4177306" y="0"/>
                </a:lnTo>
                <a:cubicBezTo>
                  <a:pt x="4261147" y="0"/>
                  <a:pt x="4329113" y="67966"/>
                  <a:pt x="4329113" y="151807"/>
                </a:cubicBezTo>
                <a:lnTo>
                  <a:pt x="4329113" y="466725"/>
                </a:lnTo>
                <a:lnTo>
                  <a:pt x="4329113" y="466725"/>
                </a:lnTo>
                <a:lnTo>
                  <a:pt x="0" y="466725"/>
                </a:lnTo>
                <a:lnTo>
                  <a:pt x="0" y="466725"/>
                </a:lnTo>
                <a:lnTo>
                  <a:pt x="0" y="151807"/>
                </a:lnTo>
                <a:cubicBezTo>
                  <a:pt x="0" y="67966"/>
                  <a:pt x="67966" y="0"/>
                  <a:pt x="15180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9" descr="judo ceintures.gif"/>
          <p:cNvPicPr/>
          <p:nvPr/>
        </p:nvPicPr>
        <p:blipFill>
          <a:blip r:embed="rId2"/>
          <a:stretch/>
        </p:blipFill>
        <p:spPr>
          <a:xfrm>
            <a:off x="8558280" y="1835280"/>
            <a:ext cx="1973160" cy="262728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10"/>
          <p:cNvSpPr/>
          <p:nvPr/>
        </p:nvSpPr>
        <p:spPr>
          <a:xfrm>
            <a:off x="638280" y="162000"/>
            <a:ext cx="66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A. Indique la classe des mots soulignés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0,5 point par mo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11"/>
          <p:cNvSpPr/>
          <p:nvPr/>
        </p:nvSpPr>
        <p:spPr>
          <a:xfrm>
            <a:off x="658800" y="46836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B. Recopie les phrases et repère les groupes qui ont les fonctions               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uivantes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1 point par phrase)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lipse 12"/>
          <p:cNvSpPr/>
          <p:nvPr/>
        </p:nvSpPr>
        <p:spPr>
          <a:xfrm>
            <a:off x="9575640" y="314280"/>
            <a:ext cx="863640" cy="87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Objectif 8/1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J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rai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à Paris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ma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s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ich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e chio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fougueux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ourne en ro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Un jour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ou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eviendron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grands voyag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orsque la températur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on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a lune prend un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trang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couleur rou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la rue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musiciens de l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rchestr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nt un air de f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23400" y="1077840"/>
            <a:ext cx="768204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, compléments de phr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u fond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rou, les crapaud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nt regardé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ci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fait beau mes cousins vont dans l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ard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eun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enfants de Nathali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reusen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ans le bac à s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e cha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ronronne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oucement a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o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u fe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M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angloi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istribue le courrier du jour, à 19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heur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u signal, les joueurs de chaqu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quip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ssoient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rapi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e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instant le meneur de jeu commence à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 raconter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’histo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décide, il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rr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lors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o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voisin doit invent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ui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Tom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rouge de plaisir, a gagné le prix d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eil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dcterms:modified xsi:type="dcterms:W3CDTF">2016-06-19T20:05:55Z</dcterms:modified>
  <cp:revision>104</cp:revision>
  <dc:subject/>
  <dc:title>Diapositive 1</dc:title>
</cp:coreProperties>
</file>