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7559675" cy="161925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B8B-BB9A-4D1A-9B51-5BD6F57B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80B-B909-462A-A0FB-D9964100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804-E666-4B63-AC81-7BD9BA0E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D32-1653-4C39-8385-A5D32A30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78000" y="64800"/>
            <a:ext cx="6804000" cy="12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FF4-C34F-4EFC-B582-7503880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784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7916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80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6784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97916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112-9E6C-4FFC-91C2-DA0BA219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CDC-5E44-479D-B616-21888E0D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30D-7E35-4CB9-B337-09959235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64800"/>
            <a:ext cx="6804000" cy="12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6C5-ACFB-4281-92E1-0D335F2B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19E-AA40-437D-9A80-DD535EDD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CEB-C184-4F31-AE4D-485A05C4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B21-3D0C-480E-93A6-37B01AD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-7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158760" indent="-604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244440" indent="-475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3" marL="341280" indent="-4752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4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5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6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1499760"/>
            <a:ext cx="176364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fr-FR" sz="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1499760"/>
            <a:ext cx="239364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1499760"/>
            <a:ext cx="176400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fr-FR" sz="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448E3D9F-4635-4622-A2B3-24C9C7F7FF04}" type="slidenum">
              <a:rPr b="0" lang="fr-FR" sz="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141120" y="84240"/>
            <a:ext cx="3421080" cy="1439640"/>
          </a:xfrm>
          <a:prstGeom prst="roundRect">
            <a:avLst>
              <a:gd name="adj" fmla="val 41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4033800" y="84240"/>
            <a:ext cx="3419640" cy="1439640"/>
          </a:xfrm>
          <a:prstGeom prst="roundRect">
            <a:avLst>
              <a:gd name="adj" fmla="val 4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rrondir un rectangle à un seul coin 8"/>
          <p:cNvSpPr/>
          <p:nvPr/>
        </p:nvSpPr>
        <p:spPr>
          <a:xfrm>
            <a:off x="3046320" y="9828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Berlin Sans FB Demi"/>
              </a:rPr>
              <a:t>N° </a:t>
            </a:r>
            <a:fld id="{B679BE48-74AC-4E3A-9818-F21E95D7E29D}" type="slidenum">
              <a:rPr b="0" lang="fr-FR" sz="1000" spc="-1" strike="noStrike">
                <a:solidFill>
                  <a:srgbClr val="ffffff"/>
                </a:solidFill>
                <a:latin typeface="Berlin Sans FB 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9"/>
          <p:cNvSpPr/>
          <p:nvPr/>
        </p:nvSpPr>
        <p:spPr>
          <a:xfrm rot="16200000">
            <a:off x="3425760" y="6267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erlin Sans FB Demi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rrondir un rectangle à un seul coin 10"/>
          <p:cNvSpPr/>
          <p:nvPr/>
        </p:nvSpPr>
        <p:spPr>
          <a:xfrm>
            <a:off x="6045120" y="92160"/>
            <a:ext cx="503280" cy="215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N° </a:t>
            </a:r>
            <a:fld id="{C6A97F6F-7ECC-4F8C-90C4-6F83E806E006}" type="slidenum"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necteur droit 11"/>
          <p:cNvSpPr/>
          <p:nvPr/>
        </p:nvSpPr>
        <p:spPr>
          <a:xfrm>
            <a:off x="141120" y="317520"/>
            <a:ext cx="34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-7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158760" indent="-604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244440" indent="-475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3" marL="341280" indent="-4752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4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5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6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on père achète son journal au kiosqu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terminent leur exerci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devrais réviser ta poés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on pèr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chèt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son journal au kiosqu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termin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exerci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devrai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réviser ta poés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menuisier utilisent un rabo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chevalier attrapa sa lan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policier vérifiera l’identité des passager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menuis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utilis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 rabo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cheval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ttrapa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sa lan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polic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vérifiera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’identité des passager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arriverez en retar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fabrique une cocotte en papi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Sur le coussin, le chat s’endor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rriverez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en retar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fabriqu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e cocotte en papi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Sur le coussin, le chat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s’endor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(manger) une tartine de pai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Elles (marcher) vers l’éco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(crier) trop for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mang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e tartine de pai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Ell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march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vers l’éco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cri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 trop for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(jouer) aux cart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(écouter) leur professeu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Nous (admirer) les œuvres du musé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jou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aux cart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écou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professeu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N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dmir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on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s œuvres du musé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Ils (terminer) leur travai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(chanter) à tue-tê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médecin (injecter) le viru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Il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termin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travai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chan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z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à tue-tê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médecin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injec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 viru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5:36:29Z</dcterms:created>
  <dc:creator>Delphine</dc:creator>
  <dc:description/>
  <dc:language>en-US</dc:language>
  <cp:lastModifiedBy>Delphine</cp:lastModifiedBy>
  <cp:lastPrinted>2015-02-25T18:12:15Z</cp:lastPrinted>
  <dcterms:modified xsi:type="dcterms:W3CDTF">2016-07-21T11:24:05Z</dcterms:modified>
  <cp:revision>178</cp:revision>
  <dc:subject/>
  <dc:title>Diapositive 1</dc:title>
</cp:coreProperties>
</file>