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7559675" cy="161925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370-91AE-4B46-8EC1-8AE2393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C3C-B4BB-4783-AA27-F90819BC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8B2-CF0B-4A8A-8BBA-2683870B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425-3262-4375-853A-4A357A5F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7CB-6ECF-4E07-8139-A28BB2D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7840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79160" y="37764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0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7840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979160" y="936000"/>
            <a:ext cx="2190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7C3-8B98-4B96-9828-B492516E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D25-F4B6-44AE-9A75-8D524AA7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582-D188-4B38-A7CB-F6BCEAB6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64800"/>
            <a:ext cx="680400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"/>
              </a:spcBef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13F-9063-48AA-9C53-8293A278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65A-7B9D-4DBA-A71C-88F0F63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4600" y="93600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771-B43F-4D79-9671-B2D4B60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4600" y="377640"/>
            <a:ext cx="33202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936000"/>
            <a:ext cx="6804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7A2-CABA-4B96-802B-25A2085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1499760"/>
            <a:ext cx="176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2640" y="1499760"/>
            <a:ext cx="239364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1499760"/>
            <a:ext cx="1764000" cy="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0680" bIns="40680" anchor="ctr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fr-FR" sz="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BEEE383B-19E7-4574-A42A-8E5338FAFDC9}" type="slidenum">
              <a:rPr b="0" lang="fr-FR" sz="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6"/>
          <p:cNvSpPr/>
          <p:nvPr/>
        </p:nvSpPr>
        <p:spPr>
          <a:xfrm>
            <a:off x="141120" y="84240"/>
            <a:ext cx="3421080" cy="1439640"/>
          </a:xfrm>
          <a:prstGeom prst="roundRect">
            <a:avLst>
              <a:gd name="adj" fmla="val 410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à coins arrondis 7"/>
          <p:cNvSpPr/>
          <p:nvPr/>
        </p:nvSpPr>
        <p:spPr>
          <a:xfrm>
            <a:off x="4033800" y="84240"/>
            <a:ext cx="3419640" cy="1439640"/>
          </a:xfrm>
          <a:prstGeom prst="roundRect">
            <a:avLst>
              <a:gd name="adj" fmla="val 4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rrondir un rectangle à un seul coin 8"/>
          <p:cNvSpPr/>
          <p:nvPr/>
        </p:nvSpPr>
        <p:spPr>
          <a:xfrm>
            <a:off x="3046320" y="98280"/>
            <a:ext cx="503280" cy="21600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N° </a:t>
            </a:r>
            <a:fld id="{E1D86979-A4C0-460F-BC4D-3CD7916A28CC}" type="slidenum">
              <a:rPr b="0" lang="fr-FR" sz="1000" spc="-1" strike="noStrike">
                <a:solidFill>
                  <a:srgbClr val="ffffff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9"/>
          <p:cNvSpPr/>
          <p:nvPr/>
        </p:nvSpPr>
        <p:spPr>
          <a:xfrm rot="16200000">
            <a:off x="3425760" y="62676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erlin Sans FB Demi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rrondir un rectangle à un seul coin 10"/>
          <p:cNvSpPr/>
          <p:nvPr/>
        </p:nvSpPr>
        <p:spPr>
          <a:xfrm>
            <a:off x="6045120" y="92160"/>
            <a:ext cx="503280" cy="21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N° </a:t>
            </a:r>
            <a:fld id="{141B6B6E-8CEE-477D-8627-21CAD20545DF}" type="slidenum"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onnecteur droit 11"/>
          <p:cNvSpPr/>
          <p:nvPr/>
        </p:nvSpPr>
        <p:spPr>
          <a:xfrm>
            <a:off x="141120" y="317520"/>
            <a:ext cx="34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64800"/>
            <a:ext cx="6804000" cy="2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78000" y="377640"/>
            <a:ext cx="68040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-7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158760" indent="-604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244440" indent="-475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4752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4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5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6" marL="439560" indent="-47520">
              <a:spcBef>
                <a:spcPts val="150"/>
              </a:spcBef>
              <a:buClr>
                <a:srgbClr val="000000"/>
              </a:buClr>
              <a:buFont typeface="Arial"/>
              <a:buChar char="»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achète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terminent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devrais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on pèr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chèt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on journal au kiosqu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exerci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devrai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réviser ta poés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utilisent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attrapa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vérifiera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menuis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utilis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 rabo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cheval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ttrap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sa lanc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policier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vérifiera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’identité des passager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Trouve les verbes conjugués 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arriverez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fabrique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s’endor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rriver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en retar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fabriqu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cocotte en papi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Sur le coussin, le chat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s’endor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(manger)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(marcher)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crier)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Marie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ng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une tartine de pai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Ell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vers l’éco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ri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 trop for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(jouer)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(écouter)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(admirer)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Tu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jou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aux cart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s élève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écou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professeu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N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admir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ons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s œuvres du musé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3080" y="58680"/>
            <a:ext cx="2870280" cy="2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Berlin Sans FB Demi"/>
              </a:rPr>
              <a:t>Je prépare l’étoile jau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3080" y="378000"/>
            <a:ext cx="33289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Century Gothic"/>
              </a:rPr>
              <a:t>Recopie les phrases en conjuguant le verbe au présen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(terminer)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(chanter)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82520" indent="-1825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(injecter)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22880" y="309240"/>
            <a:ext cx="2985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Il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termin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nt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ur travai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Vous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chan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z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à tue-tê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Le médecin </a:t>
            </a:r>
            <a:r>
              <a:rPr b="1" lang="fr-FR" sz="1000" spc="-1" strike="noStrike">
                <a:solidFill>
                  <a:srgbClr val="000000"/>
                </a:solidFill>
                <a:latin typeface="Century Gothic"/>
              </a:rPr>
              <a:t>inject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Century Gothic"/>
              </a:rPr>
              <a:t>e</a:t>
            </a:r>
            <a:r>
              <a:rPr b="0" lang="fr-FR" sz="1000" spc="-1" strike="noStrike">
                <a:solidFill>
                  <a:srgbClr val="000000"/>
                </a:solidFill>
                <a:latin typeface="Century Gothic"/>
              </a:rPr>
              <a:t> le viru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7640" y="76320"/>
            <a:ext cx="1328760" cy="2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Berlin Sans FB Demi"/>
              </a:rPr>
              <a:t>Etoile jau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5:36:29Z</dcterms:created>
  <dc:creator>Delphine</dc:creator>
  <dc:description/>
  <dc:language>en-US</dc:language>
  <cp:lastModifiedBy>Delphine</cp:lastModifiedBy>
  <cp:lastPrinted>2015-02-25T18:12:15Z</cp:lastPrinted>
  <dcterms:modified xsi:type="dcterms:W3CDTF">2016-07-21T11:24:05Z</dcterms:modified>
  <cp:revision>178</cp:revision>
  <dc:subject/>
  <dc:title>Diapositive 1</dc:title>
</cp:coreProperties>
</file>