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7559675" cy="161925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703-1EEC-4AC1-87B8-C63D00F6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93600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5D3-F185-4D4C-AC5C-680E0A30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6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8C2-137B-455C-B126-CF1058D4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2F9-EB24-42B0-B2AB-69995D0E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78000" y="64800"/>
            <a:ext cx="6804000" cy="12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86E-9BD1-4117-9A5D-22459D49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646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8000" y="93600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646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7840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7916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800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67840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97916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72B8-A20D-4FAB-8B4D-3DB304D4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AE0-90FD-411E-957B-E2CE12EC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472-6834-467B-8EC8-3654FED1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64800"/>
            <a:ext cx="6804000" cy="12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545-77DC-4CAF-BD5E-7306C084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4C4-56ED-4D66-B40C-D1170CA0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6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1FB-62DA-4B98-9493-DB4E4CC6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FEE-E317-47D9-A204-A83EB7F5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-730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158760" indent="-6048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2" marL="244440" indent="-4752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3" marL="341280" indent="-4752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4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5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6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1499760"/>
            <a:ext cx="1763640" cy="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0680" bIns="40680" anchor="ctr">
            <a:noAutofit/>
          </a:bodyPr>
          <a:lstStyle>
            <a:lvl1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fr-FR" sz="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fr-FR" sz="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2640" y="1499760"/>
            <a:ext cx="2393640" cy="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0680" bIns="40680" anchor="ctr">
            <a:noAutofit/>
          </a:bodyPr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1499760"/>
            <a:ext cx="1764000" cy="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0680" bIns="40680" anchor="ctr">
            <a:noAutofit/>
          </a:bodyPr>
          <a:lstStyle>
            <a:lvl1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fr-FR" sz="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fld id="{CA2799DF-5246-4004-BC77-124519ECF2B7}" type="slidenum">
              <a:rPr b="0" lang="fr-FR" sz="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6"/>
          <p:cNvSpPr/>
          <p:nvPr/>
        </p:nvSpPr>
        <p:spPr>
          <a:xfrm>
            <a:off x="141120" y="84240"/>
            <a:ext cx="3421080" cy="1439640"/>
          </a:xfrm>
          <a:prstGeom prst="roundRect">
            <a:avLst>
              <a:gd name="adj" fmla="val 41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à coins arrondis 7"/>
          <p:cNvSpPr/>
          <p:nvPr/>
        </p:nvSpPr>
        <p:spPr>
          <a:xfrm>
            <a:off x="4033800" y="84240"/>
            <a:ext cx="3419640" cy="1439640"/>
          </a:xfrm>
          <a:prstGeom prst="roundRect">
            <a:avLst>
              <a:gd name="adj" fmla="val 4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rrondir un rectangle à un seul coin 8"/>
          <p:cNvSpPr/>
          <p:nvPr/>
        </p:nvSpPr>
        <p:spPr>
          <a:xfrm>
            <a:off x="3046320" y="98280"/>
            <a:ext cx="503280" cy="216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Berlin Sans FB Demi"/>
              </a:rPr>
              <a:t>N° </a:t>
            </a:r>
            <a:fld id="{C21E6C6C-821F-4A54-B3BA-A38C3970FA6C}" type="slidenum">
              <a:rPr b="0" lang="fr-FR" sz="1000" spc="-1" strike="noStrike">
                <a:solidFill>
                  <a:srgbClr val="ffffff"/>
                </a:solidFill>
                <a:latin typeface="Berlin Sans FB 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9"/>
          <p:cNvSpPr/>
          <p:nvPr/>
        </p:nvSpPr>
        <p:spPr>
          <a:xfrm rot="16200000">
            <a:off x="3425760" y="6267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erlin Sans FB Demi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rrondir un rectangle à un seul coin 10"/>
          <p:cNvSpPr/>
          <p:nvPr/>
        </p:nvSpPr>
        <p:spPr>
          <a:xfrm>
            <a:off x="6045120" y="92160"/>
            <a:ext cx="503280" cy="215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N° </a:t>
            </a:r>
            <a:fld id="{5B55B1A8-0358-48FE-B5DD-95E9A07946E6}" type="slidenum"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necteur droit 11"/>
          <p:cNvSpPr/>
          <p:nvPr/>
        </p:nvSpPr>
        <p:spPr>
          <a:xfrm>
            <a:off x="141120" y="317520"/>
            <a:ext cx="34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-730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158760" indent="-6048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2" marL="244440" indent="-4752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3" marL="341280" indent="-4752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4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5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6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Trouve les verbes conjugués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on père achète son journal au kiosqu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élèves terminent leur exerci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devrais réviser ta poés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on père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achète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son journal au kiosqu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élève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termin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ur exerci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devrais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réviser ta poés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Trouve les verbes conjugués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menuisier utilisent un rabo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chevalier attrapa sa lan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policier vérifiera l’identité des passager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menuisier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utilis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un rabo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chevalier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attrapa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sa lan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policier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vérifiera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’identité des passager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Trouve les verbes conjugués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Vous arriverez en retar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arie fabrique une cocotte en papi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Sur le coussin, le chat s’endor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Vou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arriverez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en retar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arie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fabrique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une cocotte en papi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Sur le coussin, le chat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s’endor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Recopie les phrases en conjuguant le verbe au prés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arie (manger) une tartine de pai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Elles (marcher) vers l’éco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(crier) trop for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arie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mang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une tartine de pai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Elle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march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vers l’éco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cri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s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 trop for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Recopie les phrases en conjuguant le verbe au prés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(jouer) aux carte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élèves (écouter) leur professeur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Nous (admirer) les œuvres du musé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jou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s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aux carte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élève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écout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ur professeur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Nou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admir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ons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s œuvres du musé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Recopie les phrases en conjuguant le verbe au prés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Ils (terminer) leur travai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Vous (chanter) à tue-tê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médecin (injecter) le viru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Il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termin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ur travai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Vou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chant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z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à tue-tê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médecin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inject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 viru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5:36:29Z</dcterms:created>
  <dc:creator>Delphine</dc:creator>
  <dc:description/>
  <dc:language>en-US</dc:language>
  <cp:lastModifiedBy>Delphine</cp:lastModifiedBy>
  <cp:lastPrinted>2015-02-25T18:12:15Z</cp:lastPrinted>
  <dcterms:modified xsi:type="dcterms:W3CDTF">2016-07-21T11:24:05Z</dcterms:modified>
  <cp:revision>178</cp:revision>
  <dc:subject/>
  <dc:title>Diapositive 1</dc:title>
</cp:coreProperties>
</file>