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7559675" cy="161925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D2E-C583-4C07-9418-BE62EB7B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E91-6215-4848-84C1-DFAE2A0C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53F-88FF-4893-BCF7-457BAEE1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26C-F3E3-446E-9A2B-13FCAE7A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78000" y="64800"/>
            <a:ext cx="6804000" cy="12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FC2-C6D8-4ECD-8F1A-A274CA3B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784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7916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80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6784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97916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796-54AB-481E-923C-AB01F41D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D2B-BAF5-4585-9A7C-67C1DD88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074-1C39-48A3-B0B7-0718BBB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64800"/>
            <a:ext cx="6804000" cy="12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CAD-E207-44F3-A4D9-6C4FDC4C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96C-EE2F-46D0-865E-287B0784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8C5-806F-461E-A90A-CB6E8BAF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66E-9E29-4473-82FA-2CB9AF55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-7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58760" indent="-604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44440" indent="-475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475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1499760"/>
            <a:ext cx="176364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fr-FR" sz="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1499760"/>
            <a:ext cx="239364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1499760"/>
            <a:ext cx="176400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fr-FR" sz="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DE2E35D1-FA44-4692-BF18-961004EB690B}" type="slidenum">
              <a:rPr b="0" lang="fr-FR" sz="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141120" y="84240"/>
            <a:ext cx="3421080" cy="1439640"/>
          </a:xfrm>
          <a:prstGeom prst="roundRect">
            <a:avLst>
              <a:gd name="adj" fmla="val 41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4033800" y="84240"/>
            <a:ext cx="3419640" cy="1439640"/>
          </a:xfrm>
          <a:prstGeom prst="roundRect">
            <a:avLst>
              <a:gd name="adj" fmla="val 4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rrondir un rectangle à un seul coin 8"/>
          <p:cNvSpPr/>
          <p:nvPr/>
        </p:nvSpPr>
        <p:spPr>
          <a:xfrm>
            <a:off x="3046320" y="9828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Berlin Sans FB Demi"/>
              </a:rPr>
              <a:t>N° </a:t>
            </a:r>
            <a:fld id="{1938250C-B14B-462C-B161-C288352C91F2}" type="slidenum">
              <a:rPr b="0" lang="fr-FR" sz="1000" spc="-1" strike="noStrike">
                <a:solidFill>
                  <a:srgbClr val="ffffff"/>
                </a:solidFill>
                <a:latin typeface="Berlin Sans FB 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9"/>
          <p:cNvSpPr/>
          <p:nvPr/>
        </p:nvSpPr>
        <p:spPr>
          <a:xfrm rot="16200000">
            <a:off x="3425760" y="6267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erlin Sans FB Demi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rrondir un rectangle à un seul coin 10"/>
          <p:cNvSpPr/>
          <p:nvPr/>
        </p:nvSpPr>
        <p:spPr>
          <a:xfrm>
            <a:off x="6045120" y="92160"/>
            <a:ext cx="503280" cy="21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N° </a:t>
            </a:r>
            <a:fld id="{1C7C2E79-5B92-468B-A2D4-4A3402857FFE}" type="slidenum"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necteur droit 11"/>
          <p:cNvSpPr/>
          <p:nvPr/>
        </p:nvSpPr>
        <p:spPr>
          <a:xfrm>
            <a:off x="141120" y="317520"/>
            <a:ext cx="34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-7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58760" indent="-604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44440" indent="-475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475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on père achète son journal au kios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terminent leur exerci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devrais réviser ta poés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on pèr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chèt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son journal au kios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termin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exerci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devrai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réviser ta poés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menuisier utilisent un rabo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chevalier attrapa sa lan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policier vérifiera l’identité des passage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menuis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utilis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 rabo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cheval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ttrapa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sa lan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polic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vérifiera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’identité des passage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arriverez en retar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fabrique une cocotte en papi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Sur le coussin, le chat s’endor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rriverez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en retar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fabriqu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e cocotte en papi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Sur le coussin, le chat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s’endor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(manger) une tartine de pai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Elles (marcher) vers l’éco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(crier) trop for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mang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e tartine de pai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Ell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march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vers l’éco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cri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 trop for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(jouer) aux cart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(écouter) leur professeu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Nous (admirer) les œuvres du musé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jou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aux cart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écou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professeu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N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dmir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on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s œuvres du musé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Ils (terminer) leur travai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(chanter) à tue-tê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médecin (injecter) le viru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Il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termin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travai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chan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z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à tue-tê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médecin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injec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 viru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5:36:29Z</dcterms:created>
  <dc:creator>Delphine</dc:creator>
  <dc:description/>
  <dc:language>en-US</dc:language>
  <cp:lastModifiedBy>Delphine</cp:lastModifiedBy>
  <cp:lastPrinted>2015-02-25T18:12:15Z</cp:lastPrinted>
  <dcterms:modified xsi:type="dcterms:W3CDTF">2016-07-21T11:24:05Z</dcterms:modified>
  <cp:revision>178</cp:revision>
  <dc:subject/>
  <dc:title>Diapositive 1</dc:title>
</cp:coreProperties>
</file>