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E69-4334-4A53-B819-BAC4233F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A53-66F8-4880-A690-BAE4AFB7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C2092-F872-41F7-9BEF-D25A86B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07BFF-66DC-4E7A-BC01-A97000CB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845B9-C31E-46C3-98A9-ACB8B4E4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0926F-4659-4B2B-B8C3-B772CAE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1092A-13CC-44DA-A050-55EFE23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053DA-22F7-4E93-A837-1879F4B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85892-FA27-47AA-A323-0B2B56CE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24F88-5CD3-4A18-8551-C5F86A2E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A39E5-80CF-4F46-905E-A0442E50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DE1-B639-4BD0-B0A5-94081476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7D8-9841-48E9-9CA6-D3FC349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6933-CFAE-4031-9872-E7F9D8D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BB7A-B4E5-4BBD-A2C8-03F65C1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A82E-30F5-41BC-8FA5-4945250B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C394-EFF9-45D1-BF3F-E4E0AFB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FFF2-B2E0-45A2-8679-A58721C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BC1-6199-40A5-947C-AE26CF5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2294-53F3-4D91-BA5F-D6169E6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C5F-5682-4BE1-BBC7-6E417B9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FA9-446F-42CA-9E19-6FC4F53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E75-BC4E-4E34-BF7B-02B4E83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6A0-9D2D-4B48-8882-93C32F1B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538-C8CD-4679-A29C-B79FA0A5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35B-F0B5-4917-AA97-9154C44D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F63F-2C70-437E-A2E5-974836FE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D36E-F3F8-4BC2-A7AF-143CA60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AB0E-E650-43F4-97EE-78FB24A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58B8-60F3-4D05-A473-3129C4C3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750F-AF56-421C-AA95-E5BEC05A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211-291A-4EDC-91A5-3914712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C7F1-3527-4598-9463-0C0C0126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722E-ED5E-4D45-BCBC-4EB3F9F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D0CE-4E32-41A8-A4B9-403FC482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B8B4-4BFE-4C7C-9A3F-7F221D4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8CA9-D33D-48A0-B3BD-6296133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E1FE-6188-4638-B2E7-AA15B853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A23D-D187-418B-A189-7D26505D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B351-2890-4708-B4A4-478C259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9DA9-C10D-4703-AB3F-B6B22C9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B60A-2726-4F9F-B5F3-C4AFB07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551-8510-4210-8D10-36051374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9E1D-B3B3-4A73-94FB-FD2E958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7642-0422-46B3-BEFE-EEBB5CB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FC27-CB29-4173-819A-A104C85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6C53-62E6-42ED-A1C3-331789C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FE58-5468-4E4F-A24C-3EBE039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A845-A264-4595-B000-FF5D573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25EF-0FB5-46A9-92AC-925C4683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BF44-685A-4A68-A47C-6A8F92DD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A1D5-320C-4BDA-A347-78998645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46B9-BF27-40B1-8C4F-EBC72F5B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CAF-9049-4F05-AAEB-4765553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6E04-CAFC-437B-B7DC-E95FEC1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D5BD-02CF-4CC5-810A-5B0FC64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7861-5E1A-4E35-8205-D2BB8F90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F8B6-24A5-4CED-8F02-25E8F53E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1338-CCBC-4E2B-84CB-74E0E18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7EA0-293A-441F-9E29-401521F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5CCA-2280-4EF5-8F9B-1F9230B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3F2F-B118-4849-89BD-E75B693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892B4-AE49-4BC4-B905-B819DDD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FF18-8DCE-40A3-9123-162F8382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CB8-8646-4F0E-AF80-6228789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CE6F-247F-49B3-BB98-9F062CBA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BF08-8C9E-40E2-B571-1ED1F33F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7B82-5820-49A2-B27E-6011BED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3107-B7CF-4D3D-95FC-549689C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FE99-7F2B-488C-8AB0-4975162C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22769-81F9-44B8-BB7C-9C2AD88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F72BC-2FF3-4156-BDD7-911D437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4EC2-53F4-4F8C-B9B0-8B4F453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5BD1-41EA-46AC-A326-A5DCCA9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D1E5-1F38-4F79-AC56-4927C367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FCE-5D79-4FB4-8667-424E2F8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4975-A642-41E2-8728-5D0CD66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5DC8B-447E-47CD-8685-D182A94B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015B-9A17-4149-A799-63180066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28318-08AD-4BC1-B423-61CC13DF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B3E4C-A01B-4C08-ACB0-C149A1FB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779E-36FF-4A5E-B8D1-F0446C9B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0033-1B48-467C-82FD-4273797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917B-4D31-44DE-9437-1325406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783B-0F50-4BD4-9D5E-79E0FF4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5843-3E27-4CD1-AF1B-EE356991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5E0-AE45-4097-BCBC-FCEE2E64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6340-E4DC-496D-9935-3132676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A92E-6874-48B1-A957-7D39B5B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897A-8D75-4CDA-85A2-9D9E2CD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41AB6-C0EF-4846-BDE4-6DEF46DB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511C-1A4C-4D05-ADAE-4DD2565A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E5AC-AB82-402E-A133-DCD243CA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8CB05-1335-435C-A1FD-DF66E30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70F17-8B7A-407A-A3CD-83454E3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F00EE-7BD4-4710-A544-A57DC99A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A7DA-2ED4-4782-B116-C3A99D2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C22-D3A4-40E0-ADCF-E45E251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5553A-590F-4F73-B36B-3FB44DA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B3B3-E527-4107-AF2D-36B5DFC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AC4D-96BB-4EF2-B801-A2925F7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4BBE-7D7A-4837-AEDC-F97EF0D0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6509F-14F4-4AB5-8C82-7250BD2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E5B6F-708C-45F3-8FA9-7872A310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89D6-E66B-4008-908F-0B8C2E6E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53DE-701D-43D6-8DBC-93844AC9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16343-705E-4E6A-A40F-160AD84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A9B40-63F3-450A-981E-002BA24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EF9-DC28-408D-8B94-1BF437E5339E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763-4332-4122-8FCF-73F598D96400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105C-3493-4054-9766-360B6A20416F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CE5-DCBE-4CB1-B4C5-4F2EB9FE7E86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1AD-7FE7-4A68-BFBB-3F0A15253AA0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480F-86DF-4C0A-80B0-412809723995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F626-5732-45F3-9262-ABCC30E79C15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899-958F-4D1D-99FC-336140B22757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7DC6-A8CE-46AE-9397-E5E6E40A8A8D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a route du Marath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a route de la so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Origines, 1</a:t>
            </a:r>
            <a:r>
              <a:rPr b="0" lang="fr-FR" sz="3200" spc="-1" strike="noStrike" baseline="30000">
                <a:solidFill>
                  <a:srgbClr val="4e3b30"/>
                </a:solidFill>
                <a:latin typeface="Franklin Gothic Book"/>
              </a:rPr>
              <a:t>èr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vers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e3b30"/>
                </a:solidFill>
                <a:latin typeface="Franklin Gothic Book"/>
              </a:rPr>
              <a:t>Phidippidès</a:t>
            </a: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, soldat athénien de la Grèce antiqu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Il voulait annoncer la victoire contre les Perses à l'issue de la bataille de Marath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Il parcouru une quarantaine de kilomètres séparant le petit village Marathon de la cité d’Athè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8440" y="1571760"/>
            <a:ext cx="911556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Origines, 2</a:t>
            </a:r>
            <a:r>
              <a:rPr b="0" lang="fr-FR" sz="3200" spc="-1" strike="noStrike" baseline="30000">
                <a:solidFill>
                  <a:srgbClr val="4e3b30"/>
                </a:solidFill>
                <a:latin typeface="Franklin Gothic Book"/>
              </a:rPr>
              <a:t>èm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vers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Selon Herodote, Phidippidès est parti chercher de l’aide à Sparte à 200 k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Les Spartiates ne répondaient pas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les Athéniens combattirent seuls, avec les Platéens et gagnèr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Euclès aurait parcouru au prix de sa vie la distance entre Marathon et Athènes pour annoncer la victoi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e marathon est une course à pi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Longue de 42,195 k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réation en 1896 par Michel Bré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e3b30"/>
                </a:solidFill>
                <a:latin typeface="Franklin Gothic Book"/>
              </a:rPr>
              <a:t>Les plus prestigieux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Jeux olympiques (quadriennal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hampionnats du monde d'athlétisme (biennal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World Marathon Majo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eux de : Boston, Londres, Berlin, Chicago et New York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85840" y="135684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escript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S’entend de Xi’an à Antio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Entre l’Europe et l’As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u IIIe siècle avant J-C au XVIe sièc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4681440" cy="264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500040" y="2071800"/>
            <a:ext cx="78454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14200" y="142848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Utilit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Echanges commerciaux entre l’Europe et l’As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e nombreuses denrées empruntaien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cette rou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Utilisée par les pèlerins qui cherchaien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à refaire les pérégrinations du Bouddh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Amenait prospérité aux villes qu’elle traversai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142848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es raisons de sa chute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ongueu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ang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Peuples belliqueux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Brigand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Rigueur du clima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éveloppement de la fabrication de la soie en Europ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3714840" y="22860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anklin Gothic Book"/>
              </a:rPr>
              <a:t>Ouzbe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2860560" cy="21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357880" y="142884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571680" y="40719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4071960" y="4857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anklin Gothic Book"/>
              </a:rPr>
              <a:t>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5"/>
          <a:stretch/>
        </p:blipFill>
        <p:spPr>
          <a:xfrm>
            <a:off x="5286240" y="4071960"/>
            <a:ext cx="286092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41:28Z</dcterms:created>
  <dc:creator>salim.tazi</dc:creator>
  <dc:description/>
  <dc:language>en-US</dc:language>
  <cp:lastModifiedBy>tony</cp:lastModifiedBy>
  <dcterms:modified xsi:type="dcterms:W3CDTF">2010-05-01T13:25:29Z</dcterms:modified>
  <cp:revision>29</cp:revision>
  <dc:subject/>
  <dc:title>Diapositive 1</dc:title>
</cp:coreProperties>
</file>