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88C-9B4C-45EA-8155-3F288B70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51C-3D34-4E3A-AF97-6AA5AA69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CEAD9-45A1-4742-8075-8A53D47B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5D9BD-AECF-4EAD-8654-81534314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9710F-562B-41AA-96E1-040FE90F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4036A-63A9-4AB7-9DCA-F0BDF1D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4502B-9F84-4109-BC89-792D7A7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25A20-98F2-4659-924E-27D0905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7DAF2-0387-431E-A05D-2E93D18E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A6959-2E5E-4722-845C-776A9620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F4ABC-9444-4B51-8547-06027D7D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41C-3C9D-473D-BAFD-99692A9C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E0D-0661-4137-AA64-298DD36E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5278-AD00-4047-9587-7A7F4E61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C141-32E6-4679-9523-D612706A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9A41-62CC-44C7-9BC1-92D7B4B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6ECC-2437-4630-8E0C-4AD71961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31AE-8105-4C7F-8B98-89EAD1E2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96D8-7A81-4FC7-8CBD-92091BF6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B2C-9C36-4B98-BB39-3A5448A4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5EB-8E44-444F-A18B-28AA7DE5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15A0-FEA2-4B8A-84CD-710E808B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47B6-FE51-41E3-A5A0-C11D33DC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4B7-B741-4927-B3F1-6111AD5F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DA6E-B03F-4F10-AB7F-B730AD16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64E3-8A7A-40EB-86DC-44EFF1E7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8A88-1A48-48A2-B9E1-E2F0EDE7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9A4F-42B2-43A8-B767-529A11AD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61EE-D1E4-4F5E-8241-05E3D1F0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711E-98C4-46CD-A910-2FCEB0F1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1FFF-53F8-43B3-B091-FCC4FAD2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333-CEBD-4F64-B04C-198294DA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7BAB-54F9-4FAC-A56A-B89FB4D1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0423-AD54-4F82-A4AF-164B8326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3A23-D3BB-41C6-A748-B292259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61FF-D1B4-409D-87D4-CDC4A59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2BB8-2A35-4341-9473-0D1C36BE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F8CB9-1917-4932-AABC-7B02B3F4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4B54-88B8-4020-AD47-A6E3A3AF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F337-92DB-4407-B042-E390D611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8F1B5-2944-4F95-BF1E-3FE264D2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83DD-F37C-498C-9C1B-506B3D7A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408-E5F2-469B-913A-B187D00A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A776-4F72-4F56-9B77-66C5735F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91AFB-5103-4C4E-8530-DDFCFC96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BEFC-41CD-4092-8A24-8D9D0AB0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4E72-4EA7-4290-B674-2769F0D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F7B8F-8146-4878-B3DF-B0CCA41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47E44-6FBC-46BA-BD1F-0D3EE82D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0E99C-1526-4790-AC4F-4290EDF2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2AEE-3F2E-4D63-AE72-8B89F541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E024-ED44-4FE6-A8B0-5E9352BB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9A311-A926-43B1-8A09-86974F6F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927-68BC-4CA6-9293-7FCA3452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ABB60-EBEE-43F6-8B9B-7E8E1A8B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1FF4-7071-4EB5-A3E5-45DFE07B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690A0-6B7A-4062-9B3B-0059B249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A0ED9-67AB-4C59-9D0E-D1E1A7B5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26281-0A34-41F0-B92B-3E363A12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011AA-52C5-49A0-B207-D5CDEEB8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487B3-0F7A-496B-9C97-740C839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AB1C-9A14-4C51-A0ED-5799BE13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FA786-2AA2-44C6-A6D3-8BF8291E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67F9D-C4DB-4F4C-82F0-5322149B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0EA-FD9E-4653-80A8-19D80D22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1E467-AC30-41F2-9D7B-D6EBBDA0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C970-8130-4510-9E1E-6BAFA617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D7A1-B01C-440C-8A0A-61AC9990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778B-D032-4A31-9080-16CB7195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E2ACB-3D7A-4CC2-A8D4-B18A6856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EAC24-1734-44F1-A6E6-40695828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0ACD4-5FFC-4DCF-8551-3019D40B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B6AA-AB59-498F-8E4F-01DF370C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67D74-2057-4BD4-A6D3-3E8F384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1B5C-CDE4-457B-BF40-76A5F6FE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95D1-0AD4-4FCB-AD1C-9AB5313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F597A-02D9-4125-9F96-38B14C35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0214-AF09-40CE-98F2-FA71660A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89A4-D569-44C7-B39F-422A11B5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6F499-F08F-423A-8082-530E5486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53CA0-D26E-4923-8E5C-2A94B1E5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FB388-6F0B-46DE-9A5B-EB790229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7201-F420-4963-B30B-E1D963EA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43038-A1A6-4C65-A5AA-D6F4140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BAA6C-200D-48AC-A8D2-FF987071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85B8-1E12-4411-8E8F-0417778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A96-7D0D-4DF0-93A5-DBEAE7D5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3960A-BD81-4FA2-9B0F-7696EBE8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6DAD1-937C-4A6C-A315-20C4E22C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5CF5E-4F1B-4D4E-AD91-16D042EC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9353-7161-432A-BD8D-C50355BF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14C8A-5589-46E4-ABDE-CC65B997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282DF-05F6-4337-AF1F-1896CE34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5F07B-954F-4AE1-B562-4896B60C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F3E6D-DF7F-4392-AAF2-5BB0A417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53817-53B1-4D83-B5D5-068C7738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E91FE-033C-44F8-A518-AECAF2BC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F7E-F9B8-4DA3-9D30-10FC278E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2B914-2141-4F7B-BDD9-D90401CB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5D227-FE8C-4342-8C52-443F286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6C666-B6A1-492F-B12F-7F936E4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88840-B37E-4915-9D3D-06105EA2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A790C-1DBE-4526-9026-07055A62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7C435-8C57-4F2D-928E-10507B33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168EF-C70F-450C-A586-5E4121E4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97F7B-79FD-492C-BCB6-1CBA0CAE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9FC1E-6EAE-43FC-8C85-B983E5C7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63DEC-F202-40AC-89B9-C05BB0EA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D296-78B9-4799-8E95-7D2D51A841BF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F06D-1206-4FD0-A10A-F745A2937554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DF96-987A-4032-BC07-242FF29B64A0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B1E0-7277-4DCE-93B7-252505966A8E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3238-4955-482C-97B2-F5E6C8C3A8F4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8A10-BC28-41D6-B879-CAF19D93ED26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1AC1-2FEF-4456-B30A-D99A8A5462DE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71BA-D5A6-4657-9A54-569D99AB9C2C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F710-8895-432F-A5F2-39B919E9B1D8}" type="slidenum">
              <a:rPr b="0" lang="fr-FR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a route du Marath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a route de la soi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Origines, 1</a:t>
            </a:r>
            <a:r>
              <a:rPr b="0" lang="fr-FR" sz="3200" spc="-1" strike="noStrike" baseline="30000">
                <a:solidFill>
                  <a:srgbClr val="4e3b30"/>
                </a:solidFill>
                <a:latin typeface="Franklin Gothic Book"/>
              </a:rPr>
              <a:t>ère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version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e3b30"/>
                </a:solidFill>
                <a:latin typeface="Franklin Gothic Book"/>
              </a:rPr>
              <a:t>Phidippidès</a:t>
            </a: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, soldat athénien de la Grèce antiqu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Il voulait annoncer la victoire contre les Perses à l'issue de la bataille de Marath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Il parcouru une quarantaine de kilomètres séparant le petit village Marathon de la cité d’Athèn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28440" y="1571760"/>
            <a:ext cx="911556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Origines, 2</a:t>
            </a:r>
            <a:r>
              <a:rPr b="0" lang="fr-FR" sz="3200" spc="-1" strike="noStrike" baseline="30000">
                <a:solidFill>
                  <a:srgbClr val="4e3b30"/>
                </a:solidFill>
                <a:latin typeface="Franklin Gothic Book"/>
              </a:rPr>
              <a:t>ème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version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Selon Herodote, Phidippidès est parti chercher de l’aide à Sparte à 200 k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Les Spartiates ne répondaient pas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les Athéniens combattirent seuls, avec les Platéens et gagnèr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Euclès aurait parcouru au prix de sa vie la distance entre Marathon et Athènes pour annoncer la victoi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e marathon est une course à pi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Longue de 42,195 k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Création en 1896 par Michel Bré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4e3b30"/>
                </a:solidFill>
                <a:latin typeface="Franklin Gothic Book"/>
              </a:rPr>
              <a:t>Les plus prestigieux 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35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Jeux olympiques (quadriennal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35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Championnats du monde d'athlétisme (biennal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35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World Marathon Majo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35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e3b30"/>
                </a:solidFill>
                <a:latin typeface="Franklin Gothic Book"/>
              </a:rPr>
              <a:t>Ceux de : Boston, Londres, Berlin, Chicago et New York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85840" y="1356840"/>
            <a:ext cx="8686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escription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S’entend de Xi’an à Antioc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Entre l’Europe et l’Asi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u IIIe siècle avant J-C au XVIe sièc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428760" y="1928880"/>
            <a:ext cx="4681440" cy="264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3"/>
          <a:stretch/>
        </p:blipFill>
        <p:spPr>
          <a:xfrm>
            <a:off x="500040" y="2071800"/>
            <a:ext cx="78454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214200" y="142848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Utilité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Echanges commerciaux entre l’Europe et l’Asi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e nombreuses denrées empruntaien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cette rou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Utilisée par les pèlerins qui cherchaient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à refaire les pérégrinations du Bouddh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Amenait prospérité aux villes qu’elle traversai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85840" y="1428480"/>
            <a:ext cx="8686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es raisons de sa chute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Longueu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ang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Peuples belliqueux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Brigand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e3b30"/>
                </a:solidFill>
                <a:latin typeface="Franklin Gothic Book"/>
              </a:rPr>
              <a:t>Rigueur du clima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e3b30"/>
                </a:solidFill>
                <a:latin typeface="Franklin Gothic Book"/>
              </a:rPr>
              <a:t>Développement de la fabrication de la soie en Europ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3"/>
          <p:cNvSpPr/>
          <p:nvPr/>
        </p:nvSpPr>
        <p:spPr>
          <a:xfrm>
            <a:off x="3714840" y="22860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anklin Gothic Book"/>
              </a:rPr>
              <a:t>Ouzbe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2860560" cy="2143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5357880" y="142884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571680" y="407196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4071960" y="485784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anklin Gothic Book"/>
              </a:rPr>
              <a:t>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5"/>
          <a:stretch/>
        </p:blipFill>
        <p:spPr>
          <a:xfrm>
            <a:off x="5286240" y="4071960"/>
            <a:ext cx="286092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41:28Z</dcterms:created>
  <dc:creator>salim.tazi</dc:creator>
  <dc:description/>
  <dc:language>en-US</dc:language>
  <cp:lastModifiedBy>tony</cp:lastModifiedBy>
  <dcterms:modified xsi:type="dcterms:W3CDTF">2010-05-01T13:25:29Z</dcterms:modified>
  <cp:revision>29</cp:revision>
  <dc:subject/>
  <dc:title>Diapositive 1</dc:title>
</cp:coreProperties>
</file>