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A674B-91C1-424B-876C-5EFE0EB745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hyperlink" Target="http://franceza-fse.edu.ro/?q=content/cn-horea-clo&#351;ca-&#351;i-cri&#351;-alba-iulia-gr1-0" TargetMode="External"/><Relationship Id="rId2" Type="http://schemas.openxmlformats.org/officeDocument/2006/relationships/hyperlink" Target="http://franceza-fse.edu.ro/?q=content/cn-horea-clo&#351;ca-&#351;i-cri&#351;-alba-iulia-gr1-0" TargetMode="External"/><Relationship Id="rId3" Type="http://schemas.openxmlformats.org/officeDocument/2006/relationships/hyperlink" Target="http://franceza-fse.edu.ro/?q=content/cn-horea-clo&#351;ca-&#351;i-cri&#351;-alba-iulia-gr1-0" TargetMode="External"/><Relationship Id="rId4" Type="http://schemas.openxmlformats.org/officeDocument/2006/relationships/hyperlink" Target="http://franceza-fse.edu.ro/?q=content/cn-horea-clo&#351;ca-&#351;i-cri&#351;-alba-iulia-gr1-0" TargetMode="External"/><Relationship Id="rId5" Type="http://schemas.openxmlformats.org/officeDocument/2006/relationships/hyperlink" Target="http://franceza-fse.edu.ro/?q=content/cn-horea-clo&#351;ca-&#351;i-cri&#351;-alba-iulia-gr1-0" TargetMode="External"/><Relationship Id="rId6" Type="http://schemas.openxmlformats.org/officeDocument/2006/relationships/slide" Target="../slides/slide4.xml"/><Relationship Id="rId7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 ma page sur le blo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3 mon test de l’oral sur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ttp://www.flevideo.co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4 Interventions sur le portail 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fr-FR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franceza-fse.edu.ro</a:t>
            </a:r>
            <a:r>
              <a:rPr b="0" lang="fr-FR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/?q=content/</a:t>
            </a:r>
            <a:r>
              <a:rPr b="0" lang="fr-FR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cn-horea-clo</a:t>
            </a:r>
            <a:r>
              <a:rPr b="0" lang="fr-FR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%C5%9Fca-%C5%9Fi-cri%C5%9F-alba-iulia-gr1-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5 teste din activitatile de pe por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9D09-9B91-457D-8CD7-285D0C6D9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519B-FF75-425F-8376-B1401CC5E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0ADD-F955-4641-8690-87F0A7C92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3670-E032-48BB-8CA4-5E0F18008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A114-FFB5-4A47-887F-B8DA034F2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4159-1FA6-4FD1-991E-0CFBB5839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842C-62CE-42C1-8350-EC5E694C0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9D26-CEFF-45D4-9F4F-D87F6B766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2ED4-C79C-463D-8E7D-EF2DE398C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4448-5C32-4B84-ADAF-B294C4871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677C-51BD-4094-8D73-3253152D6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8CF0-C1C9-4717-870C-3B5BC997D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A9A40-72A0-432D-A6E6-7CE99764D6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0T17:51:25Z</dcterms:created>
  <dc:creator>chimita</dc:creator>
  <dc:description/>
  <dc:language>en-US</dc:language>
  <cp:lastModifiedBy>chimita</cp:lastModifiedBy>
  <dcterms:modified xsi:type="dcterms:W3CDTF">2012-05-10T18:23:27Z</dcterms:modified>
  <cp:revision>6</cp:revision>
  <dc:subject/>
  <dc:title>Slide 1</dc:title>
</cp:coreProperties>
</file>