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24BFD-40DA-4867-A7F4-3120FE14EA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hyperlink" Target="http://franceza-fse.edu.ro/?q=content/cn-horea-clo&#351;ca-&#351;i-cri&#351;-alba-iulia-gr1-0" TargetMode="External"/><Relationship Id="rId2" Type="http://schemas.openxmlformats.org/officeDocument/2006/relationships/hyperlink" Target="http://franceza-fse.edu.ro/?q=content/cn-horea-clo&#351;ca-&#351;i-cri&#351;-alba-iulia-gr1-0" TargetMode="External"/><Relationship Id="rId3" Type="http://schemas.openxmlformats.org/officeDocument/2006/relationships/hyperlink" Target="http://franceza-fse.edu.ro/?q=content/cn-horea-clo&#351;ca-&#351;i-cri&#351;-alba-iulia-gr1-0" TargetMode="External"/><Relationship Id="rId4" Type="http://schemas.openxmlformats.org/officeDocument/2006/relationships/hyperlink" Target="http://franceza-fse.edu.ro/?q=content/cn-horea-clo&#351;ca-&#351;i-cri&#351;-alba-iulia-gr1-0" TargetMode="External"/><Relationship Id="rId5" Type="http://schemas.openxmlformats.org/officeDocument/2006/relationships/hyperlink" Target="http://franceza-fse.edu.ro/?q=content/cn-horea-clo&#351;ca-&#351;i-cri&#351;-alba-iulia-gr1-0" TargetMode="External"/><Relationship Id="rId6" Type="http://schemas.openxmlformats.org/officeDocument/2006/relationships/slide" Target="../slides/slide4.xml"/><Relationship Id="rId7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1 ma page sur le blo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3 mon test de l’oral sur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ttp://www.flevideo.co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4 Interventions sur le portail 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fr-FR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franceza-fse.edu.ro</a:t>
            </a:r>
            <a:r>
              <a:rPr b="0" lang="fr-FR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/?q=content/</a:t>
            </a:r>
            <a:r>
              <a:rPr b="0" lang="fr-FR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cn-horea-clo</a:t>
            </a:r>
            <a:r>
              <a:rPr b="0" lang="fr-FR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%C5%9Fca-%C5%9Fi-cri%C5%9F-alba-iulia-gr1-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5 teste din activitatile de pe port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790C7-21D6-4EE3-A4AA-A7A162341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B7686-E653-462F-ADB3-A9F353039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36FFA-F281-45EC-9F37-D6B7A139A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95C91-D0EA-4D01-A5DB-12DF0514E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4802A-8FC0-4973-9584-49F0C9FB0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BBA28-7E81-4C53-81BE-9A9F7B3C8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0B58C-D07F-4E62-9672-CA10983ED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FFB90-77EB-4EF6-9216-07F963AE9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97037-6187-425D-8570-52ADBB45C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3FCF1-25B1-4F71-9D40-CC37335FA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05E12-1E56-4F02-A7FF-24F43B5ED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AD3E6-1AC9-4975-8F3E-083CBD040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418EE-393B-4A63-B2F1-E3244F8D02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0T17:51:25Z</dcterms:created>
  <dc:creator>chimita</dc:creator>
  <dc:description/>
  <dc:language>en-US</dc:language>
  <cp:lastModifiedBy>chimita</cp:lastModifiedBy>
  <dcterms:modified xsi:type="dcterms:W3CDTF">2012-05-10T18:23:27Z</dcterms:modified>
  <cp:revision>6</cp:revision>
  <dc:subject/>
  <dc:title>Slide 1</dc:title>
</cp:coreProperties>
</file>