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03B-72A6-4A9B-B6CE-2FCCC96D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AA7-74D3-4E7F-9FFF-47AAF9E5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5C4-C35D-49D7-98EF-E8E92B69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082-6114-4428-8B76-313AB344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4A1-F05E-4A3F-91AB-2B015D1D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700-B129-4094-AE5D-2F5594BA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AA5-DED3-480D-B50B-19838A04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A7A-DF35-4B8D-BCD8-FAB102E6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23B-EAFA-4938-A4A1-F4AAE812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4AA-D3D2-438A-A10E-6696AD90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8EC-E1A4-40FA-AD69-1B26D40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92C-EF78-45AF-AAFE-1C74048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9A55-ECD6-466D-A8DC-DF138934D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62080" y="-324360"/>
            <a:ext cx="5327640" cy="12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Évolution du terre-plein de Rot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85680" y="0"/>
            <a:ext cx="3765600" cy="2509920"/>
          </a:xfrm>
          <a:prstGeom prst="rect">
            <a:avLst/>
          </a:prstGeom>
          <a:ln w="0">
            <a:noFill/>
          </a:ln>
        </p:spPr>
      </p:pic>
      <p:sp>
        <p:nvSpPr>
          <p:cNvPr id="44" name="ZoneTexte 4"/>
          <p:cNvSpPr/>
          <p:nvPr/>
        </p:nvSpPr>
        <p:spPr>
          <a:xfrm>
            <a:off x="372960" y="12852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Janvier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85680" y="2227320"/>
            <a:ext cx="3765600" cy="233532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7"/>
          <p:cNvSpPr/>
          <p:nvPr/>
        </p:nvSpPr>
        <p:spPr>
          <a:xfrm>
            <a:off x="223920" y="38894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octobre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85680" y="4384800"/>
            <a:ext cx="3909960" cy="241272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9"/>
          <p:cNvSpPr/>
          <p:nvPr/>
        </p:nvSpPr>
        <p:spPr>
          <a:xfrm>
            <a:off x="352440" y="629136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Janvier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5"/>
          <a:stretch/>
        </p:blipFill>
        <p:spPr>
          <a:xfrm>
            <a:off x="3851280" y="1006560"/>
            <a:ext cx="504180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14"/>
          <p:cNvSpPr/>
          <p:nvPr/>
        </p:nvSpPr>
        <p:spPr>
          <a:xfrm>
            <a:off x="4284720" y="3209760"/>
            <a:ext cx="151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Octobr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6"/>
          <a:stretch/>
        </p:blipFill>
        <p:spPr>
          <a:xfrm>
            <a:off x="3805200" y="3768840"/>
            <a:ext cx="5087880" cy="29685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8"/>
          <p:cNvSpPr/>
          <p:nvPr/>
        </p:nvSpPr>
        <p:spPr>
          <a:xfrm>
            <a:off x="4397400" y="629136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Janvier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Emilie Kochert\AppData\Local\Microsoft\Windows\Temporary Internet Files\Content.IE5\V8NGOQWC\MP900399312[1].jpg"/>
          <p:cNvPicPr/>
          <p:nvPr/>
        </p:nvPicPr>
        <p:blipFill>
          <a:blip r:embed="rId7"/>
          <a:stretch/>
        </p:blipFill>
        <p:spPr>
          <a:xfrm>
            <a:off x="7996320" y="6093000"/>
            <a:ext cx="1147680" cy="7650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5"/>
          <p:cNvSpPr/>
          <p:nvPr/>
        </p:nvSpPr>
        <p:spPr>
          <a:xfrm>
            <a:off x="3851280" y="498600"/>
            <a:ext cx="5340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maasvlakte2.com/en/index/show/id/407/Follow+the+progress+from+the+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4:14:37Z</dcterms:created>
  <dc:creator>Emilie Kochert</dc:creator>
  <dc:description/>
  <dc:language>en-US</dc:language>
  <cp:lastModifiedBy>Emilie Kochert</cp:lastModifiedBy>
  <dcterms:modified xsi:type="dcterms:W3CDTF">2012-09-05T14:40:09Z</dcterms:modified>
  <cp:revision>2</cp:revision>
  <dc:subject/>
  <dc:title>Évolution du terre-plein de Rotterdam</dc:title>
</cp:coreProperties>
</file>