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57ED-BEDD-4C13-8F3E-707C5FD8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172-ED1A-4215-8FF5-97F76AA7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D5A-68B3-47F7-B763-C66D544B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210-0447-4D84-9271-92E45502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9F4-54D6-43D0-8EB5-2890CFBB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4BD-9073-47EC-8B29-FD542ADD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7D0-6D90-49BA-984A-A7931B8F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AA2-2CDE-4506-AF97-AE9860DE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957-E938-4673-AAB2-A78B84B2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FA6-D084-471A-802D-FF73E595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55F-18BE-43E7-97FB-0C434247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A35-79A3-41A4-B18D-4041DAF7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5665-6C32-45A6-9E92-C61F0C467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62080" y="-324360"/>
            <a:ext cx="5327640" cy="12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Évolution du terre-plein de Rot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85680" y="0"/>
            <a:ext cx="3765600" cy="2509920"/>
          </a:xfrm>
          <a:prstGeom prst="rect">
            <a:avLst/>
          </a:prstGeom>
          <a:ln w="0">
            <a:noFill/>
          </a:ln>
        </p:spPr>
      </p:pic>
      <p:sp>
        <p:nvSpPr>
          <p:cNvPr id="44" name="ZoneTexte 4"/>
          <p:cNvSpPr/>
          <p:nvPr/>
        </p:nvSpPr>
        <p:spPr>
          <a:xfrm>
            <a:off x="372960" y="12852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Janvier 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85680" y="2227320"/>
            <a:ext cx="3765600" cy="2335320"/>
          </a:xfrm>
          <a:prstGeom prst="rect">
            <a:avLst/>
          </a:prstGeom>
          <a:ln w="0">
            <a:noFill/>
          </a:ln>
        </p:spPr>
      </p:pic>
      <p:sp>
        <p:nvSpPr>
          <p:cNvPr id="46" name="ZoneTexte 7"/>
          <p:cNvSpPr/>
          <p:nvPr/>
        </p:nvSpPr>
        <p:spPr>
          <a:xfrm>
            <a:off x="223920" y="3889440"/>
            <a:ext cx="151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octobre 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85680" y="4384800"/>
            <a:ext cx="3909960" cy="2412720"/>
          </a:xfrm>
          <a:prstGeom prst="rect">
            <a:avLst/>
          </a:prstGeom>
          <a:ln w="0">
            <a:noFill/>
          </a:ln>
        </p:spPr>
      </p:pic>
      <p:sp>
        <p:nvSpPr>
          <p:cNvPr id="48" name="ZoneTexte 9"/>
          <p:cNvSpPr/>
          <p:nvPr/>
        </p:nvSpPr>
        <p:spPr>
          <a:xfrm>
            <a:off x="352440" y="6291360"/>
            <a:ext cx="151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Janvier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5"/>
          <a:stretch/>
        </p:blipFill>
        <p:spPr>
          <a:xfrm>
            <a:off x="3851280" y="1006560"/>
            <a:ext cx="5041800" cy="2882880"/>
          </a:xfrm>
          <a:prstGeom prst="rect">
            <a:avLst/>
          </a:prstGeom>
          <a:ln w="0">
            <a:noFill/>
          </a:ln>
        </p:spPr>
      </p:pic>
      <p:sp>
        <p:nvSpPr>
          <p:cNvPr id="50" name="ZoneTexte 14"/>
          <p:cNvSpPr/>
          <p:nvPr/>
        </p:nvSpPr>
        <p:spPr>
          <a:xfrm>
            <a:off x="4284720" y="3209760"/>
            <a:ext cx="1511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Octobr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6"/>
          <a:stretch/>
        </p:blipFill>
        <p:spPr>
          <a:xfrm>
            <a:off x="3805200" y="3768840"/>
            <a:ext cx="5087880" cy="29685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8"/>
          <p:cNvSpPr/>
          <p:nvPr/>
        </p:nvSpPr>
        <p:spPr>
          <a:xfrm>
            <a:off x="4397400" y="6291360"/>
            <a:ext cx="151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Janvier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Emilie Kochert\AppData\Local\Microsoft\Windows\Temporary Internet Files\Content.IE5\V8NGOQWC\MP900399312[1].jpg"/>
          <p:cNvPicPr/>
          <p:nvPr/>
        </p:nvPicPr>
        <p:blipFill>
          <a:blip r:embed="rId7"/>
          <a:stretch/>
        </p:blipFill>
        <p:spPr>
          <a:xfrm>
            <a:off x="7996320" y="6093000"/>
            <a:ext cx="1147680" cy="76500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5"/>
          <p:cNvSpPr/>
          <p:nvPr/>
        </p:nvSpPr>
        <p:spPr>
          <a:xfrm>
            <a:off x="3851280" y="498600"/>
            <a:ext cx="5340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maasvlakte2.com/en/index/show/id/407/Follow+the+progress+from+the+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4:14:37Z</dcterms:created>
  <dc:creator>Emilie Kochert</dc:creator>
  <dc:description/>
  <dc:language>en-US</dc:language>
  <cp:lastModifiedBy>Emilie Kochert</cp:lastModifiedBy>
  <dcterms:modified xsi:type="dcterms:W3CDTF">2012-09-05T14:40:09Z</dcterms:modified>
  <cp:revision>2</cp:revision>
  <dc:subject/>
  <dc:title>Évolution du terre-plein de Rotterdam</dc:title>
</cp:coreProperties>
</file>