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1F2-10AC-4047-84D3-3ED24F1A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D69-EA8A-4DF6-9D7E-EF327C0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9B0-8A7A-421F-A9AD-43574F1A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6A4-BC57-4E1C-8457-9B641D70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147-2714-414D-BF3E-0D8BFD02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808-4694-4808-86C0-476A49ED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255-62E9-4F07-8A1E-CBFAECFD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24B-6E5E-44B9-A2E4-01969060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269-4DCE-4020-8C98-925F4661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C69-75DF-49AA-85FE-862022F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CB3-BDE1-426E-80E2-3E9E4F0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1DE-E2E7-41AB-B6BA-E9878133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1257-D2C8-499B-89D5-DC345921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l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gneau  court  dans le  cham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223200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  monsi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monsieur    commande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30751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Les   olympiade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Voici   les anneaux olymp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35004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pap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 vais  chez  s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13320" y="3500280"/>
            <a:ext cx="1676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Les  fil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e 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1619280" cy="236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24720" y="4492800"/>
            <a:ext cx="161928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4:16:15Z</dcterms:created>
  <dc:creator>M Mathieu</dc:creator>
  <dc:description/>
  <dc:language>en-US</dc:language>
  <cp:lastModifiedBy>M Mathieu</cp:lastModifiedBy>
  <dcterms:modified xsi:type="dcterms:W3CDTF">2015-02-16T15:13:59Z</dcterms:modified>
  <cp:revision>3</cp:revision>
  <dc:subject/>
  <dc:title>élise</dc:title>
</cp:coreProperties>
</file>