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BAD-F560-4D1D-B7AB-B021D075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9FF-6A76-4D14-9C5F-05B3DA8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A039-AA9D-47E1-90EA-3791B446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681-A594-49D1-91A3-A4857C6B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7BD-15D9-4A42-A264-D99C074D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D39-7F1D-4084-80BE-51C6732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7A4-0BE8-40FB-9050-C49D22C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164-1E23-4744-8D30-78F4D05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7BE-A74C-4D5F-9859-2F80C1C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E42-662C-4A75-964A-3770C177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826-B928-4761-9B3C-99FF08D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CE5-512D-499F-A1A9-3546F43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A74-2470-471A-9D66-7B8BD1AB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él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 agneau  court  dans le  cham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2320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  monsi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monsieur    commande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30751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Les   olympiade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cc"/>
                </a:solidFill>
                <a:latin typeface="Arial"/>
              </a:rPr>
              <a:t>Voici   les anneaux olympiq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35004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pap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 vais  chez  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13320" y="3500280"/>
            <a:ext cx="1676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Les  fil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e 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1619280" cy="23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24720" y="4492800"/>
            <a:ext cx="161928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4:16:15Z</dcterms:created>
  <dc:creator>M Mathieu</dc:creator>
  <dc:description/>
  <dc:language>en-US</dc:language>
  <cp:lastModifiedBy>M Mathieu</cp:lastModifiedBy>
  <dcterms:modified xsi:type="dcterms:W3CDTF">2015-02-16T15:13:59Z</dcterms:modified>
  <cp:revision>3</cp:revision>
  <dc:subject/>
  <dc:title>élise</dc:title>
</cp:coreProperties>
</file>