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F40-C711-458B-B379-5378BE01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2158-85A7-472A-8D94-7B117196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B0C1-EBB3-479E-A499-E71A8848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B64D-0918-418B-9D26-81A47908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7890-0A8A-4057-89A5-4D86A589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B68B-6171-493F-BA87-5B41760D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4C2-5230-4632-8823-47266420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8415-C049-4B8D-A1B7-FDA8309D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1B14-1B29-47B2-9133-7F0F14F7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20E-49BF-47AD-8FB4-3752A568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BFB-8157-4EF2-AEF5-B87F8B33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ACF-49F8-4A48-9765-6BFC6687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7EB5-C434-4D56-BBC2-071B1F2A1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r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me les cadea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11640" y="2492280"/>
            <a:ext cx="12654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 pois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03280" y="5661000"/>
            <a:ext cx="6840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 jolis  pois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 image de bébé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bébé est souill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217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501300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ris il a eu un ac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76720" y="2060640"/>
            <a:ext cx="29527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14:48:34Z</dcterms:created>
  <dc:creator>MMathieu</dc:creator>
  <dc:description/>
  <dc:language>en-US</dc:language>
  <cp:lastModifiedBy>MMathieu</cp:lastModifiedBy>
  <dcterms:modified xsi:type="dcterms:W3CDTF">2015-02-16T15:11:46Z</dcterms:modified>
  <cp:revision>6</cp:revision>
  <dc:subject/>
  <dc:title>Adrien</dc:title>
</cp:coreProperties>
</file>