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A1A-2B67-4648-9D98-FAF5E2D6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315-2254-490F-BAD1-6ABA9870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2B5-4669-4ABD-88DE-5A3B57CC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82A-5838-4E07-A755-27236475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D8E-53A4-4BD6-A083-CAC210B3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6AD-D633-4C93-B1EF-CA0C19D1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06A-1C32-419B-B0E1-62F4EE6C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BE0-F794-4D2F-97DD-E0E4E307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DE8-E99C-4C4D-94F5-13524237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47E-DC59-4770-91D3-69252CB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D70-B795-4D23-9520-2991A66C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315-F30C-4B0D-8BA6-F13E5E78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E4AC-1B24-47D0-A6C2-79C87C8D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me les cadea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11640" y="2492280"/>
            <a:ext cx="1265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3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 poi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03280" y="5661000"/>
            <a:ext cx="684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 jolis  poiss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745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 image de bébé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ébé est souil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217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501300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is il a eu un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060640"/>
            <a:ext cx="2952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4:48:34Z</dcterms:created>
  <dc:creator>MMathieu</dc:creator>
  <dc:description/>
  <dc:language>en-US</dc:language>
  <cp:lastModifiedBy>MMathieu</cp:lastModifiedBy>
  <dcterms:modified xsi:type="dcterms:W3CDTF">2015-02-16T15:11:46Z</dcterms:modified>
  <cp:revision>6</cp:revision>
  <dc:subject/>
  <dc:title>Adrien</dc:title>
</cp:coreProperties>
</file>