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6B61-448E-4BFE-B55D-30A43931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912D-E9E9-49BC-8367-B186DE5B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B9D-94C1-4977-82E7-73A93809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1F38-3346-4D2F-BA14-886B1079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5269-2447-4A8D-8A95-B804B822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F57-D785-4C03-9CE5-2E68C0BD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0D0F-1218-4D81-84D3-9BA5B26C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559-BEC5-4AE7-B00C-28649A72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FAD2-E532-498D-AC44-F0373997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DFA-1832-4B5E-AB1A-EE293B6F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3AE8-8945-4F96-8B16-019E139B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D16-71CA-4976-8B68-03D85F88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988E-3348-44CA-8322-82A7DC333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x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es mou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4343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 jolie 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povre petit ois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27907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 pois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63640" y="544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es po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571500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x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24000" y="4941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bébé pl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2670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x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45939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ire des magas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3640" y="1413000"/>
            <a:ext cx="2538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4:14:26Z</dcterms:created>
  <dc:creator>M Mathieu</dc:creator>
  <dc:description/>
  <dc:language>en-US</dc:language>
  <cp:lastModifiedBy>M Mathieu</cp:lastModifiedBy>
  <dcterms:modified xsi:type="dcterms:W3CDTF">2015-02-12T11:54:50Z</dcterms:modified>
  <cp:revision>4</cp:revision>
  <dc:subject/>
  <dc:title>Alexia</dc:title>
</cp:coreProperties>
</file>