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9E1-BA9A-4DB2-8303-73AACBC3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BE8-385F-4621-82EA-1904943C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2E3-B6A0-4599-B12C-8B4A7649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EBD-8133-4311-98A1-F3451BA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E73-C447-419E-B933-BFF22E7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C8E-BE5F-431B-9D26-F711A33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045-3C57-4DF5-BFCB-9DA7806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6C0-81CE-4CF1-9C30-DCE9717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753-1C9D-43C5-8D48-6781D738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194-BA53-4109-8867-F5746FD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E1C-3DA0-471F-9B3E-ED3D66E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4A3-EE87-4219-ABEB-BFDAF654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FDE-A4E3-4DCD-BF58-6D18EE53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mou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jolie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ovre petit oi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90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 poi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7150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24000" y="4941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bébé pl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67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45939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ire des magas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53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14:26Z</dcterms:created>
  <dc:creator>M Mathieu</dc:creator>
  <dc:description/>
  <dc:language>en-US</dc:language>
  <cp:lastModifiedBy>M Mathieu</cp:lastModifiedBy>
  <dcterms:modified xsi:type="dcterms:W3CDTF">2015-02-12T11:54:50Z</dcterms:modified>
  <cp:revision>4</cp:revision>
  <dc:subject/>
  <dc:title>Alexia</dc:title>
</cp:coreProperties>
</file>