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7FA-72C9-4EFB-8837-7F1F1AF2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342-B8B8-44AC-9D13-0C0AAFF4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FF1-09BC-413C-A589-CDC848A6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AE4-E9CC-4C47-9C5E-21F05F25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5C7-D2D9-4E04-BC93-11D924F5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62C-085C-4BB7-9227-59F3631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164-66F4-4E31-9433-FD92DD7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72F-EAB3-45CD-9E9A-9A211536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6E6-6358-49BA-9CF2-0E90AB48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9911-DA01-4C95-9882-1EF67D0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3F2-7EF3-4C42-A45A-F3F5AFC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3B6-DF25-430F-8B9D-457CEFA5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430-B922-4496-B5EC-3461DB41E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d  pas de cal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459000">
            <a:off x="2987280" y="1773000"/>
            <a:ext cx="24861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sta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fait très beau main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5432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Jadore ç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20700000">
            <a:off x="2268000" y="2491920"/>
            <a:ext cx="3384720" cy="1430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19280" y="549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H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421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6093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HIEN    ET B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125 L -0.01198 -0.10648 E">
                                      <p:cBhvr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ch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71280" y="1412640"/>
            <a:ext cx="352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es mé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21425400">
            <a:off x="3348000" y="2420640"/>
            <a:ext cx="1944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5:18:25Z</dcterms:created>
  <dc:creator>ndl05</dc:creator>
  <dc:description/>
  <dc:language>en-US</dc:language>
  <cp:lastModifiedBy>ndl05</cp:lastModifiedBy>
  <dcterms:modified xsi:type="dcterms:W3CDTF">2015-02-13T15:51:04Z</dcterms:modified>
  <cp:revision>4</cp:revision>
  <dc:subject/>
  <dc:title>Nord  pas de calais</dc:title>
</cp:coreProperties>
</file>