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642-2362-44AC-B25A-715AD9C7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2AD-9A95-4C6E-9CE2-92175C61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760-AD81-4696-A804-F0FED84D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DD0-66B7-43EF-B3B5-D09E40D1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411-B37B-4A5B-8D0C-9B36F83D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C1F-5B10-4639-9F01-425EF46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51B-93CB-4CB3-A96D-A9AB6DD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3E4-3BDF-46FD-BB4E-92C40410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26A-A4E8-4015-8B89-99B7E5EE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045-9AC4-4867-BFB8-E6378E89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86A-FDE9-4AEA-A0D0-1210CDD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BFD-4C56-463C-8427-AF9AE51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C358-7DB6-4B49-9F96-D9B23BB14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d  pas de cal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459000">
            <a:off x="2987280" y="1773000"/>
            <a:ext cx="24861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sta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ait très beau main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5432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dore ça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20700000">
            <a:off x="2268000" y="2491920"/>
            <a:ext cx="3384720" cy="143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54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CH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421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6093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CHIEN    ET B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125 L -0.01198 -0.10648 E">
                                      <p:cBhvr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71280" y="1412640"/>
            <a:ext cx="3527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es mé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21425400">
            <a:off x="3348000" y="2420640"/>
            <a:ext cx="19447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5:18:25Z</dcterms:created>
  <dc:creator>ndl05</dc:creator>
  <dc:description/>
  <dc:language>en-US</dc:language>
  <cp:lastModifiedBy>ndl05</cp:lastModifiedBy>
  <dcterms:modified xsi:type="dcterms:W3CDTF">2015-02-13T15:51:04Z</dcterms:modified>
  <cp:revision>4</cp:revision>
  <dc:subject/>
  <dc:title>Nord  pas de calais</dc:title>
</cp:coreProperties>
</file>