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FEA-6CA4-4F17-AE38-AA19034A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D9C-F3B3-4044-A9DE-C6547616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DD7-0AE4-4900-8965-844DD9F2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13B-92E8-44A8-9D0C-108B633B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09E-2D07-41D5-9427-A811081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9A1-30C2-47C1-A27D-942BF87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AAE-7585-40A5-9785-35ED68F9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1C1-68AB-417D-AA2A-089A2F67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626-AA1D-4062-90A6-4FE9F373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DF8-748D-4FD0-BE65-6DF06AE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74C-48FC-40BA-BB86-B88608BD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67C-5FC5-45E2-AC64-EA848B2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C37F-CCB6-45C4-91F2-80F01A743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5157360"/>
            <a:ext cx="6729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 BEAU 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967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3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300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 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8618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4:40:44Z</dcterms:created>
  <dc:creator>ndl01</dc:creator>
  <dc:description/>
  <dc:language>en-US</dc:language>
  <cp:lastModifiedBy>ndl01</cp:lastModifiedBy>
  <dcterms:modified xsi:type="dcterms:W3CDTF">2015-02-06T15:04:00Z</dcterms:modified>
  <cp:revision>2</cp:revision>
  <dc:subject/>
  <dc:title>CELESTINE</dc:title>
</cp:coreProperties>
</file>