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8FD4-5DB2-404B-8034-65F35853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2B99-3231-4431-90F7-D3EA3D4B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D325-95FA-4C2E-A1D5-FA846E5B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5A11-FA4F-418E-B1D4-F9D4C259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0441-834A-4DC2-A709-D3DE89B9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16B5-ED7C-4000-A414-CEE4670F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57BF-4646-4DEC-A126-193D987B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D281-2BEE-4D7D-95C4-9A5BF753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81C5-3559-45DC-8754-510ED79C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04C-3A6F-4070-85E4-277D725D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2620-9ABE-41AF-85A4-08456785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B4FE-F87F-4041-A167-A74A01D0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25B9-20D5-4369-97D1-B3AB3E67E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5157360"/>
            <a:ext cx="67294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 BEAU  CH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3640" y="1197000"/>
            <a:ext cx="296712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 B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UP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32000" y="1197000"/>
            <a:ext cx="27370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59280" y="1341360"/>
            <a:ext cx="300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292428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  A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40360" y="1557360"/>
            <a:ext cx="86184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6T14:40:44Z</dcterms:created>
  <dc:creator>ndl01</dc:creator>
  <dc:description/>
  <dc:language>en-US</dc:language>
  <cp:lastModifiedBy>ndl01</cp:lastModifiedBy>
  <dcterms:modified xsi:type="dcterms:W3CDTF">2015-02-06T15:04:00Z</dcterms:modified>
  <cp:revision>2</cp:revision>
  <dc:subject/>
  <dc:title>CELESTINE</dc:title>
</cp:coreProperties>
</file>