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CBA-9A12-40C1-BE6E-F9402ECE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B3A-3391-4DFA-9E0D-DE3FC46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729-1CEE-4D21-B4AD-FCF0340C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F63-CD33-49F8-818A-0560486D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D86-67F2-4B48-903C-70F3AE84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91F-3D37-42AA-8767-EADF6E1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8DD-DE61-43C2-AB01-248471F0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5D5-70FA-49E2-B1E1-13C46776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ED8-1E89-44CF-BEE4-3CA68849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1DB-3A06-4D9A-A497-17C6294F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D26-4852-493D-84E5-C6012CB8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D98-DF9F-44E9-958A-9AD6F9A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1877-57A8-4E25-9A1B-CD1AE6B97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08:04:25Z</dcterms:created>
  <dc:creator>ndl05</dc:creator>
  <dc:description/>
  <dc:language>en-US</dc:language>
  <cp:lastModifiedBy>ndl05</cp:lastModifiedBy>
  <dcterms:modified xsi:type="dcterms:W3CDTF">2015-01-26T08:04:25Z</dcterms:modified>
  <cp:revision>1</cp:revision>
  <dc:subject/>
  <dc:title>Les animaux</dc:title>
</cp:coreProperties>
</file>