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D35-C8EE-487D-8303-5510DAE7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D6C-E04C-456A-9E9B-91A36C07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700-858D-45F8-BECF-B353DC1A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A06-3275-4314-9189-AD59C51E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50A-916E-4DBF-95D9-FAF2726C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3A7-C113-4EF2-9094-3D02D534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C6F-0171-4E3F-8647-371561DA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20F-5DE1-483B-8AA9-36270B29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EEDE-1A21-414C-8A1B-4A98B831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D0E-9C77-4719-BE20-1F135679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01E-74B5-446D-9439-C309A2A4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5919-B6EF-4F9B-AC9B-6FF0FD75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CF70-C607-43DA-A3BB-CC4FBA329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an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08:04:25Z</dcterms:created>
  <dc:creator>ndl05</dc:creator>
  <dc:description/>
  <dc:language>en-US</dc:language>
  <cp:lastModifiedBy>ndl05</cp:lastModifiedBy>
  <dcterms:modified xsi:type="dcterms:W3CDTF">2015-01-26T08:04:25Z</dcterms:modified>
  <cp:revision>1</cp:revision>
  <dc:subject/>
  <dc:title>Les animaux</dc:title>
</cp:coreProperties>
</file>