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5B9-2CD6-4391-931A-67F65A64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684-3358-4FBF-9982-59443B67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561-9E95-4671-AF75-E8651D84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5C5-84E6-4D3E-A032-2B8EEAC7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21B-76DB-4058-8FDC-389A37AD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19C-E64D-49B3-A23F-8CA5AAC5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F38-128A-4E3F-A6FD-D1EBB592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197-9A0D-4A12-8F14-F697E338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8DE-B7BB-4C40-AB34-61B8D06E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012-BC18-40F7-8863-B823C529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B53-3851-4D86-9FB1-09D33868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97D-7593-4FCE-B106-9C45B4C5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1218-1B12-418E-83DF-A075C732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5977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daou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15736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magnifique b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1131400">
            <a:off x="3634920" y="1916280"/>
            <a:ext cx="2165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rdaou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580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Un jolie papi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32925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Firdaou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jolies ce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64000" y="2646360"/>
            <a:ext cx="21603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daou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tte ange  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23036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551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4:42:52Z</dcterms:created>
  <dc:creator>Ecole Notre Dame de Lourdes</dc:creator>
  <dc:description/>
  <dc:language>en-US</dc:language>
  <cp:lastModifiedBy>Ecole Notre Dame de Lourdes</cp:lastModifiedBy>
  <dcterms:modified xsi:type="dcterms:W3CDTF">2015-02-17T14:55:54Z</dcterms:modified>
  <cp:revision>4</cp:revision>
  <dc:subject/>
  <dc:title>firdaousse</dc:title>
</cp:coreProperties>
</file>