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797-2DC2-4D98-ADB4-61AA9BCC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992-0D72-4988-89AD-D29BCAE2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964-5C2D-44A8-A3FA-EA69767E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B34-DD0F-4BB6-9735-9D1B8F8A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0BC-9E41-4069-A5C7-17809A1B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0CB-873D-4789-8E7D-C4B4E19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165-9D71-4015-AAAD-39FA4F1E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6F7-D1ED-474F-B632-F310AECD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8CB-3863-4840-9843-360E4564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040-B4AA-45B2-821E-E1FB61FC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DEB-7636-49B3-9580-D5369AD3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7E0-E038-4836-BA92-2058A079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2B7E-6556-45AC-B69A-651A6E6B0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597708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da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15736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magnifique ba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1131400">
            <a:off x="3634920" y="1916280"/>
            <a:ext cx="2165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Firda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580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Un jolie papil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32925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Firda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jolies ce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64000" y="2646360"/>
            <a:ext cx="21603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daou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tte ange  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23036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551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1T14:42:52Z</dcterms:created>
  <dc:creator>Ecole Notre Dame de Lourdes</dc:creator>
  <dc:description/>
  <dc:language>en-US</dc:language>
  <cp:lastModifiedBy>Ecole Notre Dame de Lourdes</cp:lastModifiedBy>
  <dcterms:modified xsi:type="dcterms:W3CDTF">2015-02-17T14:55:54Z</dcterms:modified>
  <cp:revision>4</cp:revision>
  <dc:subject/>
  <dc:title>firdaousse</dc:title>
</cp:coreProperties>
</file>