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897-C7D1-45FC-915E-9533EBDE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D55-999E-463B-A37E-894D2B16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267-0673-43AC-A1B1-6A777CAF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4CFC-D213-459C-ADC9-ACE4CCDA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4D74-6636-472C-9422-BCD3995E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5EE-CDA2-47B9-A98E-81F6ED5C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25B-3BA1-4489-BB7C-0E8F02EF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013-CFA6-408C-9456-14E55ED2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135-EF16-4E9A-A67F-B7DF921B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E36-1991-4423-83A8-DDB5D32F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3A2-9C4A-49B0-8898-99414029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C55-196F-41BB-B4DC-7E34AF60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47E1-B49C-4862-A721-E49968652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Gabr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J’ aime les drape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43480" y="2271600"/>
            <a:ext cx="2057400" cy="2314800"/>
          </a:xfrm>
          <a:prstGeom prst="rect">
            <a:avLst/>
          </a:prstGeom>
          <a:ln w="0">
            <a:noFill/>
          </a:ln>
        </p:spPr>
      </p:pic>
    </p:spTree>
  </p:cSld>
  <p:transition advTm="0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Gabr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16360" y="4565520"/>
            <a:ext cx="6696000" cy="22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J’ aime les ch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419640" y="2060640"/>
            <a:ext cx="1780920" cy="2200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1268280"/>
            <a:ext cx="2880000" cy="1656000"/>
          </a:xfrm>
          <a:prstGeom prst="cloudCallout">
            <a:avLst>
              <a:gd name="adj1" fmla="val -54629"/>
              <a:gd name="adj2" fmla="val 51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 aime les croqu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ab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03640" y="378936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’ aime les av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564000" y="1197000"/>
            <a:ext cx="2089080" cy="28573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abr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55640" y="3715920"/>
            <a:ext cx="590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’ ai les ar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48000" y="1413000"/>
            <a:ext cx="1638360" cy="2114280"/>
          </a:xfrm>
          <a:prstGeom prst="rect">
            <a:avLst/>
          </a:prstGeom>
          <a:ln w="0">
            <a:noFill/>
          </a:ln>
        </p:spPr>
      </p:pic>
    </p:spTree>
  </p:cSld>
  <p:transition advTm="0">
    <p:cover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Gabr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’ aime 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28576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4:16:02Z</dcterms:created>
  <dc:creator>M Mathieu</dc:creator>
  <dc:description/>
  <dc:language>en-US</dc:language>
  <cp:lastModifiedBy>M Mathieu</cp:lastModifiedBy>
  <dcterms:modified xsi:type="dcterms:W3CDTF">2015-02-05T06:59:10Z</dcterms:modified>
  <cp:revision>5</cp:revision>
  <dc:subject/>
  <dc:title>Gabriel</dc:title>
</cp:coreProperties>
</file>