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4D1-DC53-4AC0-AB7B-300CFD05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BE0-9C3D-444F-8954-07864DC0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086-72D2-43F2-BB29-DA943262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477-F86C-4FD1-A053-FD375A10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697-07F0-4746-80A8-C9206539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53C-9B07-4ABE-848B-C032741C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2E0-2043-4CBB-8142-0F5E6CFA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59B-2675-43B3-B547-4E785F7B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17E-986C-4683-AFB1-C961343A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293-9308-4068-BE20-111DBB5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2CE-CA31-4051-8600-78DFAC9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B98-3D39-44B3-B293-4EE5DF2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E5DC-EF97-49D7-A9F0-18AA1DB08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Gabr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J’ aime les drape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43480" y="2271600"/>
            <a:ext cx="2057400" cy="2314800"/>
          </a:xfrm>
          <a:prstGeom prst="rect">
            <a:avLst/>
          </a:prstGeom>
          <a:ln w="0">
            <a:noFill/>
          </a:ln>
        </p:spPr>
      </p:pic>
    </p:spTree>
  </p:cSld>
  <p:transition advTm="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Gabr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16360" y="4565520"/>
            <a:ext cx="669600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J’ aime les ch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419640" y="2060640"/>
            <a:ext cx="1780920" cy="220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1268280"/>
            <a:ext cx="2880000" cy="1656000"/>
          </a:xfrm>
          <a:prstGeom prst="cloudCallout">
            <a:avLst>
              <a:gd name="adj1" fmla="val -54629"/>
              <a:gd name="adj2" fmla="val 51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 aime les croqu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ab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03640" y="378936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’ aime les av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564000" y="1197000"/>
            <a:ext cx="2089080" cy="28573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abr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590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’ ai les ar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48000" y="1413000"/>
            <a:ext cx="1638360" cy="2114280"/>
          </a:xfrm>
          <a:prstGeom prst="rect">
            <a:avLst/>
          </a:prstGeom>
          <a:ln w="0">
            <a:noFill/>
          </a:ln>
        </p:spPr>
      </p:pic>
    </p:spTree>
  </p:cSld>
  <p:transition advTm="0"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Gabr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’ aim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28576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4:16:02Z</dcterms:created>
  <dc:creator>M Mathieu</dc:creator>
  <dc:description/>
  <dc:language>en-US</dc:language>
  <cp:lastModifiedBy>M Mathieu</cp:lastModifiedBy>
  <dcterms:modified xsi:type="dcterms:W3CDTF">2015-02-05T06:59:10Z</dcterms:modified>
  <cp:revision>5</cp:revision>
  <dc:subject/>
  <dc:title>Gabriel</dc:title>
</cp:coreProperties>
</file>